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8.wmf" ContentType="image/x-wmf"/>
  <Override PartName="/ppt/media/image14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</p:sldMasterIdLst>
  <p:notesMasterIdLst>
    <p:notesMasterId r:id="rId110"/>
  </p:notesMasterIdLst>
  <p:sldIdLst>
    <p:sldId id="256" r:id="rId111"/>
    <p:sldId id="257" r:id="rId112"/>
    <p:sldId id="258" r:id="rId113"/>
    <p:sldId id="259" r:id="rId114"/>
    <p:sldId id="260" r:id="rId115"/>
    <p:sldId id="261" r:id="rId116"/>
    <p:sldId id="262" r:id="rId117"/>
    <p:sldId id="263" r:id="rId118"/>
    <p:sldId id="264" r:id="rId119"/>
    <p:sldId id="265" r:id="rId120"/>
    <p:sldId id="266" r:id="rId121"/>
    <p:sldId id="267" r:id="rId122"/>
    <p:sldId id="268" r:id="rId123"/>
    <p:sldId id="269" r:id="rId124"/>
    <p:sldId id="270" r:id="rId125"/>
    <p:sldId id="271" r:id="rId126"/>
    <p:sldId id="272" r:id="rId127"/>
    <p:sldId id="273" r:id="rId128"/>
    <p:sldId id="274" r:id="rId129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notesMaster" Target="notesMasters/notesMaster1.xml"/><Relationship Id="rId111" Type="http://schemas.openxmlformats.org/officeDocument/2006/relationships/slide" Target="slides/slide1.xml"/><Relationship Id="rId112" Type="http://schemas.openxmlformats.org/officeDocument/2006/relationships/slide" Target="slides/slide2.xml"/><Relationship Id="rId113" Type="http://schemas.openxmlformats.org/officeDocument/2006/relationships/slide" Target="slides/slide3.xml"/><Relationship Id="rId114" Type="http://schemas.openxmlformats.org/officeDocument/2006/relationships/slide" Target="slides/slide4.xml"/><Relationship Id="rId115" Type="http://schemas.openxmlformats.org/officeDocument/2006/relationships/slide" Target="slides/slide5.xml"/><Relationship Id="rId116" Type="http://schemas.openxmlformats.org/officeDocument/2006/relationships/slide" Target="slides/slide6.xml"/><Relationship Id="rId117" Type="http://schemas.openxmlformats.org/officeDocument/2006/relationships/slide" Target="slides/slide7.xml"/><Relationship Id="rId118" Type="http://schemas.openxmlformats.org/officeDocument/2006/relationships/slide" Target="slides/slide8.xml"/><Relationship Id="rId119" Type="http://schemas.openxmlformats.org/officeDocument/2006/relationships/slide" Target="slides/slide9.xml"/><Relationship Id="rId120" Type="http://schemas.openxmlformats.org/officeDocument/2006/relationships/slide" Target="slides/slide10.xml"/><Relationship Id="rId121" Type="http://schemas.openxmlformats.org/officeDocument/2006/relationships/slide" Target="slides/slide11.xml"/><Relationship Id="rId122" Type="http://schemas.openxmlformats.org/officeDocument/2006/relationships/slide" Target="slides/slide12.xml"/><Relationship Id="rId123" Type="http://schemas.openxmlformats.org/officeDocument/2006/relationships/slide" Target="slides/slide13.xml"/><Relationship Id="rId124" Type="http://schemas.openxmlformats.org/officeDocument/2006/relationships/slide" Target="slides/slide14.xml"/><Relationship Id="rId125" Type="http://schemas.openxmlformats.org/officeDocument/2006/relationships/slide" Target="slides/slide15.xml"/><Relationship Id="rId126" Type="http://schemas.openxmlformats.org/officeDocument/2006/relationships/slide" Target="slides/slide16.xml"/><Relationship Id="rId127" Type="http://schemas.openxmlformats.org/officeDocument/2006/relationships/slide" Target="slides/slide17.xml"/><Relationship Id="rId128" Type="http://schemas.openxmlformats.org/officeDocument/2006/relationships/slide" Target="slides/slide18.xml"/><Relationship Id="rId129" Type="http://schemas.openxmlformats.org/officeDocument/2006/relationships/slide" Target="slides/slide19.xml"/><Relationship Id="rId1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PlaceHolder 2"/>
          <p:cNvSpPr>
            <a:spLocks noGrp="1"/>
          </p:cNvSpPr>
          <p:nvPr>
            <p:ph type="dt" idx="325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PlaceHolder 3"/>
          <p:cNvSpPr>
            <a:spLocks noGrp="1"/>
          </p:cNvSpPr>
          <p:nvPr>
            <p:ph type="sldImg"/>
          </p:nvPr>
        </p:nvSpPr>
        <p:spPr>
          <a:xfrm>
            <a:off x="89496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4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5" name="PlaceHolder 5"/>
          <p:cNvSpPr>
            <a:spLocks noGrp="1"/>
          </p:cNvSpPr>
          <p:nvPr>
            <p:ph type="ftr" idx="326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PlaceHolder 6"/>
          <p:cNvSpPr>
            <a:spLocks noGrp="1"/>
          </p:cNvSpPr>
          <p:nvPr>
            <p:ph type="sldNum" idx="327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395-1BCC-447B-B6CA-424B97FC86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791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2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57B0-98B4-496A-AFE8-D76F847F33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3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794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5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6080-D381-4901-882B-8C5A59389C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79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D8F6-00C9-4B90-A8FC-DC00B329F0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sldImg"/>
          </p:nvPr>
        </p:nvSpPr>
        <p:spPr>
          <a:xfrm>
            <a:off x="89532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4800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1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FE68-8F1C-4B5E-969B-E39EA1DAC5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108-F97B-4B17-A70F-1A7231F9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4B8E-CEFB-4BD4-802C-0AC18B43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183A4-EA14-426E-8896-C003BBE9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F5F69B19-556A-4E59-B9E4-3F3DE99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C0FFAE65-4D47-4616-8151-FAC29D94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8F6B9067-B771-4957-BF90-9BF928DD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CDCD9BC-E192-44F3-A5B5-80244EA9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5EDC6C4B-22F1-4189-A281-9E64A01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7AB2BA8E-156E-4C5E-96AE-D6DB841F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0839E034-69E1-4648-8028-A639D743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4D799EAC-BEF1-45E9-A7B3-2AB2A948C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D69E696B-9F2A-4891-BC92-515D6E65C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CC9BFB5-A70D-42B0-B761-3464B4AC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2B3F1-F301-41B6-9EE0-5E79B871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0DC1C46B-622A-4183-9EE9-5E24A890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E8BD2D7-02AC-4EF8-8194-27AB790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E31E8FB7-CEBF-4666-AD98-272FA0FF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290B4284-CBA6-46A9-80BE-E6ED74CC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E27C320-73B3-4C45-A91F-76122F18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F788CE34-EF0E-4E3E-9E5B-E51739AF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60E75AD4-94DC-414B-BC4E-E0E1C42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A605307A-21F5-4B49-9540-B4CFE0F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8E4F11BF-D685-4B67-B2EC-385687C9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94DB6CD0-4802-400B-908C-711E3A996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639CF-3E9E-4340-BB95-9B79F5CA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5"/>
          </p:nvPr>
        </p:nvSpPr>
        <p:spPr/>
        <p:txBody>
          <a:bodyPr/>
          <a:p>
            <a:fld id="{1AFCD1CD-A5DC-4BA2-AE90-17CDA1B6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0446E1A-763D-4C02-9FEB-3988E68E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06E1D194-FEEA-4FFA-86B0-093DBDC8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960EFE2-19A9-4750-810F-77BE3F94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BADD891-93E4-4167-8CA7-B32D706B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3E6F9C55-016F-48AE-87A0-92E9E18D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0F6F6DB-95D8-43F3-9B4F-9F7211EF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ADB78F9A-FA4A-48E5-9E6D-FECCD483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B1874F0F-FA3D-45B8-983D-FF1AE2AD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03ED42C-21F7-44C3-8A2C-AA1CF645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08E04-76AF-4E9E-9FE9-D266AF5B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9FF47FF9-2176-4A2D-B83A-A1F4CEC5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F8FF3F60-F7EF-47C6-B6A5-0B4A140C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8"/>
          </p:nvPr>
        </p:nvSpPr>
        <p:spPr/>
        <p:txBody>
          <a:bodyPr/>
          <a:p>
            <a:fld id="{E7FC87C6-6D2C-402C-9D06-FAB5E7D0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177CA2E-724D-47E3-A7EB-DB94744A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AC5877BF-49E4-4CE0-B0FC-5A7F0371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D837D74D-AC41-41D6-893C-8C50CC76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E4CE135-C49C-4BAB-AB84-84059D65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481C48E-6B6C-4A75-AF2B-A9516926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3D2033F3-2BD4-4868-AD5B-BC5776BA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C157A83-B69F-4867-8349-BA6F4BD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BF166-6EEE-46CF-B8E1-0B8B29E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7AE99F7A-37F3-4F0E-88A2-62256A79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F96A0D2C-9B08-4B56-BA63-C49323AB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21A025DE-BAA2-4177-BFC1-451B9587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E3857D8-828D-4301-87ED-8608A682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1"/>
          </p:nvPr>
        </p:nvSpPr>
        <p:spPr/>
        <p:txBody>
          <a:bodyPr/>
          <a:p>
            <a:fld id="{6B99CC5E-3F76-43AE-881B-E76D8471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75434662-62C9-45F6-B3BD-48681EA7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511AC88-3472-469A-A0F0-EB0D7898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BDECE8A0-D2F3-4745-A915-00F71C21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28F2E97-76B1-48F0-A75A-E75CB073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D06A600-1D0A-4BB7-AC2E-E3E0E5EE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A171D-F331-4692-85FF-C5AFB758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364F46C9-D37D-49A6-8C27-86751C6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C554F541-4100-4D7B-AC19-7586904A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D9707481-DAA0-4D62-B696-AFD40F83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27807199-13B8-4FDD-BC84-1EFAF56D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AEBE70B7-1CDA-4AAF-A99F-0A685DA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F75C5AAD-00CB-4732-84A5-65D3633C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4"/>
          </p:nvPr>
        </p:nvSpPr>
        <p:spPr/>
        <p:txBody>
          <a:bodyPr/>
          <a:p>
            <a:fld id="{0542AA8C-424D-4692-878B-A99EDBCB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A9ED93B4-52C6-4917-9810-53ED9FCD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B82CB4EB-AA7C-4D79-809B-BDB87825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F089948-C097-44F3-BDEB-B96CE110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821D6C-114B-4CBE-9003-94235BD6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E66FACBD-A783-47A7-B0A3-6154E84B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24DE2433-2F17-4D8B-9B74-CA347E81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3F3C2980-C6B0-4D17-B8A6-2D844BD5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9CE3840B-894E-4C9E-9B3E-504DC49B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5247AE43-7C9E-4270-BD85-1731508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9696550-A93E-4172-A80E-315C57B4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4ACA153B-79EF-412C-A255-44232E5D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79112F94-6787-43A5-9F03-9C7D5788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7"/>
          </p:nvPr>
        </p:nvSpPr>
        <p:spPr/>
        <p:txBody>
          <a:bodyPr/>
          <a:p>
            <a:fld id="{61556E4A-1D33-4724-A758-59259E279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9809268-03BE-4AE9-907B-4C568140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827ED-D54B-46C9-9092-9F2E58DB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BF6C043-FCAB-425D-9767-29934AC1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577D1A4-D1E8-4390-9684-53906BBC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007C2219-9BA6-4116-AFAC-BE7607CB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53C405B-FD47-4260-92B4-C2FAB833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12B65F6B-B4FF-47E3-AD68-E05AE7F1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21F24A8E-157A-431B-B24C-F6A0F9B0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7D638C27-5847-41E8-9B5E-48C53A71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5C65C8B7-5A73-4039-B8E1-F92D02D8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EA6E8372-4FDF-472E-862C-F9421A81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ABE1EC7B-8380-4B66-9C12-7E8CE419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94D83-45BA-4BCE-B2CA-2E58DD75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0"/>
          </p:nvPr>
        </p:nvSpPr>
        <p:spPr/>
        <p:txBody>
          <a:bodyPr/>
          <a:p>
            <a:fld id="{41338DB7-E1FC-4483-8BEF-60B1A768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E868E78-8626-4AF6-999D-33D1A92A7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DC9D9B75-80FF-4F78-8CEB-8D35645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9EE14DFC-5CD2-4D98-A359-ECCD68BF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428DB082-CD29-40FA-AD4F-B5BFE281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0DC39DC7-6340-4DBB-B808-36183731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19FD1B8C-96EB-4A31-A327-57FC9EFF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FEDEAE4F-6F2A-44E8-BAAC-F7488178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C4BA536E-634E-496A-8CE2-A501F295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A45D1DD-1575-4383-87F0-C877D2D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E5EA6-B8BE-4429-9EF8-244B3FE6C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E8EBDA06-C65B-4A1A-A05A-5ED07938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AAFE5B0A-5A16-477C-8539-03D5C905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3"/>
          </p:nvPr>
        </p:nvSpPr>
        <p:spPr/>
        <p:txBody>
          <a:bodyPr/>
          <a:p>
            <a:fld id="{3B8BCB08-01C8-4926-BF3A-014C7E60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52841C12-96B0-4612-8D63-1FE6A8B1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C04AB138-0E49-4299-A204-B4C514EC8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26F7D2AF-7C9C-4432-8DF8-121E3BF5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1B7E7E5-708A-47DE-88CD-89538302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48AEA21A-D5EA-4427-A10E-7FB05EE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AF460AC1-BB78-4163-842B-9F604B2E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B0BE9C1-9750-49ED-8F32-49F96D0A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168-7D87-4A63-9105-42136DF8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A31BA-FF0B-4F8A-93AB-5262C5A7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B38EB680-819E-4294-8ACB-F9C4A890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D908B0CB-3516-4631-95A1-986B7229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86863BF-AF05-4BCF-8929-6846A2F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839CFBB2-389C-4A9E-86C3-73FDE523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6"/>
          </p:nvPr>
        </p:nvSpPr>
        <p:spPr/>
        <p:txBody>
          <a:bodyPr/>
          <a:p>
            <a:fld id="{781FDCD8-52D2-495F-89CD-5E8AD507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97C04525-270A-4301-84F7-EBF51A0A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30D2C1C-A142-4E96-8231-8C31418B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50A3EB0-8E33-4344-A84C-5B066D29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EC3281BE-98BF-4E93-9805-B797838A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110D6A5B-BD29-4EC4-B936-8AF8CBB3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036A9-4FB0-4D0D-9726-4E0CA9C7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2F4A19A3-41BA-43D6-97EA-ECEEBFE29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B6E1B9B-E58F-40C0-884E-EE83062E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35607B8D-43FD-4B3C-BEA1-B0EBCE71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AABC8DA0-5FDB-4270-A3F1-C572CB8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F47EA69D-19BD-448A-B3C1-31547E75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6EAA787B-B203-475B-8E87-FC9521CF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9"/>
          </p:nvPr>
        </p:nvSpPr>
        <p:spPr/>
        <p:txBody>
          <a:bodyPr/>
          <a:p>
            <a:fld id="{C6B21C23-D3F7-435E-9DF0-08F65F56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517FD38-6ACA-4365-95E5-A2B0DFF36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CAD2BB38-06CB-4773-9DD8-2468FD59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013AC32-2550-42FB-BAC2-72D64A54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FC0F8-3B22-44B4-B886-FA6DF961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8BE6AE4-4335-42D2-B899-5B08D648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4E92B8C4-752E-4A9A-B59B-62A9C1DB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8964D5C1-955D-4C48-A044-A6D0F42D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90A0AF89-9A5C-4DF0-98BE-49D3C65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FDD6EA20-0527-48FC-BB5E-275261C0F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BED91D39-0F53-463F-B821-27FC257A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7DBDB9BF-EADE-4CF8-A921-18B73B3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13322103-9726-4C1C-AFB8-05C9B1C93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2"/>
          </p:nvPr>
        </p:nvSpPr>
        <p:spPr/>
        <p:txBody>
          <a:bodyPr/>
          <a:p>
            <a:fld id="{24726A23-BA01-4E24-B950-A53E9BFD6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9295417-7DEB-4BB0-A1B0-4EDA6ADF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4F4E2-B721-4C1E-9ADB-0058794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10DED300-5781-4667-923C-5C1C3909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CB68E613-01D9-44D8-AAA4-3DC5E0D09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F50CE1BF-4C6F-4721-B7BB-BF06F2DB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86AB192-F4ED-4B2F-AF87-6F50253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6F85F85B-EAAE-42E2-A46D-7A2EED9B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361DE52D-342A-406B-A0F5-9752F5C6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01ED35A6-4322-461A-9816-180AB82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5028BD25-6451-44CF-8B0B-1869D647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B170803C-26AC-44CA-9B9D-9F74D68D6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E49DEDBD-4E22-4A19-ABD9-999F672E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41E09-082B-466D-99B9-C15017B5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5"/>
          </p:nvPr>
        </p:nvSpPr>
        <p:spPr/>
        <p:txBody>
          <a:bodyPr/>
          <a:p>
            <a:fld id="{98B41974-FB1B-43BF-9EC5-054F09708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25A0548E-7763-4C63-AFC9-E0AB2C5A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0CCADD48-B871-4A90-84CD-224F136F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E374D6F3-2365-401A-8774-2CE2D9E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97A751A-6544-4520-9ACB-916DF426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B302ECE-6D8C-42DD-A67E-18CCFF4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0309345-6126-4575-A92F-EA299D05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AD2849D-63B2-4E16-9B68-25CF5EB8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8CE6EB6F-A749-42FA-B82F-4D1E3D380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3EA2752D-0C34-4204-9E6A-38B618F6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663CE-4D0F-4F74-83C9-211DAC3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DC6E48F2-1972-41AB-B378-51833E3C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1D526E96-B529-4F9B-9CDB-3E3371A9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8"/>
          </p:nvPr>
        </p:nvSpPr>
        <p:spPr/>
        <p:txBody>
          <a:bodyPr/>
          <a:p>
            <a:fld id="{F3AADFE0-B80A-4EAD-8A13-07D4A1AEF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6F4FE1C-704F-4B16-BE46-0EA3195B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0056C9A9-5C8A-44FD-B092-1A269BD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98FDD6ED-C424-489C-881D-63E3C853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D9EB0476-8E56-4E05-BDCB-B7DB4461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C25DA299-28A6-4BD9-B8AA-008A1DDD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B854077F-DD20-46F1-A7F2-958862D7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8365849-53ED-41BC-9215-3F47B152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E44F0-0211-49C4-985A-E1EB45BC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0587071-0A5E-4CB2-9325-DBF884A9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506C60E9-D23B-4133-A3BA-62E38005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1BFA527-4177-4021-8EF3-8A130314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3546BA96-6717-4580-88A2-133E81C1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1"/>
          </p:nvPr>
        </p:nvSpPr>
        <p:spPr/>
        <p:txBody>
          <a:bodyPr/>
          <a:p>
            <a:fld id="{A2962178-C289-4C03-99EF-57CAD795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50EB960B-231A-4CCD-A728-F0B70A38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EE282924-B188-472D-98ED-E101BD5A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89B98CDE-6B14-47E1-B699-7F38F7C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35A11EB2-5EC0-4EF0-8284-8D978423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0B5C8102-8A48-4259-B899-9B40466D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210D7-6F97-4ECC-9859-D426E5FC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1678FDC-D3E4-48FC-BF6F-F08F6806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FB89E0A-3A39-463A-8CD1-E7C50BF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91FAFBCF-B48A-4B24-A1B2-C306C6C6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B5BFDE4-E2DE-482D-8081-033B5B9D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692A9DD0-15EC-437D-BFB5-BCF66EB4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7B20EC33-B37E-4EAD-B3B9-11139AE8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4"/>
          </p:nvPr>
        </p:nvSpPr>
        <p:spPr/>
        <p:txBody>
          <a:bodyPr/>
          <a:p>
            <a:fld id="{F6DB4938-FDF3-49AE-9AB3-08293443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3F535B87-9FE4-45ED-9E2B-222AC0FA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D3C0CE30-1D98-422D-B360-589ED0CE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55DB66B6-670D-4F49-BB33-CA8A40BB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CE898-339F-455D-B35C-1BCBA716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AAF2A6B-AE39-47DC-8091-42A8F4B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ADDD4B1-90DB-439E-BC00-2B08F089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AEADB39-D2DB-4C98-96CE-D7A49FEB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C60E037B-4B73-4507-8D9A-AD0A5256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B37051C1-CB93-40DB-98C3-AE01CC1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2F9E373B-454E-4240-855F-467E0BB5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4F5D73B2-1563-46C2-9CBA-6957AD1A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F2465189-1C5B-49A6-9555-768901CD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7"/>
          </p:nvPr>
        </p:nvSpPr>
        <p:spPr/>
        <p:txBody>
          <a:bodyPr/>
          <a:p>
            <a:fld id="{78C3AE32-C4CF-4E02-9A84-5DCB5286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A3371B3-1EC5-4F0E-A760-F02BBA66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893A3-2E92-4BF1-B880-72D222A4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E5145CD1-839D-4C6C-893A-091CAE65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BF8ACDC3-58C3-43EB-B42E-4099B70F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BECF770-8D45-46BF-97C4-F720E8B8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6E45782-1D15-4A1F-86D5-5F9EE236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01B06855-71B3-4F5E-A3CE-56A5335E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C52424AD-4143-4953-B87A-7A8184F8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5A8E0562-C9E9-43B7-9653-2E2555BD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9E2AB744-2A92-40D6-B1C0-FB2643B4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7CB661CD-AD82-4152-9159-E3CC012B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A0E64134-0A3B-4785-AEB5-AD64F769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BEE-E35A-41C4-A900-A5FF8CCDA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40BC2-090B-43DA-B23A-FBCE601BF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0"/>
          </p:nvPr>
        </p:nvSpPr>
        <p:spPr/>
        <p:txBody>
          <a:bodyPr/>
          <a:p>
            <a:fld id="{FAA3947C-6EBC-4309-8CE4-07188B65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53EAA25-2067-42E3-B76D-4850FF54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C8C727CB-01B4-4F7D-A112-38B8C44E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99444997-B1B8-43EA-B3A8-013E5FE2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1F799A9-D882-4EEF-B176-A9B21104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E80D32E-A909-498E-B4B4-70C89D1E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FDB1A0EC-90C2-4918-9D97-8E7341F7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036A1B2D-6306-4E53-8D2E-A731F79D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7F2FB10F-EA25-4EEE-9513-7AAD36BE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5D4FC883-3492-411C-B82F-BDB8846A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3D6D3-2D93-4B9C-BFEA-9E7E19F8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B2D85FFE-D95E-4973-ADD5-D1A525EC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34A14D27-FC52-4E5D-9A81-EDC8DB24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3"/>
          </p:nvPr>
        </p:nvSpPr>
        <p:spPr/>
        <p:txBody>
          <a:bodyPr/>
          <a:p>
            <a:fld id="{ADA219C9-1337-4AC0-AEE7-8A9D2EF4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23E3C5E4-9BB6-4350-94B3-A7A8E540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7BDDC8C8-B137-41F6-9C05-F410DD33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A5AB696C-E471-40CE-B831-3F6EF84C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B98767E8-F213-4810-B6A3-FA421CFF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C015145-D08C-40D0-AB69-E1B5129F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5400A24E-AA78-41C5-9FFB-01F65DC1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3108804D-0F4D-4A50-BBDE-840D2483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73D5D-FE34-49A0-A2C8-C99FD66A5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B1E21AC-118D-4ECF-8537-84DA9FE7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97A31B53-5A76-446D-97C3-DDAFBB5D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C7720E91-8AD8-4BDB-B7B2-46868D99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0321A5C8-0B42-4A95-A9F3-4C649F0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8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6"/>
          </p:nvPr>
        </p:nvSpPr>
        <p:spPr/>
        <p:txBody>
          <a:bodyPr/>
          <a:p>
            <a:fld id="{F52628C0-3D76-41E9-A033-C26DED93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33B193A1-F035-4CC0-BE3F-76A461F3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449E1094-3D78-46DC-804A-D498B3AE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1317ACF5-0D96-48AD-9179-EF04212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C253B0F6-42F6-4B01-AE6B-A4779B82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C59BCBD-166B-4F5D-873C-2B861EE4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8572-429D-40FE-BBD8-0EBAA32F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E959DDB1-A432-4863-8606-73FFB94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890E460E-F44B-4AFA-8832-F9BF5F75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5119D975-BE36-451A-80BE-ADCFAE94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F29B6C89-624B-4E20-9E17-60154EC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77E2E145-11CB-43BA-98FE-494420B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AEC015D7-178D-4B88-8685-CB05D0FC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9"/>
          </p:nvPr>
        </p:nvSpPr>
        <p:spPr/>
        <p:txBody>
          <a:bodyPr/>
          <a:p>
            <a:fld id="{2E949931-C1A7-4923-A420-DA4C6464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6CFD15B9-2EB6-4438-92BD-B6E1568F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93C92D4-0258-4159-8F03-8E00C49E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0895E48-29AD-40D6-B935-E1E2E396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F6F672-AE76-49B7-BD1B-7A91015E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32636E68-541E-4A3E-BFCD-71D3A44C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0D5D07D1-B02F-4822-A190-DBD9F043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CA0BDB3C-697F-47AA-AC7C-656A0C6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90F97FB-07B5-4A52-8207-9C36FBF8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C8DDF38-7C02-43CA-B8AE-F30F8C18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D33DB40D-B8F9-47C5-9527-859E7546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F390D85C-07EC-4A8A-961B-7626B306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140AF422-F65E-4044-AEBC-ACA46D190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2"/>
          </p:nvPr>
        </p:nvSpPr>
        <p:spPr/>
        <p:txBody>
          <a:bodyPr/>
          <a:p>
            <a:fld id="{7A81009E-A5FF-4BFF-A953-49FA51FF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B7A208F-15A1-4506-A4E1-BE4C78FB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312C9-0693-470E-B974-60B78D4F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C8E74F6-9988-4AD3-8505-F2CC26AF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039B7BD-DCD7-4310-8C2B-C928D4E4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4981FDA-FAA5-4E73-86BB-D699BB66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8C1D8A6A-285E-492B-B292-8B71E477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4142889A-0569-41F6-BDD8-43558375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DE4D83E-2B58-4958-AC0E-7E23C6B9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214E7F7D-F280-406B-8AD5-D042C39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AE36E201-2BAE-4C6F-AB25-FF87DBB7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9190155B-5B77-472D-ABAB-93CD85D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BAE77C7B-D6C8-4FE1-938F-2E57D89D2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A3A7F-589E-4199-B49E-77AA69B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5"/>
          </p:nvPr>
        </p:nvSpPr>
        <p:spPr/>
        <p:txBody>
          <a:bodyPr/>
          <a:p>
            <a:fld id="{1BD8FAFA-4CAD-4496-B739-B371DBBD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FCDB5FA3-2143-4F23-B358-D6D93F8A4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1D17F56B-ABBF-4BDC-968A-43D6946C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F71AE22-A353-4C93-96EA-126B1D3C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EEB0948-2A4B-427E-871E-0C1EE663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4CBFB80-3F8A-429F-B609-DDD09A2C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99802601-9DAF-462D-A041-8D31663E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30569819-75DD-4C02-83D4-3D6827F4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45FB9CF4-D871-4112-90CE-B8E435E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2B89FE03-8B58-4F18-97DD-10F7148E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637339-F854-454F-953E-B80C402F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52D46A79-3332-4CAC-8913-A6F2F515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0D2AA5E6-B325-4CB9-8FCF-4DE12CB1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8"/>
          </p:nvPr>
        </p:nvSpPr>
        <p:spPr/>
        <p:txBody>
          <a:bodyPr/>
          <a:p>
            <a:fld id="{AF5D3125-7E34-4FB5-B39D-470498D0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6AA5400A-AB04-44F0-A2DC-9031421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CDF09FF-ACDD-4C3C-B034-69FD238B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1D2A35C-1A41-4597-91EA-3AC9C26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35E9FE6D-DD72-441E-A096-B4590E87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D1BFC4E-8614-4327-BE2C-5B633270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85AD5CF2-F6BF-45FF-AFF0-99CD53A6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556E41F2-7E3F-4DD8-919F-A3F49D7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937FE-8F06-41A5-80C6-7288B719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96DB1F82-491E-486D-8742-2F43BCFB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B32409CD-E64D-485F-B653-F7816BB2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230F8E43-190B-4A9B-91F3-F09A34CA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F3D2D5D1-FB6A-4C4F-B51C-9A2E9736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1"/>
          </p:nvPr>
        </p:nvSpPr>
        <p:spPr/>
        <p:txBody>
          <a:bodyPr/>
          <a:p>
            <a:fld id="{45234077-2DC3-4A9B-AFAE-7C67D1DA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4E8BB604-E355-42D3-A795-9C647FAD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5691C4A0-2CF8-4219-9F01-20BDD738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1AF50ED7-5B23-4C3D-BACC-305EC112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E6632FB-7011-432A-86EE-EE56F3A9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FC5B145C-EAA4-4D8B-A7A2-C2D1FB8A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4BDB6-B219-4074-ABC2-374E38EC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0DD6D4D-6002-46AD-99D4-441FBA77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BC8D2A4E-097E-4C6E-A068-B4CBDA80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3817A21A-561E-4A02-84CB-2D908850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701F0629-6A92-4E05-B7F7-DCF4F393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0437612C-8B83-4A3C-83C4-1669CBF3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7CAA29C-E94C-424E-81B5-CD5AF7CF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4"/>
          </p:nvPr>
        </p:nvSpPr>
        <p:spPr/>
        <p:txBody>
          <a:bodyPr/>
          <a:p>
            <a:fld id="{AB5312FE-6029-4318-BEC3-8E60208E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8169-F5BF-49AF-9B93-BD5C2271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74172-0BCB-4308-B681-8AB22298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F5F206-17E2-4412-81BD-36E118F7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3D5CE-3A14-4365-B6C9-080C0B82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8AC37-8304-40BC-91C2-CA584944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6A09A-38D1-4473-8FA1-B3AE1682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45BC6-872C-41E1-A37F-6C50F4E2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B7326-BBAE-4211-9BE8-2CF21C78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02167-A0CD-4CE0-9B26-3857143D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36B2C-E4A4-481B-99F5-4CA22586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DDBF8-4F40-49C4-8CAB-C085EB13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0D15-7BA9-4771-9B23-29E79775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D8C92-41F2-49D2-96B5-E6A4927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AC26D-B634-4D93-8194-B0E0B7D9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FE4C2-EBD5-4E14-B7BF-E1803CC3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BAD23-915C-49C3-ACE0-62A67D8F6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46FCE-C788-4DF4-A043-7F06800C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59051D-9382-4421-A36E-D1C4717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F9FBB-CF2F-4074-AB34-80C8E521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C780FD-4EF2-419D-BAA6-C4A3BF18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824533-A304-4944-95A8-3233FB26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81A9A9-48F9-4A8D-8FC9-FB47816A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47E5-CDE7-4EF5-9148-51D6E543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1A2762-DB05-4DB2-9A69-57E030B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9EDCF-C505-4425-9CE6-863264A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16068-F587-44DD-9D51-164A7FC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421C0E-52FE-49D9-A4BB-9B170B32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12084-3CE4-401F-BA50-3700386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B23FD8-8C1C-4425-9D62-9DC10B43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F81512-AC75-4BE3-9DE2-1B15FC92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BFC9C-4824-49E3-AF84-D97DFA17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B064D2-BBCD-4AFB-8741-A4FE7CFB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140249-D10A-4C73-904F-FF7F500E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0F34-7998-4E22-8339-B2AFFE78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C5079-3948-4D71-B292-8045AC97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6B0FDC-3087-4883-9267-2A32DE22C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37BD9-3B3C-47E9-82D2-FB9517EF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92193-701D-4CD2-B65E-4DCF8698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199E7-B5C1-4C90-ACFD-26FDC2528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FD9E9-DDC3-46ED-87F8-0039AA78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CF8EF-7326-4277-8F22-8C813049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F6C1E-AFA9-4C36-8254-90E8BAC21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BE025-BE44-49EE-9399-C73BFF16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E2EF9-085B-41EB-8F8E-C4984A29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221E-A0DC-4920-B7D9-915980A9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66043-1430-4A0B-AE64-F5FB04F2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2B52B7-4678-4389-9BCB-1FF97F42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D5E4B4-F355-460B-9577-2EE769E4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0EF955-43F2-47CC-9325-49D8D5A0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4F6819-4316-4C48-AB84-0CE96B55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1605EF-325E-41DC-82E3-51547E52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BCA1AA-C6C1-4A61-9796-035A9E39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A34A4-38E8-44DD-8922-983AF590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52117E-3775-49F4-A67C-A2CFB1A1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65F74-5D65-4320-9570-12E34BF3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26B-9964-4D4C-8D68-980C30B5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AE5AB3-FF9D-4C17-8321-C160FDE87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C1CDD3-A251-468A-AED1-F89B00A0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B039F-B249-49B0-BD0E-41162DCF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81C6D-39D6-4290-921B-E4995D68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516985-5AB5-41E4-848E-0F53F40F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2030AF-231B-4113-B037-66686201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C02F2-37BD-44A2-AEE1-956BE6C6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9E1508-3A57-48F9-A101-A166E49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A345D-1553-414A-90DB-5CCC95DF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BF355-08F1-4031-9C15-F8B5A792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4CF2-5702-42BB-A6F3-4AFE143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7F3312-3484-4679-B599-4B9F67B0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174AB-A199-4B32-A2CA-C7C4F2E2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047E8-7D72-4398-9C1F-71C9F933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D945C-A441-4053-A3B6-86434BD6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7CC57-9053-4C07-A36C-383401FD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ACD850-A0BD-421E-88DB-CAB4BD05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950D8-BDB6-435D-8CDD-76CA1F8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F33AAD-AA07-4BE5-9ADA-8AC18F85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A04C89-B147-496C-BA7C-A900809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6BF754-3FAC-41DF-A491-76233B58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0AC-B053-422A-BBA8-46AD2A88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542F-3165-4479-9805-C81C60AC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CBA546-780B-4A2A-AC67-FB0F65D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27C62C-22A6-46C3-9C82-9A8BF084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33F985-0D06-4C29-BB34-3468CB2C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29414-3A8A-4DE6-8300-D5260A81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E1C3D2-9CE9-43EB-9067-8BAEC965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C938AC-3E8A-489E-99D2-434DC5357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9EC8C2-791E-4AD7-839D-C491CD301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2D6FAF-3036-46C9-BB71-81C212AD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F52378-E229-4FEC-85D7-6CEBDC42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4DC64B-2DE7-450E-A3D2-905E9845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DEEB-65F7-4532-A294-AD6E994F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EB77C8-C5B7-4E59-BF2E-E0427F34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1FD922-A71E-42F1-A247-7842054B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442F29-D831-42B7-ACBB-EC599E9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A7C02-D3BF-4513-BB3C-7B720C2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5AAE72-72CD-4C4B-840D-F25CC896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F9EB53-3A0C-43BA-8143-16374DD2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29C4B-B6A8-43E4-A294-9A5A2F56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1947A8-B37D-43C2-9C47-53D55377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707F91-EC56-41B1-ADDB-B5626C59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481DF-F0C1-44DF-90D6-342FC897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532C-A943-4EDF-836A-E0154A88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832DF-9DF0-4CD6-A752-05D9E1C8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EF3DC1-874E-4EE6-BC56-203773DC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573EF0-3841-4B75-9BD1-129820A3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9180C7-DA07-4A3B-B0BF-8541317F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0E4492-58FF-4776-89A6-DC34F55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07B19-50E6-45A6-BA16-327BD9F7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4C8454-410B-4AC6-8819-D898DAB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88545-20C7-4735-B21C-44476B08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353F7-090F-4233-84D1-F60DE274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A632FE-5245-461E-B5FE-7FE0EE4B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2FE2-BA38-445E-944B-4DA96867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EA1B5F-3B17-413E-B6C6-AED8DB31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27F20-1C7C-4B90-B743-E13F1217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D8B33-5705-4E1E-8D6D-5E963408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F41EFD-918F-46AC-B3A5-5E69694D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969BFF-161F-4922-B229-94CAE730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1FB54D-F4DE-4890-B699-9E0723B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030138-6A27-4A37-8A00-9D2E9C28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6B2D0E-14FE-4E96-BFAA-55715944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506B80-CA79-460C-BB18-6EC6753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DF5384-4F9D-4945-9257-6A01ED01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6E8B-2167-4C3E-A81D-52B12231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83738B-44EC-46DB-91AC-67DD6FBD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A37C32-819B-46A6-B28C-5B35C14D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437136-5E7D-4573-86C7-440254F4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4B391F-C372-424C-BDB0-B77A21DD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3BA953-19A1-47A7-A5DE-E96DA94E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345D8F-5622-43B9-8B7A-32A17B0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5A5C6-2234-47DD-B7B2-868E5650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555431-9B81-450D-85FE-143860F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F77C11-7AEF-44D7-89B4-E4282E7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DAAB5-F557-45A6-96F4-3D77D4F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497F4-88CF-40CD-9DDC-ADA532254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09B87-BBF1-4D5A-A2A7-F7AC25AC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AB354-3486-406B-B7F5-D1ED9C4E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3CCC6C-3630-4FB9-BCC5-79B03FE9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42630C-D456-493D-A1E1-26E26774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56E815-64EC-47AC-A206-36907A60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2DEF6D-D7C2-4B94-AAA9-7C546F3A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5FB03-F643-413E-BF4E-BBA2690A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954DE7-A3D6-4EAF-96BA-7B6238DF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F4668A-1430-463E-B9E8-B35B2C7A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3DFAD03-1646-4851-87C3-705D0342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1094-AA48-42C0-BF2A-E57A089B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9E4F1-25DF-4C3C-93F5-CB2BDE43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959576-E145-4F67-99CD-252AE60C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B4F67C-A94B-489F-8B8D-A8D0F579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698B13-022C-474F-B3F3-3A731847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686CAD-7AB8-4550-AFFE-32A68A51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B2EFEB-5862-4AF9-8262-54B8319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7D6CF8-32BD-47F6-A1E2-5FF87B5E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B28B9D-A12C-4591-B48A-5C00140A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940997-38A0-4750-88BE-55D9994D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715C94-E618-4850-A834-833C2D2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AD3DB-5B2F-406C-A47C-20C7C4A3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C57A3-4565-4730-936B-77ED381E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9EF71B-4704-4E0F-96C4-45DE4BE4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0ACF1B-DC99-437F-A8DC-5BD7A402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1BB1BA-EC39-4B74-AE45-15DB2C56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E9D4C4-0362-455F-A7B3-4FB69F0F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782CEE-13E2-4103-9276-749ADE32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1F68B4-32B7-4F67-BEDC-C174ED39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E604C8-3744-415A-878F-9AE5A6DE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F119DE-F250-4E10-AB39-5033EFC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A4E42C-9A89-470E-8A38-222C08F2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F04A2-427D-41DE-9641-A8A25D60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145410-B55D-4E19-83F4-CA0A937F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15A29A-C5E6-4830-84EE-800DAF2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0217DD-05A7-4A4D-B487-7BC5BAEA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44A557-51E6-4A8C-A9BD-A0FC6889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84DBE2-818F-4865-A878-8B8B02EF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0BAF63-34B4-49CA-9234-87C7E099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479A09-4A1D-4703-A434-7F3B31FC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98FA77-35A5-4F2A-8BCB-46EBCD5A3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AFBA81-2B2A-4B3D-880E-E54D985F5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8CE052-E511-459D-A66B-2DA3ED39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36AF-AD2C-4CA8-AE57-2B9C8309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953E48-237C-4A24-9042-78013F91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A08431-2DF0-4E75-912E-F525BE3C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7CAFEF-B03D-4BE4-9C43-7E11F89F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B2099-AFCA-4EF7-9D2A-19D38E1C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48B816-C0C9-4D42-A529-15FB170E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724785-0334-4C82-9A01-6EB211F3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891DB57-C7A3-49AC-8D21-16B5F1D0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6B0A25-0F0D-4DE7-80A7-6BACA98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643CAD-26FB-477B-90B3-C35448EC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56053C-11CA-415D-8B62-C068F2B6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FA0-79D4-4AA6-9509-B0087F2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1114F-9927-4AEF-B02A-7A9229C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51CD0B-E462-4F85-9816-9270818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A32EE6-A8C9-4B75-8907-22A3BC21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70AEAA-31EF-4A5A-88C6-BE346997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1B13BC-9871-4323-B862-1FBB2FD3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D1873-00A2-477E-BAC2-E3EF3F0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F57E60-56F7-4D24-B1AC-C16B0676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CF74A-3F10-4363-B237-ABE3D233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BEB9BA-0330-4167-BB8E-7BC322FD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5A6AE9-D1BB-4562-8F0C-1C510B84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EEE8DF-D9F1-4366-8D08-CF7D2712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DC59-AAFF-4BF9-8816-438A563D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05FAF9-8127-45E6-B391-3A474FEC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E9A457-5232-42AD-85D8-DF1847AF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886996-8367-4A26-9291-FE4606ED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DD3B5-CB16-48A9-A512-30996F5E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2ED61C2-C108-4580-8444-FCDA139D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0EC012-B3A5-4C37-A786-9491869E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0A139E-734D-457D-8E1E-2E35D4DA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EC4D7C-EBE8-4D63-82E9-8EA41E3A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53D252-4C43-40A3-BD4A-8196E5A2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BFC602-CCAE-406A-8F7F-AA2E6121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4B1F9-0981-4179-B4F4-DA50E369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638EB9-2385-4AB4-B22A-E69F1EB0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B57FE4-7A4A-4215-9DF5-2C24EFDC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FDA08D-00FD-4509-B519-A1FFB3F5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6798E5A-EFEA-4B7B-8CF4-DBCDA4C3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7D84D7-5529-422E-8529-12E84209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91D01E-75A7-4ED6-B741-565FC003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0FA915-88A6-4A19-8758-E53EC8A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FE97E6-DA46-40C7-982B-B1E65525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8EAC7B-FE66-4A2D-A3BB-0C4A8EF4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2B38E8-418F-4E79-8EA3-249BC021A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E2CE3-5085-4C43-8B91-CB5CC404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71510E-FC02-4292-9086-D1094564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CA1256-377B-4BBD-BCA2-81CE9AB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17F860-1FF4-41F6-B7C0-14D254F4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619089-DBE1-4F33-BB8C-FD41ADE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A86245-17AB-4B4D-BFB3-A8FD2F2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C5D6B5-7DA0-4037-9770-33E1EBD9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5F74E3D-0E71-48C7-B186-52E092D3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02A404-D6B5-4F2E-85C7-3173AFBE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C8F1FE7-7F03-44C0-AF70-5E503989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5602BD-F3A8-4266-83B6-DD2924CE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90F4C-9C9C-453C-A9CB-37E63D2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68407D-555F-41D0-B382-EEEBDA1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D37FB1-1112-4E37-82AD-702ED0A1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54D6EF-5282-478E-AA0C-E29B6072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467F49-6D31-4314-AA81-124375D4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ECE988-8013-42D4-8F29-EA194E3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4310C62-1663-449B-B2D2-319A58BD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5F8FC9-5B41-4ECD-AB03-DFB5D43A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A5A9C8-E2FB-47D1-8D14-A32695A3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C9808D1-F04D-42C1-9A8E-B12EB859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92AFEE-9673-4317-BFDA-84BB4505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D189-D5A0-4A6C-9DA9-7BB0ACAD4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598A081-3798-4962-9D9F-7A975A42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7BB8D5-C4EA-43A1-A780-0365486E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1B4B1-486D-44E5-AA7C-D1CCFBD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697E5D-8D4F-4CBF-B0AA-16C18C1B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AE24BF-321D-4D46-99D3-0905019B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A67B3F-3644-4390-97E6-ABE80F3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C6E855-35D0-4DA5-9EE5-3E11AB4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A5BDE9-0555-4ED7-96E3-8C9852B0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423A1C-DD68-4D48-962D-A7C17A2D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7DF3B4-1EDE-42BB-9897-22D28076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01F8C-1F3A-4B7B-AABE-67769263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21A71D-E233-4269-A927-F4AF1DD1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1ACB3B-18CC-46F8-AE19-F62D3B0F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490BE9-F13C-4684-845C-C006F92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10107D-1899-4DC8-B30C-EC8ECEC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F2224A-BE68-4277-BBE7-4436415D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847C0B-CE69-4E91-A1E0-918D3202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FD95EB-2BCF-4EAF-8D27-ACBA384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2A6B3B-5C46-405B-A3C8-F60B4B45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AD7CBA-587A-4737-9CD8-E48F50C8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B8C043-1F8C-4EE4-86B1-4B174010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900EB-846B-473B-8157-CD86D7DF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1F1408-DC03-4A87-896B-4F286787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DD859E-4CF6-4A84-8AAE-5B087A2D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E4E2A4-16CE-4068-86FB-DF1F3893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07213B-7429-4492-A15A-9E1D292E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A249F0D-C91C-4673-8CB7-54A57DD6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21B1E0-A143-4362-83BE-F0B9115C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3DB0DD-8C7E-4725-BAEA-0FFB9512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E651D2-C966-4477-8961-92FEA3A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F775BE-D403-44F6-A355-4CCD01E2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A0BF50-9454-464D-82B9-8C5635CB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28817-464B-41FA-B850-940F3F95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26AE95-4E2A-488D-9D6F-A73120D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7E1551-4246-4771-B50F-8688E17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EBE6EC-6EEB-4FC7-8082-4F9E72C3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DC989D-104C-4BA4-9505-35FDD34B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1330843-964A-4DAA-BB58-595C8E97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0C5CEC-B728-4360-9B93-912C3681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E4B0E5B-B57D-4E22-B997-DBDE215F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73E7FE-CD8A-4642-98AB-6F402B9F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5BE2E78-AADB-4002-B108-9E49CDE4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0E71D2-1A71-4D69-84B4-1AE0FABB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1C39-A45D-4865-A47D-E4BEB24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4B26A0-A042-4766-96FB-2E04884A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4243B6-F7DC-4C20-B0DD-04A821BD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A1367F2-F70C-4B49-A01E-3414D907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AE46D0-CBC4-4AE6-AEDE-8E742E5F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7EC339-9282-405D-8458-4F171DA0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051D2F-292C-496C-9372-C44F63D7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DC11B2-83CC-4509-8C1C-64A628DD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B0FF59-0A77-4709-9B14-29D004E3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3BE8B5-226E-4AFA-9124-9D6B6605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1D82662-14AA-40BA-82FD-CF1DCB72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FF2C-9CC7-44A9-8FD3-435A393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DE523-4876-4933-BA74-07C6087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8FBFC5-04ED-4F98-A5DF-CC7D913E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2DF121-2ACB-47D7-9904-9C7C7197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A9E089-1F6E-4DB5-AECF-8E8C06F6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13E597-F6D7-42BE-98CF-56B4E3CF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8458F5-B6FE-4FBC-90BC-5DECB8D9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705676-0155-4DF5-B6F3-8DDD932C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7D919D-C6FF-4E8F-972E-F1AB5849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688272-AC1F-43D4-B6DD-A8E786BFE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8C1AEB-4C9E-4D3D-BD57-ADCF29E9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336BA4-98D2-4C6C-915B-BB5938682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5810-6A93-4A26-8355-FF7A861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D42AEB-A947-4437-A263-918F6AD0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9A8E81-7BF7-4945-BEFC-1C0F1003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6D641C-066D-4AC8-872C-62B53837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7E933E-33EE-47CB-A07B-187F9E57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07C3327-25CE-40AF-BA3B-BBEBDB2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92C6B98-20AE-41D7-B469-99BE638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7EDBCC7-B917-490E-A6B1-C5B4E09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A33209-5B58-48E3-A5C4-A817F8ED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ECEE70-AA16-4435-91BA-893966C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C87E1F-12F5-4569-9782-26F19905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5EBE-C1EE-46FF-8A2F-0A2F0267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DB6403B-5B24-4B6C-B815-C8A26446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AD5B13-9FAB-4D2F-975B-853A69FA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916C43-D8CD-4D9E-AB33-67881B39D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B0DF73-FD5E-45CE-98C8-397E8FB9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272C2A-7940-4ACD-BB04-59AA118C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578973-A8BF-4F06-8A47-892ED9F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49FEED-A3B4-44B5-A181-DCD18D9D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6FAE73-0A1E-4E67-A006-62E2C80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37EDB7-C7C1-4329-93BB-C3C5978C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3CBB12-7F9D-4F53-8894-245A480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1D0D2-FEC5-4259-AC18-D65405D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FF0BB74-8D82-4B15-81AD-CD81C803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2DFF572-5037-4304-A1B9-EE35118D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C88B18-B433-4090-AB2D-1EC78970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0924D0-29BC-4C61-8460-8F254CF5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A85A7B-9C43-4613-8897-03F6A0E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3F581C-D392-4C38-8B81-4E1A6E63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70B0B57-A0B0-4022-90B0-952A394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EBF915-4FAC-4BC3-9593-2C897AF0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BA9F242-55E5-43D6-BAC9-91E6A2D3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AA64D0-044D-4376-837A-7C90D3CA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945F1-C0A2-4960-B673-A16CEB9E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037ACF0-5DD1-4CDB-8D98-FDCA710B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29C5F6F-9797-4C23-B6EA-BAB0C46A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16282A8-3CE9-41AD-8ECF-36AD4C86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6B71F6-5872-4A53-838C-9C0166BF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9CF33C-781F-4F36-894A-4E40D69D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6B78A4-A769-4883-BF53-E4D31D9A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92A17FE-2393-474C-9902-B897F298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4B3A4B-5C49-4DE5-88B8-8001C3C5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9E9104-1A06-42D6-A0BA-948F1439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A0218B4-061E-43A3-BB90-D6DF3E96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756FD-C61A-46F0-AC14-C2F4410E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AF0D58E-08D2-4AD8-A88F-FF3AD64F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0BD3E0-06F1-4941-9095-ED4EEE5B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2DC27A-3C04-46F9-B8DE-347F2AEE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4D76A4F-AEDC-4CC1-BE23-320AF90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93C21C9-1201-4E7F-AC59-D3D47348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5981696-0F84-471B-9D9F-22A7B16B7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1497D65-44F5-4914-AB7E-8327AE92A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0C65D91-6994-437F-A9D9-34E61E48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DCACDC-4977-46BE-8BA8-8241D429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EBE7C7D-4258-4BC5-A8BC-4BA280DF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22375-CECE-4469-B830-6D5FB28A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59A33C-B978-49C1-86FB-27E2DC27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2AA1DC-E39E-4B9C-A7F5-7E797618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777A3D1-41FD-4FEE-BD95-E3FE4E19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2E48CB-F4C1-440E-BD96-6E84A934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96B3FAB-AB20-4EC2-9804-9B805E1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8E3E2B8-C633-4BDE-A6F6-2EFF41C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686F7F-600B-439F-A2F8-21663EE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1D30C1-0C71-4ADD-BE7B-1673AA535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EE60BD3-7600-4BA8-AF2B-D3FF0CEA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B465AB0-AF13-490A-A32B-D40CC126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F8A7E-1FF4-4280-A9EC-A675F80F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DFDF11-98F7-4779-9F16-EF57E690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7CD950-B144-46A8-8983-070154BF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33C807-7BB6-40E5-B3F8-C2240773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A8B6DE-9AAA-41F6-8F53-C7BF4460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CDB738-FC20-4258-9B9F-E120CA0D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8BE7617-4E1C-4287-AC6F-5D8EF61A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95D5DC-F3DF-4ECB-9432-C156190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369B2E-ABED-47F8-9236-8052B3D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64DA59-5442-47D4-9336-A319AA60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E7928D-313F-4674-8B6D-EF57F2A1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A399E-FB00-4152-8132-097E1C30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92C11F7-458B-4631-9C0D-08CF97F08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0A9CE0-6BB8-4276-A30C-57F245C79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B1F656-60EE-4E5D-82A0-DAE9627B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EC70D1B-93E3-4195-BBB8-4BCDEC71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4762450-55DB-47FA-ABDF-350BE90E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8F06575-AE09-46B3-9574-FE78B766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ACD2B05-51BE-4A8F-9AFE-CCAEEB9A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479460-0D1F-46D2-ADF5-B0D629F7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5ABCEA-7D16-48CC-B40F-C5424E45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C9F018A-71ED-410B-B710-0ECBA681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9495C-FB11-41C7-81A0-C8F8B6C0F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E6FAF66-31A2-452B-9894-22F5A9E0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45CEB04-246F-401B-ADD3-2DAD1D64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CF31473-AA7F-443D-B97F-A737636B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7B83029-7EFB-42F8-BE5C-84A48B52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263396E-8327-4920-AE99-EF4D8695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7728A6-E050-4866-A85B-12FB42CF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EBD2E2-3856-4CF1-AF38-485EE19E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63A734-A18A-4F01-8BD6-3D3EFDF2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8A160C-3413-4CD3-B4E0-EA5E5673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B2B807-BD32-45AE-A6F2-24C04111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8CB5-E02C-413F-8CBE-61BA3E29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48806-93E1-48A3-9FAA-E3A42219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5AD25FC-523C-409B-A807-9CAD7899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10625AB-57C5-466F-AFEC-13BC9280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756223-B0FF-410C-9F99-2F8432DC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605C13-556C-4DB9-82D6-053CF19E9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3775B87-9103-440B-8EE6-AD9A9572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29EA40A-C860-446C-8310-3E81AA45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B069AE-F1E1-44D4-AD2F-B4C5241E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08B19D2-CE1C-4016-B8DE-1C44C12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1074424-286F-46DD-B523-D927816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56B64F-46CE-446F-AD6B-9AC24134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08F47-75FB-46AA-847F-7DA9F6C0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9A9B0F-7EC3-44DA-B8FC-052B74DF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8589AB1-61E9-4EB4-975B-D20EE204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2F9BB14-B307-4473-B3F5-4792DC46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82A2121-AAE2-46CD-924A-9DFDE827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2DD8BF-83E4-4CAC-AF05-8D6E7730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28C8566-93CB-48BF-93A4-52FD6DF14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8B40479-29AA-4804-B3B8-E3A4C806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7E6AC9F-5926-4725-91E9-46EF4506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3DB41BD-B6AD-4BAA-90B4-6D266182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FB01635-B6D4-4EA5-85CE-00EAE3F0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32A79-7152-4B27-8C6C-1A7CBB89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0F7C043-4E70-4033-B769-CF43ADEB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829F1A-6C58-4E09-85C4-DC469A2A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D34C3D-6AD3-42CA-B07C-298AB37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6FB7407-C337-44E0-864F-D845A245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1034851-2025-4C78-855C-90021326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EAA7F6-AE96-4E87-8616-17117032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73D22B7-97B8-4605-851A-F30B1652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76A2715-BCF8-4E29-8E82-1EA47734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5D4D62B-8CB3-4FDD-8A55-45D86603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6F11AB8-5D0B-4BDF-B5A2-87BBDE9A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8E5BF-55F3-4659-9594-2815D07D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46F5181-9AA6-48A8-B271-56E0C765D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EBE1E2C-37BA-40FD-8FDC-5E92711B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5A8904E-F49A-4C8B-887C-B83EB8A2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49F035B-2D86-4354-A309-8AF08821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31A7973-DE90-446F-A5B4-8B0FDBCE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2C68E06-35B8-49C4-9A1A-4F0BE665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FC6B1E1-1657-4A8D-903F-2CCFEC9E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045F93F8-92CF-4698-9C58-5AA1BEC6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916E171-7EFC-4748-A00D-FA991F09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F59A67-64E0-4EC4-AC51-FCCE841C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61DD2-9329-4AD9-A1CF-6CD4B3B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73D64AF-2063-4DD8-A853-9D3C98C7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2986AC1-698C-423E-847B-892978B4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92E3360-B5C3-424D-B771-871ED1E9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AFEE4B-2C7A-4B9B-B34C-64CAC03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6140639-929B-4FE7-A043-69505F87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D62154F-88DC-4B74-85F4-3D360153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20518E8-F52E-4F22-A67C-067329B4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5EF0FE-9A44-4E68-8A3E-88A334C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48E5AA-78EB-4135-B397-895E493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02D1A8-7452-4B83-A456-C67377B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46D34-89D8-4B55-A980-10FD8561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A6185F-5459-4065-93F2-1CF7676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695087-F1C1-4AF4-8B0E-C37B150C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51D3E1F-1E98-4942-8EAD-7FD0F12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E175A5-6C85-4192-B0D7-B841EDB4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9AFF7E8-04B6-49E0-B2A2-7FF0157E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C4A8333-4F11-4D34-84C6-75B34785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5F0AAC-4BDD-4A79-8D1E-511C6DD3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50E2046-0B70-4088-A89D-4FE8125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041E14-A791-4709-B583-28B46CEF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754D33-7069-467A-B2BC-1C084F8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B635C-2C2C-4FB6-9C8B-A06A6E7E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1C1B2B-56A1-4540-88DF-6E26CE1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78423A0-B52C-4D66-B5D3-1F775E46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B99B980-4D56-493C-B7A1-2D12331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A0A835E-A5D0-4B03-92AF-B7E8D21C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446BAE-06E5-4CC9-9920-908CD5FF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470AEE-2361-4BC5-AE26-13ADD363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0285E86-B208-4381-9E49-69ED32C5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83E5870-7139-448B-A939-DF7BDB6E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2894E55-A18E-474A-BBF0-09503C9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EB8F9F5-7405-430E-BA20-CCAA7BC2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B583-4E44-4956-BF08-BC108864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A6FC57-1976-44AB-9C4E-1E6C1982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3E949EF-25A5-4B6C-8D31-8E3595C8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78855E8-BF01-4F04-A2D6-D0CF54DA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819B120-B3FF-4AC7-892B-8621C33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71182D-ECAB-48DD-B6FC-D5F281E9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C4B42DB-1D89-4BAB-A8D9-EE5080FC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66E923D-90F4-446C-A862-41B19822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8197463-0BF2-4D2F-AE65-3E216C41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24A4A29-C256-4779-90C3-54E14836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FC7A75B-716F-4083-846A-A94709D5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9926-6C34-49CC-9162-C64928EA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C5A545E-B3B7-4B89-9680-2F119ADD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005B298-22E9-4EEC-BA72-378FBFB6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F2137D1-31DD-4C01-A1B8-B9993284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24AF20-E5A3-4CFF-B94E-CD270F48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32B7E11-AB5C-4B7A-86A8-581F4E04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2C7967D-6F3F-42F7-9A94-B0D9AD6B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11D7942-EB25-4FF2-B79E-E097B561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D9B8193-CB3C-4667-B0A4-A82FC39D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8D3E6B-2912-41FF-B14F-0EB0B955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5AB1C1-C549-453A-AEC5-50F6A48CA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B65A8-6B01-4F82-97C2-3D17A737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2E15138E-113B-4498-A627-CD7391C2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49D6C04-73C5-45A4-9421-1E6ADC94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6C69523-7776-4ECC-BD45-BD962BD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6ACE1A5-883E-437B-BDA4-43BA548A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816FDCB-3F16-4DF2-BE6C-559DC806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127245D-049C-4BC1-807B-2B476F40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475675F-CAA5-490D-BC20-85907328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F0EA7DD-9C4B-4557-B913-B68CFBD7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4BF8EEC-8E64-4D06-84D9-68C7D604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811D575-E84A-4A5B-B255-3A25FCDA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E44E-4680-4EB0-B791-BB017121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F0B67-6D0A-4D02-9D2C-4F63A2A1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6393D86-23D3-495C-AD9F-33FE1162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97B87F-D414-4CA1-933E-8CEABEC2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E27C350-AE5D-44DB-B8AC-8ED1F36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103151-7C4F-422C-B22C-58371C63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91F350A-F70A-4CCE-8684-CBCE2E31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3EFE8E49-83AC-43DA-B447-7ACE88F1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3702107-8956-48BF-8B9B-6FEEBA6A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414D798-9241-4E01-BBA4-2BC67F0D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3B51997-7EF9-42C4-B499-CB8CCC9F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CFF7648-2B83-40F7-8849-8D40DD05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0721-F204-4CD4-9915-95F04D81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46DAE52-14B6-4803-B6B0-6D2CD14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F061847-EC3A-4053-A270-11666510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F5F31D4-39B9-4BA2-8B5D-6235C5C4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7902817-4B50-4574-B10C-B009EF3F9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283D7CA-67E5-4772-A990-F1C72BD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340531B-AB40-4CCA-897A-A605BBB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D948600-3D3D-4C33-8334-17EC9D2B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14AECEE-2238-4084-A64F-62F5FFD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A5E4104-7D2C-4EEE-9656-75BEC5E1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BC02366-2D35-421E-904A-D28B030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E6B0E-106A-4371-9BD1-9A57DF81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DE0BA12-5C50-404B-AF8D-F78D5F08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E7DECB1-7CAB-4A7C-9A6C-352DF059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142C87C-EA0D-4918-BD8D-E6BF269A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6CFDD51-8DCD-4347-9553-73EEA813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8896678-7060-4679-8B6A-FF1F8603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7B18738-4AD3-48CB-BEE2-91788EE8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B9DF30B-BEEC-46DA-967E-BD199DC8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B97025-5423-447F-8D64-EE808718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C797E21-4890-4CFD-AC4B-F2646154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525F61A-1430-4098-942E-9450D8E6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8AAE-0F30-4FD3-8204-7A21C7D3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9853AF6-4AA8-443C-80C5-1F30571A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F80018C2-DF8E-4D50-B5E1-B00C493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A82A88-823C-418A-A249-D33657AD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05C7984-2EE2-47EE-8262-E7B9440E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F51EC23-70AE-4541-A717-B3365CC3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9543DCE-5AB9-4327-A075-E79CD7DD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DAF06C-141B-4FEA-9141-9117CAC0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F1AC6FB-6077-4F04-9972-51F6DB05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35A49E6-3D1D-4F9C-A96B-01A02AC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083D27B1-E77F-4E42-ABF8-65F5548B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3A1FF-D67C-4526-AEFB-86C46E12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1D0203F-AF63-4CF8-B569-91790F5B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8C975B4-A806-4EE6-98EF-F2E551D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A5D1785-51A1-4FA8-98B3-2A9DCAE5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82E73D4-A67E-4839-8CA4-D51E1B76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EEF6707-C3B2-4E5F-9FD2-58A3AC98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374795F-6377-459A-A1D1-5778CFC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A949FFA-E940-4698-A3FF-28F1B2F0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8AC404D-4653-40B9-8B2D-2CF95751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C3E8634-AF88-4F09-BBF2-DBEBF93B7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9F9E0D3-8B87-4528-82D7-3048FFADA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3E687-A1A1-40BB-A1ED-7B1B0BF6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F1E0F97-15AA-4DEE-AC51-180A5940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3EBA5EB-B0F7-4B38-A643-D488EA93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D4A32BD-23C5-48BE-9095-08A1EB54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3EC824D-C90E-4A3C-8A66-F0865B69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53FF1F3-C717-41D9-98A7-C8CD197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6166319-B960-443D-8059-9F11A1A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01B15F2-21A0-442D-A570-B569713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65667AC-FA19-4777-BFD6-B825C4DC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7A3D14-8E40-476C-8388-FC61F3FF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5033FE2-8941-4EC1-8752-A587CF2B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DA9F5-A1D3-4E1F-825D-B6C0601F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6D33718-2DC1-4D5D-AA3A-B7780F1B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A11A83C-B75A-4789-AC3E-D45CEFAF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9719349-1245-4CDD-8045-BD680ABC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9E92161-31D9-4916-81D4-CBF3C23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2B10DC-3039-496A-BD04-1CCBE094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0BCA098-FB9B-4D81-AC3C-FA8E34AD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C26B151-912E-48D9-8CFF-E79E805C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101BACD-A8C4-45F1-BB78-DBFD0EB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43DBF4B-E2D6-405D-8139-48FB16C9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D94F1CD-545B-4EB2-83E8-0EC11769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E9ACB-5851-4E27-BB8C-3E2BB390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E2ADECB-78FB-41CD-911E-5BB7A0A6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7D6D674C-764B-4E0B-9912-6EF41C8C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2A97411-FC24-4FF1-A22D-83D0D924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1159D3E-C466-480F-9DB5-9558174D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25998B2-599A-4C2A-89E5-C771CC0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C04EACC-BBA4-43D6-B849-8134511A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9E7588E-FBEB-4AB1-9214-1DF3E78F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75C4078-E724-43E8-8608-F6C9B66E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67C9411-4DF3-4F8B-A84A-A6870411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EFF1F5F-6B47-455A-9792-C7ABEBFB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58586-C84E-4F3A-AED9-E0C80B3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D60E23D-CF07-44DC-B33C-43B1298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03224D9-D51C-4DD0-99E4-A1C09A7C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002372E-E45D-4A12-8731-E5697E2F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3FB67963-FCDA-400A-97F0-7CE4548D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DBF91E7-91DF-4175-8AB8-0BC00D96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7D7D951-D019-45FC-B23C-1679067D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9056944-5FE2-46B6-B26A-D0A82F41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A9A73CB3-7188-4826-B07A-1CF96A8D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AFF6BDF-5DCB-42BB-AC11-598B5ED1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506BCE02-083B-4BDF-90D6-04E14F89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0944-03E6-4FF0-8461-52FFFFA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EC3CA666-0784-4A16-81B2-7D1CAE2B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CEDDF3A-8EBE-46BC-BC25-40F227F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10B3FE8-9E5B-4FB4-9781-3EFD1F2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3F07E19-EDF7-4A51-8A0A-7BFEF68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07604E3-6B2A-4E83-8EE7-BA2DD85B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F189DE6F-5F7C-481F-958F-0FF2F7F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79CBDEA-D31D-4C2A-B9C8-51509B72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271E5D2-846D-4841-AFFC-7367950C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11DB1B9B-B4DB-40F2-B3C6-DC9AA6B6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8DB0CE-FA91-49A9-9209-B9104F7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248-9CEC-4AA4-9852-894FA29F2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F013-A6BA-4708-9A13-AEA7DCCF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F2B3BC0-4090-43E5-9DC8-E281B5A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FA45555-CB14-48C5-BFA9-AB18E9E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9CE634C-11C3-4460-8846-80E8E1DA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FF52116C-6BD1-498F-9F47-C2CC8E9D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08B5EF1-DABC-45BE-9D82-AA8E3997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773476A-CF5E-4390-89E8-CA78BA68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00EF7D4-F00A-4451-9A42-B0AF7C5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C021AE-4A43-4C10-BF44-EC59EC2A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47284B8-73AC-4508-A1AF-4934008D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1BAA11E-A192-43BE-9AFD-B6DDD9B04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ACAAB-22DC-490B-ACC1-9FF587BF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3C5FEF25-77E0-4E7F-A988-150285AC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20F69FB-B061-4B0D-84BB-270732A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3B973B4-01BA-4F0B-B39E-0B0B1963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20BDB80-00C3-4ECB-A295-4E214852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3002CF3-4C61-4A50-9555-481BC72C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BE80583-CE70-4BA6-A9C2-C305AC74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8DC3CD9D-D29C-4E03-90F3-3EE40C2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F5D3341D-15DA-4C4B-9363-1AE37D5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A7798E44-5F97-49C9-AB76-0F6A54F3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8446AE4-784A-4F93-BCAF-3B989794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9C127-F166-4F1B-9257-BA86B79A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9EAF8B0-CBCA-4D69-B53C-4069FE12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508C007-166F-4D60-BACE-9D671984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61FCA82-4073-4B34-A70D-A5679A0B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32EFA93-88F2-4E5F-A8DB-8F5DC3E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9EAED84-8347-4D23-8A60-F89AFCD8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A735E36E-5E28-4040-9540-A404F24C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FDC4EF6-6C83-4DE7-820C-A86C60F9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4C08061-CC16-4335-AC99-29C2869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06DEC0EE-3E53-4D87-9D11-12B9C262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19D06113-8AA0-490C-A170-952E740A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B87B4-B44C-471B-8005-3D470CC6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2B68EAEA-8A2C-4CCE-B5B8-E1FBC2C5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0B95597-43F5-432A-90E1-CA710E4C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505693B-82FF-4F18-BC45-825FF340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FBB28BB-0AAD-4231-8395-8A385B1F0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A0B46F4-F0B4-4193-8612-3F1689F7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9E39536-9A34-4BD5-84E8-E689499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D0BBB24-25C6-4128-9EA5-465E34B4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4E6958B0-1DF6-4CCD-ADC7-4AF860B9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36AED93B-E4BA-496E-8221-D7045523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D1DAB38-8BCA-44D7-94FD-3E88F312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BF583-2585-43B6-849F-631F5E3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88C50B2F-BCD2-42D6-B98F-21EBACA3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42CF0A5-ABC2-4230-9C9F-6637D39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5187A12-07C8-4EAA-AE74-6FC3B6C3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891F3B6-20BA-4A7F-98FC-5881811CA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17FE2615-CB65-42C1-ABDA-2A4137BC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DC90E35-61A6-4F59-AA69-BD7A9669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57F6EE39-B2A7-4796-B268-A5969ECC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192C86C-E4CD-45AD-A324-7105183F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6F46C4F-87C3-47E9-B938-966A435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EAAA32B8-BF90-43B6-9196-19B9068D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B8E83-A942-4DAA-BA35-B1E20A04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7D53007-362C-4AE2-9005-C3FE339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B669A40-5AEF-40D0-BBF9-0EEC86C2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6BFFA5B-D1D1-4838-BD9E-42161E65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904B962-987F-4EE6-AF7A-D3C3DF81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F172377-09F0-4949-90A3-2C95CF0F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206FF37-EF89-4AC3-B63C-280CCEE9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34DF87C-1083-4F74-8D0A-59598F76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68F34E9-49A9-4287-B12C-3B442EA4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DE41169-5A39-408C-ABCA-316E6DC6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DCAC0DDD-0406-4F61-AD0F-864BAB8A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FD8AD-3183-48DC-82FF-12905923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B433DE50-C100-43D7-8B1A-794581F7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CC1499F8-99E1-42E6-AA45-F56EB486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3EEAA236-9561-4EC0-930A-DC823351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E5F800A-3BC4-4A81-9265-2E48A92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6810E76-D765-4155-9249-06476EA3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7E1B190-FA21-45C5-B817-0A4FCADF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3B496AC-2B3B-475E-BE59-C394FEF4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3D6FCAE-AF0B-4E57-A4AA-D005990D9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1DF06FF-51AB-44E8-A17C-7DAE1A912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D236A8E-344C-41E1-8085-C0F35FF7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D29F-A57C-4A95-B447-F6AD0FFC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7760E0-6A7F-4FBE-A5B4-DD1A2AF5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5808394-1AC1-4C54-BBC0-F0F8C4E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01A0800-1423-448C-84F0-700733AC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D09C2F3-D05A-4196-8448-85B72A75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4AF4680-9B9B-491B-83B8-DF5C85A7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F3F98CD-DAD6-46AE-8329-68E8C377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347E6380-F0FB-4DBB-9440-FE48AA81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B926C41-33F7-417C-BD37-700E91F5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464195FA-F561-4E5E-8996-37DA0792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CAA0922-8CEF-4265-A496-F7F86FFA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1F875-DB83-4DDC-B026-E09C3429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558B74F-B6F9-473B-800F-FA61D5D0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FE6BB4D-3547-4727-A5BC-10E16163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D9ACD44-95DD-4584-ACD6-E32AC991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23C25E2-760A-454A-BD75-FEA29537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6095481-4CA2-4A15-B814-27AF1972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D30803B8-806B-4754-B41D-C4F1FF12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24349DA-2D16-4A64-A0FF-116CDE40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B7BF116-500E-4AE8-964B-9AB4A0A2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08A3489-3C30-497C-8DC4-44059068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443A3304-0228-46A9-9482-00329F98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FE79-7B77-4A78-A380-3F94381C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0A9280A-ABEB-4579-9A61-3B445419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EECAE16B-2D81-49CE-A0D3-7288578BE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44FC578-891B-4BF7-8273-D41E82F1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2434BAB-F229-4D1D-B78A-5AF07819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AF8231B-22F0-417E-8288-BFB4AE9EA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F63D67F-82FF-4BF9-831D-554C1E95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FE5DD2BD-3DCE-43FC-81B8-DF0972C1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EEA6BA2-00A1-4553-8A9B-E6F4BF39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05A7D56B-4679-4EED-AAFA-B58DC750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582D7109-43F9-45F4-9AFE-51A9AFE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487-78E7-4BDE-8894-BC776AAE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8D034-88E7-4FC6-8577-63E6F757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02F3EC0-774D-4004-9158-BFF73CAE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659450FD-B332-4309-9F29-E9F795ED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B33907-D429-4A5B-B8E2-1F4EB99F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F35EBDE-23B9-4D7F-9F0B-110987E9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B6583FCF-46A6-4B54-8A99-9FB81B10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9980426-99B9-435C-A947-2AED333F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9AC0B58-34F2-4CF0-8E49-E1165912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852BF891-C5E3-42D3-A310-1B367FD7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7F0DB989-3DD8-494E-9F0E-3F83F8EBD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F1F80329-16D1-4FD2-BBE5-7EB6381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585BC-B2E8-45A5-9845-33BE808F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6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0104277-40A4-47ED-93AE-D4DC5899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F05FE2E-9727-4E65-9008-8660E09A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DD7C151-57A5-4AD8-9BEF-7E447E70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82E4CBA-A5EB-4499-B870-F301D276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4DB9DFEB-FA87-4332-ACC3-C8536B6A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BE35F318-8DB6-4C0C-81C7-7760BBAE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2C068E6-0471-417E-B416-DCCD9B604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BB1E38BB-F30E-4D2D-8755-BF79B658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E14E881-6D10-4BA4-983B-C6532184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FE3659D2-AAD9-4B13-905F-504F6C0F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6725-2EC7-404B-A8E1-D8F3DF30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A23044F-A5F2-47D7-8804-75E858D8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1581714-0C1E-4F5B-AB89-3BDCB44B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E06CBC12-D146-44D7-B448-A7556D71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4335ABDE-26A5-4831-80FE-1BCBCE56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AD118680-2E58-459D-B9AB-C0F1D75F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673A56BD-7221-4316-881D-5276349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74B0FE53-0E56-4E88-8734-E14C2EDB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3B44C6B0-96C5-4C6C-9DC4-B6472FD5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7"/>
          </p:nvPr>
        </p:nvSpPr>
        <p:spPr/>
        <p:txBody>
          <a:bodyPr/>
          <a:p>
            <a:fld id="{CDC67381-79D9-45AB-A4D8-92AD8B3A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B4A6DD3-C9D8-4655-897D-B51D3913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43A69-22E3-467B-B98B-77E1A5C0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FA71FC34-76C3-432D-AE2C-A6A2272A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0DAB1F8-96EB-4574-8F76-BAD1FFA0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1F9B5D31-B790-4225-99A8-EF39E906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6C62898C-3BAD-4A0C-929E-40D03628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B199000-17E7-4BA7-910D-BF858F7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DEBFDAA0-F228-4EC9-A2DF-4DE726E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5B815406-EBF0-4988-AC06-74BEC1A3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8E799DC8-6304-4BB6-A66D-EADE835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37666D7C-ABFF-4148-A13D-3C16E439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44B60BEB-AF35-49E2-91E5-BF43EFC1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474A-5767-4AF8-BD8D-44B663B8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0"/>
          </p:nvPr>
        </p:nvSpPr>
        <p:spPr/>
        <p:txBody>
          <a:bodyPr/>
          <a:p>
            <a:fld id="{C7BA214D-0A45-4343-A7B2-B84D016C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425A406-D509-4FDD-84DC-212DA4E65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7991A4D6-BADF-4B14-B814-CC490AC1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66B9AFF7-7739-446F-A545-19BDC164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080A426F-DFFA-4F20-88B5-A1279D3C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936A079-3883-4C48-B038-766495C3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314885F1-8171-46AD-8252-C49212A40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98E168E7-B0C4-4EE2-909B-CFA5A658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BA30594F-E325-499C-BFF9-59282ACA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9990ABA-0B60-4B41-9347-7A988D42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CD04-8AC3-4932-AFCC-7462D595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4478CC62-48E1-4F40-9B06-F7ED35BA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5B706220-8BDD-4A50-9C8F-67DEFFED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3"/>
          </p:nvPr>
        </p:nvSpPr>
        <p:spPr/>
        <p:txBody>
          <a:bodyPr/>
          <a:p>
            <a:fld id="{1D8F8A2E-B5C9-4202-938E-B7B5C3AD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20A226C-30BE-47E6-993B-EDFE3A31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DF8744B-5153-4BDC-9E8B-082218B3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966DD630-68B3-44DD-B243-CD1EC32A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607377F9-7DDA-4E81-A377-66348C01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21F6B36-EC4D-4146-B70C-C7C9751F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1132FE30-5A49-44C2-A718-71D9AA4F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AB8A503F-74AB-4EDF-8FFD-5E20DFD4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D455C-6EEF-4243-86A5-5A77FB21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F12D65CB-3532-4D02-9E14-FADE2FC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B7E37E3-1D79-4427-9B90-78857BC3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4B81E267-BBDB-4747-9306-453AC37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80E74450-42AB-4353-A2B1-E37C5644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6"/>
          </p:nvPr>
        </p:nvSpPr>
        <p:spPr/>
        <p:txBody>
          <a:bodyPr/>
          <a:p>
            <a:fld id="{717AFDB4-AAB7-4604-83BC-4CA6039C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B4C3ED39-F835-44D6-8BEC-B1233912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D434C2CE-713A-4C8B-83B1-0B9EA6E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E563E51-C11C-4ACF-8752-FF1D824D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55AC2D6-BF4B-429D-B0AE-3E228632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A55FDCE6-3FE6-4839-87AC-7FD531F3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E8E0D-BDC6-4E49-A7DD-729859A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9DC8F40-9713-45F7-941D-AA4A10F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31106926-47FD-4A5E-B899-A748F46C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E8F21A9F-39CA-4A6A-807F-B8989712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0CE7EEF7-BBB2-47BA-92A7-09FD7419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596BA56F-CA20-4F8E-A197-3445B5C7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47D16DC4-B482-4374-8E3D-F85DAEFA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9"/>
          </p:nvPr>
        </p:nvSpPr>
        <p:spPr/>
        <p:txBody>
          <a:bodyPr/>
          <a:p>
            <a:fld id="{6D42C054-AB34-4D8C-A7EE-616B95007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A8329D1-2174-4DDD-8CDB-4F3443514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6C4121BA-E05C-40EA-BD76-6B72934D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51FF044-49EF-4B58-8931-D8693FEF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4631-EFC2-41AD-BF4E-AAC8FC5C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D50FE694-C3B0-42B1-B00A-935553DD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8A80957-69BB-4EE0-98DF-622A424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A48BF686-BE95-4CAC-8076-BC5D138D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14CBAE86-AFA5-4727-8507-9DFC2080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38E899B2-E0DD-4313-BAE8-90D70BE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B19F04B1-DEF9-4F93-BD0E-6EB8A4CE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C67E8A48-50AE-4D96-8056-B9318853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9B094BA9-86AD-4229-8D8F-FE53E4EC3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2"/>
          </p:nvPr>
        </p:nvSpPr>
        <p:spPr/>
        <p:txBody>
          <a:bodyPr/>
          <a:p>
            <a:fld id="{0BB4BA95-DB35-445A-951D-B7DB0B90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610CDDA0-FCE9-4CDF-826B-5156772A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1CFFE-5993-470F-8DD0-CEE2F442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D6ECA23A-FA1B-4937-825A-8CACCBFB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BF5AC6F-07FC-4780-A2C8-B9A5EBEE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E3E032EA-D2CC-42C4-9F2B-D78B9104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58D5199-F5D5-4AFC-8374-D89E0F58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133A2AFA-1A17-4DA0-9ABB-7CA86984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69EC96B-3ACC-440B-8814-1A5DF94B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C85CA8A8-1AFA-4A84-B70F-9152D743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AF13D5F7-C6A4-41B1-998A-2416A07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972DC25F-354D-4CEA-9F12-3187D4AD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BECF2DEA-DF10-4946-809D-A2F60423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6FF-9CA0-44E5-8846-EC24AA9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CCECE-F29C-44AA-8EF4-4F05B3BB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5"/>
          </p:nvPr>
        </p:nvSpPr>
        <p:spPr/>
        <p:txBody>
          <a:bodyPr/>
          <a:p>
            <a:fld id="{72793A23-68BF-424D-B901-25386047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26A868A5-6627-419C-BD0B-34D3D9C67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F98148D-709F-4200-9C08-88D2BEE1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B1232F8-37F0-40CC-A701-D5547531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F3699D7-3CD7-4BAB-8AD1-867110CA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6376198-6E32-4CF4-8DB0-B7ABE360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1699C53B-AAF1-4A3D-9278-B9C6E4E5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96B8C5BE-DD41-42DD-9FB9-8D56502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0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81087C77-4DB4-4A3B-84B2-1B5E8D2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A5286783-54F0-481E-ABE6-82C135E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91B6B-D718-46A9-B701-67FEFE4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C546A858-CF2C-44A5-8F3D-EB0CFD4F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2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BD9F3E72-C16A-44D0-9026-B2EF9EC2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6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7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8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9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8"/>
          </p:nvPr>
        </p:nvSpPr>
        <p:spPr/>
        <p:txBody>
          <a:bodyPr/>
          <a:p>
            <a:fld id="{4205A3F4-F647-49B7-9F6E-61CF7D4F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9998F92-FB92-4D1C-A1EA-FDEF818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5CF884DE-17EB-4848-A3C6-6881E94C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4429DA7-9AED-4183-8F52-46F8C166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F0AB87A-AA44-46AC-80ED-097FDF88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797E6DC4-9E6F-45BA-BFCD-883FAFFD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4814257-ECD2-4FAF-9F9A-121080648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3EBA6BB9-82E1-42C0-80A0-F8B70835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EA3E0-6220-4A93-92FF-5E154021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3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B2DA26CE-6705-419C-B884-86990765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4B7FDE4C-9E5D-48F2-A581-67268F51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0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2B76E9F3-F4A3-45A4-8DC1-1EA7DE69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5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19D3BF1B-0CAB-4411-9FD8-6719C6A4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8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9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0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1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2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1"/>
          </p:nvPr>
        </p:nvSpPr>
        <p:spPr/>
        <p:txBody>
          <a:bodyPr/>
          <a:p>
            <a:fld id="{680E48AB-7153-4175-86ED-84B32D59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12405D8-78BC-4B94-9EE1-E13C2384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1A7F4B-832F-4663-BBC7-159E97C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E9D5AE34-6252-40B5-B3B0-CFEDC81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903D00EB-5C60-43AA-824A-F5156680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8EACCE7A-989B-4A40-8103-01297317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38063-11CA-4231-8707-E7E3B90B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0AF19E8E-E13D-45AC-B53B-2025996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46DFF04-9386-4B98-BDAD-165FFC7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ADA4693-E4BE-4207-9103-53C05620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F470BBD2-3BC5-4AA8-9889-39956C63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CB728E4C-BC67-4978-88B4-6F3FC338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8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2EC77512-DB0A-4900-9DD4-0045537E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3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4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5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4"/>
          </p:nvPr>
        </p:nvSpPr>
        <p:spPr/>
        <p:txBody>
          <a:bodyPr/>
          <a:p>
            <a:fld id="{61D0DBA4-9C1F-4827-A65A-496C267AA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EC8796C-70A3-4A16-8B10-8B53710E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4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4FBB5BBD-A0E2-49FA-892B-69B1815C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A7C394E-1F23-4A3D-986D-41193BE0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2EFEF-7421-4E42-9865-0799C09C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34B56DB2-2E5D-4F61-AEA6-45C2933D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A119518B-913F-4E3A-B80C-DD4CE11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1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0D1C521C-5C12-43B5-B47B-033D12FB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5DD61E82-3820-4466-B1E9-62BBFDE6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64A18C04-B6B2-49D2-A4E5-7127B652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48B66A5-FB25-4267-85E2-488D4CAD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6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B82F64D2-A89F-43D6-B086-B561C24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9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0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1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C9851960-22A2-4A11-9F11-3E9FA6970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4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5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6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7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8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7"/>
          </p:nvPr>
        </p:nvSpPr>
        <p:spPr/>
        <p:txBody>
          <a:bodyPr/>
          <a:p>
            <a:fld id="{806254E3-6206-44CA-9F9D-030D3C74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43D665E-C346-423B-808F-FFAF6EF2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503C1-8DDD-43B6-898B-5A440635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D5E5549-2F17-4C3C-8441-08A49FBC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1B3AE24-C46F-4582-8AE0-B0E33C37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5434E89-7E91-4F0D-A8F5-FD174FEB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3DDD0E64-821F-4232-9470-42F6BC10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0F5CA029-FC02-4627-982C-798D7A2C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D6239BFD-1742-4332-9926-511488B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866395CA-A265-4DD3-973C-2B969E0A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A52575AC-798D-4652-B9DE-8C14F86F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C6A6A25D-3720-4450-801E-52A99A40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3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4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13770840-BDAC-4412-B10F-7ABB5BD3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F6068-C351-452B-9A8F-1C000E32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0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1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0"/>
          </p:nvPr>
        </p:nvSpPr>
        <p:spPr/>
        <p:txBody>
          <a:bodyPr/>
          <a:p>
            <a:fld id="{41951D8B-CD89-4F0B-8765-AF9CC7F4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2699D5F-7517-4C99-B1AC-2A38AA40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688484F-52DA-4120-96B4-86DBB41A8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92B5678-4DAE-4BF6-A2C8-4B591E2D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180E80C1-4E01-4941-8085-69144D82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A8EE5A45-BF66-4216-8871-B36EDBEC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F34F31A6-636E-4592-B787-231A82B5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B1C2CB-D04A-44FE-9EB8-1CB93C9D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5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41A8D0CE-7E90-45D2-95F2-FB4BF55B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C6B321F4-C7B1-49FB-81DA-00B6AA30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224C-0528-426A-A86B-397FFFE0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2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5A09F828-704D-4CAD-9B8D-4FF9D86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5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6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7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67E1A5E7-D2A4-4039-AE91-81C4BDB1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0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1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2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3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4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3"/>
          </p:nvPr>
        </p:nvSpPr>
        <p:spPr/>
        <p:txBody>
          <a:bodyPr/>
          <a:p>
            <a:fld id="{856FD42F-94FF-4175-912A-8DF7235E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41D63B1E-BAB4-4871-A2C8-352B9F968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645BAE-0614-4A2F-A85D-85EB3F89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43B1C12-00E7-419B-B3A9-B41C4796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CE83C88C-3051-476F-A331-D51BBEC4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3D177BF-56E8-4CA0-A25F-46AEF99E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0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FE0E3A31-77D6-4D45-B552-D237982C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9C4E9394-C266-4210-B910-A414C8F8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1CEAB-E4CE-4701-BAF9-9E5E0C11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8642CBDC-E7D6-4F2C-8524-C1DF5E5F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500709BD-1D50-44D1-B7C0-259C4350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B5B0D5A3-A106-439E-912F-165667225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8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9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0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0B174DAB-27F3-40EF-9B98-D758FB14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5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6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7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6"/>
          </p:nvPr>
        </p:nvSpPr>
        <p:spPr/>
        <p:txBody>
          <a:bodyPr/>
          <a:p>
            <a:fld id="{269D634B-0B24-476B-BF2D-F1A5A48B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753F063-0420-4F34-BC0F-CCC4A2565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6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E806797F-7109-433B-8EAC-8AC5EB4D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8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614EC90-BD36-459E-A0F7-5E913BBB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803D1CE4-B907-4C41-A5BA-1FC387A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044B870A-90A6-4FF0-AFEE-BA840A7C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E4777-7E86-421F-9417-DF509492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ubTitle"/>
          </p:nvPr>
        </p:nvSpPr>
        <p:spPr>
          <a:xfrm>
            <a:off x="685800" y="619200"/>
            <a:ext cx="777240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19210B09-C00C-429A-9295-D66CD5E4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6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7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AF0105E3-C2A1-4299-B5F6-8E9C75EF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9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0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1" name="PlaceHolder 4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908CA189-E1DF-4659-AC03-B7E32101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3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4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5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DB57D709-D951-4E32-9231-29047681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7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8" name="PlaceHolder 3"/>
          <p:cNvSpPr>
            <a:spLocks noGrp="1"/>
          </p:cNvSpPr>
          <p:nvPr>
            <p:ph/>
          </p:nvPr>
        </p:nvSpPr>
        <p:spPr>
          <a:xfrm>
            <a:off x="685800" y="4155840"/>
            <a:ext cx="77724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3D8B5DFD-A2DF-442A-8D34-FA0CBE90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0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1" name="PlaceHolder 3"/>
          <p:cNvSpPr>
            <a:spLocks noGrp="1"/>
          </p:cNvSpPr>
          <p:nvPr>
            <p:ph/>
          </p:nvPr>
        </p:nvSpPr>
        <p:spPr>
          <a:xfrm>
            <a:off x="4668480" y="236700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2" name="PlaceHolder 4"/>
          <p:cNvSpPr>
            <a:spLocks noGrp="1"/>
          </p:cNvSpPr>
          <p:nvPr>
            <p:ph/>
          </p:nvPr>
        </p:nvSpPr>
        <p:spPr>
          <a:xfrm>
            <a:off x="68580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3" name="PlaceHolder 5"/>
          <p:cNvSpPr>
            <a:spLocks noGrp="1"/>
          </p:cNvSpPr>
          <p:nvPr>
            <p:ph/>
          </p:nvPr>
        </p:nvSpPr>
        <p:spPr>
          <a:xfrm>
            <a:off x="4668480" y="4155840"/>
            <a:ext cx="379260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502373D4-E34C-472D-A868-8680B82E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5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6" name="PlaceHolder 3"/>
          <p:cNvSpPr>
            <a:spLocks noGrp="1"/>
          </p:cNvSpPr>
          <p:nvPr>
            <p:ph/>
          </p:nvPr>
        </p:nvSpPr>
        <p:spPr>
          <a:xfrm>
            <a:off x="331380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7" name="PlaceHolder 4"/>
          <p:cNvSpPr>
            <a:spLocks noGrp="1"/>
          </p:cNvSpPr>
          <p:nvPr>
            <p:ph/>
          </p:nvPr>
        </p:nvSpPr>
        <p:spPr>
          <a:xfrm>
            <a:off x="5941440" y="236700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8" name="PlaceHolder 5"/>
          <p:cNvSpPr>
            <a:spLocks noGrp="1"/>
          </p:cNvSpPr>
          <p:nvPr>
            <p:ph/>
          </p:nvPr>
        </p:nvSpPr>
        <p:spPr>
          <a:xfrm>
            <a:off x="685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9" name="PlaceHolder 6"/>
          <p:cNvSpPr>
            <a:spLocks noGrp="1"/>
          </p:cNvSpPr>
          <p:nvPr>
            <p:ph/>
          </p:nvPr>
        </p:nvSpPr>
        <p:spPr>
          <a:xfrm>
            <a:off x="331380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0" name="PlaceHolder 7"/>
          <p:cNvSpPr>
            <a:spLocks noGrp="1"/>
          </p:cNvSpPr>
          <p:nvPr>
            <p:ph/>
          </p:nvPr>
        </p:nvSpPr>
        <p:spPr>
          <a:xfrm>
            <a:off x="5941440" y="4155840"/>
            <a:ext cx="250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9"/>
          </p:nvPr>
        </p:nvSpPr>
        <p:spPr/>
        <p:txBody>
          <a:bodyPr/>
          <a:p>
            <a:fld id="{708C0FA2-970F-4926-BFF0-776BCB16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1EADB012-7EA1-4A14-9B5C-180FF8EA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9" name="PlaceHolder 2"/>
          <p:cNvSpPr>
            <a:spLocks noGrp="1"/>
          </p:cNvSpPr>
          <p:nvPr>
            <p:ph type="subTitle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E914D4C3-90F1-4CE5-B530-AC9C42CD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1" name="PlaceHolder 2"/>
          <p:cNvSpPr>
            <a:spLocks noGrp="1"/>
          </p:cNvSpPr>
          <p:nvPr>
            <p:ph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2"/>
          </p:nvPr>
        </p:nvSpPr>
        <p:spPr/>
        <p:txBody>
          <a:bodyPr/>
          <a:p>
            <a:fld id="{24062577-F236-4495-A252-010FAC41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89.xml"/><Relationship Id="rId5" Type="http://schemas.openxmlformats.org/officeDocument/2006/relationships/slideLayout" Target="../slideLayouts/slideLayout1190.xml"/><Relationship Id="rId6" Type="http://schemas.openxmlformats.org/officeDocument/2006/relationships/slideLayout" Target="../slideLayouts/slideLayout1191.xml"/><Relationship Id="rId7" Type="http://schemas.openxmlformats.org/officeDocument/2006/relationships/slideLayout" Target="../slideLayouts/slideLayout1192.xml"/><Relationship Id="rId8" Type="http://schemas.openxmlformats.org/officeDocument/2006/relationships/slideLayout" Target="../slideLayouts/slideLayout1193.xml"/><Relationship Id="rId9" Type="http://schemas.openxmlformats.org/officeDocument/2006/relationships/slideLayout" Target="../slideLayouts/slideLayout1194.xml"/><Relationship Id="rId10" Type="http://schemas.openxmlformats.org/officeDocument/2006/relationships/slideLayout" Target="../slideLayouts/slideLayout1195.xml"/><Relationship Id="rId11" Type="http://schemas.openxmlformats.org/officeDocument/2006/relationships/slideLayout" Target="../slideLayouts/slideLayout1196.xml"/><Relationship Id="rId12" Type="http://schemas.openxmlformats.org/officeDocument/2006/relationships/slideLayout" Target="../slideLayouts/slideLayout1197.xml"/><Relationship Id="rId13" Type="http://schemas.openxmlformats.org/officeDocument/2006/relationships/slideLayout" Target="../slideLayouts/slideLayout1198.xml"/><Relationship Id="rId14" Type="http://schemas.openxmlformats.org/officeDocument/2006/relationships/slideLayout" Target="../slideLayouts/slideLayout1199.xml"/><Relationship Id="rId15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01.xml"/><Relationship Id="rId5" Type="http://schemas.openxmlformats.org/officeDocument/2006/relationships/slideLayout" Target="../slideLayouts/slideLayout1202.xml"/><Relationship Id="rId6" Type="http://schemas.openxmlformats.org/officeDocument/2006/relationships/slideLayout" Target="../slideLayouts/slideLayout1203.xml"/><Relationship Id="rId7" Type="http://schemas.openxmlformats.org/officeDocument/2006/relationships/slideLayout" Target="../slideLayouts/slideLayout1204.xml"/><Relationship Id="rId8" Type="http://schemas.openxmlformats.org/officeDocument/2006/relationships/slideLayout" Target="../slideLayouts/slideLayout1205.xml"/><Relationship Id="rId9" Type="http://schemas.openxmlformats.org/officeDocument/2006/relationships/slideLayout" Target="../slideLayouts/slideLayout1206.xml"/><Relationship Id="rId10" Type="http://schemas.openxmlformats.org/officeDocument/2006/relationships/slideLayout" Target="../slideLayouts/slideLayout1207.xml"/><Relationship Id="rId11" Type="http://schemas.openxmlformats.org/officeDocument/2006/relationships/slideLayout" Target="../slideLayouts/slideLayout1208.xml"/><Relationship Id="rId12" Type="http://schemas.openxmlformats.org/officeDocument/2006/relationships/slideLayout" Target="../slideLayouts/slideLayout1209.xml"/><Relationship Id="rId13" Type="http://schemas.openxmlformats.org/officeDocument/2006/relationships/slideLayout" Target="../slideLayouts/slideLayout1210.xml"/><Relationship Id="rId14" Type="http://schemas.openxmlformats.org/officeDocument/2006/relationships/slideLayout" Target="../slideLayouts/slideLayout1211.xml"/><Relationship Id="rId15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3.xml"/><Relationship Id="rId5" Type="http://schemas.openxmlformats.org/officeDocument/2006/relationships/slideLayout" Target="../slideLayouts/slideLayout1214.xml"/><Relationship Id="rId6" Type="http://schemas.openxmlformats.org/officeDocument/2006/relationships/slideLayout" Target="../slideLayouts/slideLayout1215.xml"/><Relationship Id="rId7" Type="http://schemas.openxmlformats.org/officeDocument/2006/relationships/slideLayout" Target="../slideLayouts/slideLayout1216.xml"/><Relationship Id="rId8" Type="http://schemas.openxmlformats.org/officeDocument/2006/relationships/slideLayout" Target="../slideLayouts/slideLayout1217.xml"/><Relationship Id="rId9" Type="http://schemas.openxmlformats.org/officeDocument/2006/relationships/slideLayout" Target="../slideLayouts/slideLayout1218.xml"/><Relationship Id="rId10" Type="http://schemas.openxmlformats.org/officeDocument/2006/relationships/slideLayout" Target="../slideLayouts/slideLayout1219.xml"/><Relationship Id="rId11" Type="http://schemas.openxmlformats.org/officeDocument/2006/relationships/slideLayout" Target="../slideLayouts/slideLayout1220.xml"/><Relationship Id="rId12" Type="http://schemas.openxmlformats.org/officeDocument/2006/relationships/slideLayout" Target="../slideLayouts/slideLayout1221.xml"/><Relationship Id="rId13" Type="http://schemas.openxmlformats.org/officeDocument/2006/relationships/slideLayout" Target="../slideLayouts/slideLayout1222.xml"/><Relationship Id="rId14" Type="http://schemas.openxmlformats.org/officeDocument/2006/relationships/slideLayout" Target="../slideLayouts/slideLayout1223.xml"/><Relationship Id="rId15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25.xml"/><Relationship Id="rId5" Type="http://schemas.openxmlformats.org/officeDocument/2006/relationships/slideLayout" Target="../slideLayouts/slideLayout1226.xml"/><Relationship Id="rId6" Type="http://schemas.openxmlformats.org/officeDocument/2006/relationships/slideLayout" Target="../slideLayouts/slideLayout1227.xml"/><Relationship Id="rId7" Type="http://schemas.openxmlformats.org/officeDocument/2006/relationships/slideLayout" Target="../slideLayouts/slideLayout1228.xml"/><Relationship Id="rId8" Type="http://schemas.openxmlformats.org/officeDocument/2006/relationships/slideLayout" Target="../slideLayouts/slideLayout1229.xml"/><Relationship Id="rId9" Type="http://schemas.openxmlformats.org/officeDocument/2006/relationships/slideLayout" Target="../slideLayouts/slideLayout1230.xml"/><Relationship Id="rId10" Type="http://schemas.openxmlformats.org/officeDocument/2006/relationships/slideLayout" Target="../slideLayouts/slideLayout1231.xml"/><Relationship Id="rId11" Type="http://schemas.openxmlformats.org/officeDocument/2006/relationships/slideLayout" Target="../slideLayouts/slideLayout1232.xml"/><Relationship Id="rId12" Type="http://schemas.openxmlformats.org/officeDocument/2006/relationships/slideLayout" Target="../slideLayouts/slideLayout1233.xml"/><Relationship Id="rId13" Type="http://schemas.openxmlformats.org/officeDocument/2006/relationships/slideLayout" Target="../slideLayouts/slideLayout1234.xml"/><Relationship Id="rId14" Type="http://schemas.openxmlformats.org/officeDocument/2006/relationships/slideLayout" Target="../slideLayouts/slideLayout1235.xml"/><Relationship Id="rId15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37.xml"/><Relationship Id="rId5" Type="http://schemas.openxmlformats.org/officeDocument/2006/relationships/slideLayout" Target="../slideLayouts/slideLayout1238.xml"/><Relationship Id="rId6" Type="http://schemas.openxmlformats.org/officeDocument/2006/relationships/slideLayout" Target="../slideLayouts/slideLayout1239.xml"/><Relationship Id="rId7" Type="http://schemas.openxmlformats.org/officeDocument/2006/relationships/slideLayout" Target="../slideLayouts/slideLayout1240.xml"/><Relationship Id="rId8" Type="http://schemas.openxmlformats.org/officeDocument/2006/relationships/slideLayout" Target="../slideLayouts/slideLayout1241.xml"/><Relationship Id="rId9" Type="http://schemas.openxmlformats.org/officeDocument/2006/relationships/slideLayout" Target="../slideLayouts/slideLayout1242.xml"/><Relationship Id="rId10" Type="http://schemas.openxmlformats.org/officeDocument/2006/relationships/slideLayout" Target="../slideLayouts/slideLayout1243.xml"/><Relationship Id="rId11" Type="http://schemas.openxmlformats.org/officeDocument/2006/relationships/slideLayout" Target="../slideLayouts/slideLayout1244.xml"/><Relationship Id="rId12" Type="http://schemas.openxmlformats.org/officeDocument/2006/relationships/slideLayout" Target="../slideLayouts/slideLayout1245.xml"/><Relationship Id="rId13" Type="http://schemas.openxmlformats.org/officeDocument/2006/relationships/slideLayout" Target="../slideLayouts/slideLayout1246.xml"/><Relationship Id="rId14" Type="http://schemas.openxmlformats.org/officeDocument/2006/relationships/slideLayout" Target="../slideLayouts/slideLayout1247.xml"/><Relationship Id="rId15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49.xml"/><Relationship Id="rId5" Type="http://schemas.openxmlformats.org/officeDocument/2006/relationships/slideLayout" Target="../slideLayouts/slideLayout1250.xml"/><Relationship Id="rId6" Type="http://schemas.openxmlformats.org/officeDocument/2006/relationships/slideLayout" Target="../slideLayouts/slideLayout1251.xml"/><Relationship Id="rId7" Type="http://schemas.openxmlformats.org/officeDocument/2006/relationships/slideLayout" Target="../slideLayouts/slideLayout1252.xml"/><Relationship Id="rId8" Type="http://schemas.openxmlformats.org/officeDocument/2006/relationships/slideLayout" Target="../slideLayouts/slideLayout1253.xml"/><Relationship Id="rId9" Type="http://schemas.openxmlformats.org/officeDocument/2006/relationships/slideLayout" Target="../slideLayouts/slideLayout1254.xml"/><Relationship Id="rId10" Type="http://schemas.openxmlformats.org/officeDocument/2006/relationships/slideLayout" Target="../slideLayouts/slideLayout1255.xml"/><Relationship Id="rId11" Type="http://schemas.openxmlformats.org/officeDocument/2006/relationships/slideLayout" Target="../slideLayouts/slideLayout1256.xml"/><Relationship Id="rId12" Type="http://schemas.openxmlformats.org/officeDocument/2006/relationships/slideLayout" Target="../slideLayouts/slideLayout1257.xml"/><Relationship Id="rId13" Type="http://schemas.openxmlformats.org/officeDocument/2006/relationships/slideLayout" Target="../slideLayouts/slideLayout1258.xml"/><Relationship Id="rId14" Type="http://schemas.openxmlformats.org/officeDocument/2006/relationships/slideLayout" Target="../slideLayouts/slideLayout1259.xml"/><Relationship Id="rId15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61.xml"/><Relationship Id="rId5" Type="http://schemas.openxmlformats.org/officeDocument/2006/relationships/slideLayout" Target="../slideLayouts/slideLayout1262.xml"/><Relationship Id="rId6" Type="http://schemas.openxmlformats.org/officeDocument/2006/relationships/slideLayout" Target="../slideLayouts/slideLayout1263.xml"/><Relationship Id="rId7" Type="http://schemas.openxmlformats.org/officeDocument/2006/relationships/slideLayout" Target="../slideLayouts/slideLayout1264.xml"/><Relationship Id="rId8" Type="http://schemas.openxmlformats.org/officeDocument/2006/relationships/slideLayout" Target="../slideLayouts/slideLayout1265.xml"/><Relationship Id="rId9" Type="http://schemas.openxmlformats.org/officeDocument/2006/relationships/slideLayout" Target="../slideLayouts/slideLayout1266.xml"/><Relationship Id="rId10" Type="http://schemas.openxmlformats.org/officeDocument/2006/relationships/slideLayout" Target="../slideLayouts/slideLayout1267.xml"/><Relationship Id="rId11" Type="http://schemas.openxmlformats.org/officeDocument/2006/relationships/slideLayout" Target="../slideLayouts/slideLayout1268.xml"/><Relationship Id="rId12" Type="http://schemas.openxmlformats.org/officeDocument/2006/relationships/slideLayout" Target="../slideLayouts/slideLayout1269.xml"/><Relationship Id="rId13" Type="http://schemas.openxmlformats.org/officeDocument/2006/relationships/slideLayout" Target="../slideLayouts/slideLayout1270.xml"/><Relationship Id="rId14" Type="http://schemas.openxmlformats.org/officeDocument/2006/relationships/slideLayout" Target="../slideLayouts/slideLayout1271.xml"/><Relationship Id="rId15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73.xml"/><Relationship Id="rId5" Type="http://schemas.openxmlformats.org/officeDocument/2006/relationships/slideLayout" Target="../slideLayouts/slideLayout1274.xml"/><Relationship Id="rId6" Type="http://schemas.openxmlformats.org/officeDocument/2006/relationships/slideLayout" Target="../slideLayouts/slideLayout1275.xml"/><Relationship Id="rId7" Type="http://schemas.openxmlformats.org/officeDocument/2006/relationships/slideLayout" Target="../slideLayouts/slideLayout1276.xml"/><Relationship Id="rId8" Type="http://schemas.openxmlformats.org/officeDocument/2006/relationships/slideLayout" Target="../slideLayouts/slideLayout1277.xml"/><Relationship Id="rId9" Type="http://schemas.openxmlformats.org/officeDocument/2006/relationships/slideLayout" Target="../slideLayouts/slideLayout1278.xml"/><Relationship Id="rId10" Type="http://schemas.openxmlformats.org/officeDocument/2006/relationships/slideLayout" Target="../slideLayouts/slideLayout1279.xml"/><Relationship Id="rId11" Type="http://schemas.openxmlformats.org/officeDocument/2006/relationships/slideLayout" Target="../slideLayouts/slideLayout1280.xml"/><Relationship Id="rId12" Type="http://schemas.openxmlformats.org/officeDocument/2006/relationships/slideLayout" Target="../slideLayouts/slideLayout1281.xml"/><Relationship Id="rId13" Type="http://schemas.openxmlformats.org/officeDocument/2006/relationships/slideLayout" Target="../slideLayouts/slideLayout1282.xml"/><Relationship Id="rId14" Type="http://schemas.openxmlformats.org/officeDocument/2006/relationships/slideLayout" Target="../slideLayouts/slideLayout1283.xml"/><Relationship Id="rId15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85.xml"/><Relationship Id="rId5" Type="http://schemas.openxmlformats.org/officeDocument/2006/relationships/slideLayout" Target="../slideLayouts/slideLayout1286.xml"/><Relationship Id="rId6" Type="http://schemas.openxmlformats.org/officeDocument/2006/relationships/slideLayout" Target="../slideLayouts/slideLayout1287.xml"/><Relationship Id="rId7" Type="http://schemas.openxmlformats.org/officeDocument/2006/relationships/slideLayout" Target="../slideLayouts/slideLayout1288.xml"/><Relationship Id="rId8" Type="http://schemas.openxmlformats.org/officeDocument/2006/relationships/slideLayout" Target="../slideLayouts/slideLayout1289.xml"/><Relationship Id="rId9" Type="http://schemas.openxmlformats.org/officeDocument/2006/relationships/slideLayout" Target="../slideLayouts/slideLayout1290.xml"/><Relationship Id="rId10" Type="http://schemas.openxmlformats.org/officeDocument/2006/relationships/slideLayout" Target="../slideLayouts/slideLayout1291.xml"/><Relationship Id="rId11" Type="http://schemas.openxmlformats.org/officeDocument/2006/relationships/slideLayout" Target="../slideLayouts/slideLayout1292.xml"/><Relationship Id="rId12" Type="http://schemas.openxmlformats.org/officeDocument/2006/relationships/slideLayout" Target="../slideLayouts/slideLayout1293.xml"/><Relationship Id="rId13" Type="http://schemas.openxmlformats.org/officeDocument/2006/relationships/slideLayout" Target="../slideLayouts/slideLayout1294.xml"/><Relationship Id="rId14" Type="http://schemas.openxmlformats.org/officeDocument/2006/relationships/slideLayout" Target="../slideLayouts/slideLayout1295.xml"/><Relationship Id="rId15" Type="http://schemas.openxmlformats.org/officeDocument/2006/relationships/slideLayout" Target="../slideLayouts/slideLayout1296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01.xml"/><Relationship Id="rId5" Type="http://schemas.openxmlformats.org/officeDocument/2006/relationships/slideLayout" Target="../slideLayouts/slideLayout602.xml"/><Relationship Id="rId6" Type="http://schemas.openxmlformats.org/officeDocument/2006/relationships/slideLayout" Target="../slideLayouts/slideLayout603.xml"/><Relationship Id="rId7" Type="http://schemas.openxmlformats.org/officeDocument/2006/relationships/slideLayout" Target="../slideLayouts/slideLayout604.xml"/><Relationship Id="rId8" Type="http://schemas.openxmlformats.org/officeDocument/2006/relationships/slideLayout" Target="../slideLayouts/slideLayout605.xml"/><Relationship Id="rId9" Type="http://schemas.openxmlformats.org/officeDocument/2006/relationships/slideLayout" Target="../slideLayouts/slideLayout606.xml"/><Relationship Id="rId10" Type="http://schemas.openxmlformats.org/officeDocument/2006/relationships/slideLayout" Target="../slideLayouts/slideLayout607.xml"/><Relationship Id="rId11" Type="http://schemas.openxmlformats.org/officeDocument/2006/relationships/slideLayout" Target="../slideLayouts/slideLayout608.xml"/><Relationship Id="rId12" Type="http://schemas.openxmlformats.org/officeDocument/2006/relationships/slideLayout" Target="../slideLayouts/slideLayout609.xml"/><Relationship Id="rId13" Type="http://schemas.openxmlformats.org/officeDocument/2006/relationships/slideLayout" Target="../slideLayouts/slideLayout610.xml"/><Relationship Id="rId14" Type="http://schemas.openxmlformats.org/officeDocument/2006/relationships/slideLayout" Target="../slideLayouts/slideLayout611.xml"/><Relationship Id="rId15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3.xml"/><Relationship Id="rId5" Type="http://schemas.openxmlformats.org/officeDocument/2006/relationships/slideLayout" Target="../slideLayouts/slideLayout614.xml"/><Relationship Id="rId6" Type="http://schemas.openxmlformats.org/officeDocument/2006/relationships/slideLayout" Target="../slideLayouts/slideLayout615.xml"/><Relationship Id="rId7" Type="http://schemas.openxmlformats.org/officeDocument/2006/relationships/slideLayout" Target="../slideLayouts/slideLayout616.xml"/><Relationship Id="rId8" Type="http://schemas.openxmlformats.org/officeDocument/2006/relationships/slideLayout" Target="../slideLayouts/slideLayout617.xml"/><Relationship Id="rId9" Type="http://schemas.openxmlformats.org/officeDocument/2006/relationships/slideLayout" Target="../slideLayouts/slideLayout618.xml"/><Relationship Id="rId10" Type="http://schemas.openxmlformats.org/officeDocument/2006/relationships/slideLayout" Target="../slideLayouts/slideLayout619.xml"/><Relationship Id="rId11" Type="http://schemas.openxmlformats.org/officeDocument/2006/relationships/slideLayout" Target="../slideLayouts/slideLayout620.xml"/><Relationship Id="rId12" Type="http://schemas.openxmlformats.org/officeDocument/2006/relationships/slideLayout" Target="../slideLayouts/slideLayout621.xml"/><Relationship Id="rId13" Type="http://schemas.openxmlformats.org/officeDocument/2006/relationships/slideLayout" Target="../slideLayouts/slideLayout622.xml"/><Relationship Id="rId14" Type="http://schemas.openxmlformats.org/officeDocument/2006/relationships/slideLayout" Target="../slideLayouts/slideLayout623.xml"/><Relationship Id="rId15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25.xml"/><Relationship Id="rId5" Type="http://schemas.openxmlformats.org/officeDocument/2006/relationships/slideLayout" Target="../slideLayouts/slideLayout626.xml"/><Relationship Id="rId6" Type="http://schemas.openxmlformats.org/officeDocument/2006/relationships/slideLayout" Target="../slideLayouts/slideLayout627.xml"/><Relationship Id="rId7" Type="http://schemas.openxmlformats.org/officeDocument/2006/relationships/slideLayout" Target="../slideLayouts/slideLayout628.xml"/><Relationship Id="rId8" Type="http://schemas.openxmlformats.org/officeDocument/2006/relationships/slideLayout" Target="../slideLayouts/slideLayout629.xml"/><Relationship Id="rId9" Type="http://schemas.openxmlformats.org/officeDocument/2006/relationships/slideLayout" Target="../slideLayouts/slideLayout630.xml"/><Relationship Id="rId10" Type="http://schemas.openxmlformats.org/officeDocument/2006/relationships/slideLayout" Target="../slideLayouts/slideLayout631.xml"/><Relationship Id="rId11" Type="http://schemas.openxmlformats.org/officeDocument/2006/relationships/slideLayout" Target="../slideLayouts/slideLayout632.xml"/><Relationship Id="rId12" Type="http://schemas.openxmlformats.org/officeDocument/2006/relationships/slideLayout" Target="../slideLayouts/slideLayout633.xml"/><Relationship Id="rId13" Type="http://schemas.openxmlformats.org/officeDocument/2006/relationships/slideLayout" Target="../slideLayouts/slideLayout634.xml"/><Relationship Id="rId14" Type="http://schemas.openxmlformats.org/officeDocument/2006/relationships/slideLayout" Target="../slideLayouts/slideLayout635.xml"/><Relationship Id="rId15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37.xml"/><Relationship Id="rId5" Type="http://schemas.openxmlformats.org/officeDocument/2006/relationships/slideLayout" Target="../slideLayouts/slideLayout638.xml"/><Relationship Id="rId6" Type="http://schemas.openxmlformats.org/officeDocument/2006/relationships/slideLayout" Target="../slideLayouts/slideLayout639.xml"/><Relationship Id="rId7" Type="http://schemas.openxmlformats.org/officeDocument/2006/relationships/slideLayout" Target="../slideLayouts/slideLayout640.xml"/><Relationship Id="rId8" Type="http://schemas.openxmlformats.org/officeDocument/2006/relationships/slideLayout" Target="../slideLayouts/slideLayout641.xml"/><Relationship Id="rId9" Type="http://schemas.openxmlformats.org/officeDocument/2006/relationships/slideLayout" Target="../slideLayouts/slideLayout642.xml"/><Relationship Id="rId10" Type="http://schemas.openxmlformats.org/officeDocument/2006/relationships/slideLayout" Target="../slideLayouts/slideLayout643.xml"/><Relationship Id="rId11" Type="http://schemas.openxmlformats.org/officeDocument/2006/relationships/slideLayout" Target="../slideLayouts/slideLayout644.xml"/><Relationship Id="rId12" Type="http://schemas.openxmlformats.org/officeDocument/2006/relationships/slideLayout" Target="../slideLayouts/slideLayout645.xml"/><Relationship Id="rId13" Type="http://schemas.openxmlformats.org/officeDocument/2006/relationships/slideLayout" Target="../slideLayouts/slideLayout646.xml"/><Relationship Id="rId14" Type="http://schemas.openxmlformats.org/officeDocument/2006/relationships/slideLayout" Target="../slideLayouts/slideLayout647.xml"/><Relationship Id="rId15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49.xml"/><Relationship Id="rId5" Type="http://schemas.openxmlformats.org/officeDocument/2006/relationships/slideLayout" Target="../slideLayouts/slideLayout650.xml"/><Relationship Id="rId6" Type="http://schemas.openxmlformats.org/officeDocument/2006/relationships/slideLayout" Target="../slideLayouts/slideLayout651.xml"/><Relationship Id="rId7" Type="http://schemas.openxmlformats.org/officeDocument/2006/relationships/slideLayout" Target="../slideLayouts/slideLayout652.xml"/><Relationship Id="rId8" Type="http://schemas.openxmlformats.org/officeDocument/2006/relationships/slideLayout" Target="../slideLayouts/slideLayout653.xml"/><Relationship Id="rId9" Type="http://schemas.openxmlformats.org/officeDocument/2006/relationships/slideLayout" Target="../slideLayouts/slideLayout654.xml"/><Relationship Id="rId10" Type="http://schemas.openxmlformats.org/officeDocument/2006/relationships/slideLayout" Target="../slideLayouts/slideLayout655.xml"/><Relationship Id="rId11" Type="http://schemas.openxmlformats.org/officeDocument/2006/relationships/slideLayout" Target="../slideLayouts/slideLayout656.xml"/><Relationship Id="rId12" Type="http://schemas.openxmlformats.org/officeDocument/2006/relationships/slideLayout" Target="../slideLayouts/slideLayout657.xml"/><Relationship Id="rId13" Type="http://schemas.openxmlformats.org/officeDocument/2006/relationships/slideLayout" Target="../slideLayouts/slideLayout658.xml"/><Relationship Id="rId14" Type="http://schemas.openxmlformats.org/officeDocument/2006/relationships/slideLayout" Target="../slideLayouts/slideLayout659.xml"/><Relationship Id="rId15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85.xml"/><Relationship Id="rId5" Type="http://schemas.openxmlformats.org/officeDocument/2006/relationships/slideLayout" Target="../slideLayouts/slideLayout686.xml"/><Relationship Id="rId6" Type="http://schemas.openxmlformats.org/officeDocument/2006/relationships/slideLayout" Target="../slideLayouts/slideLayout687.xml"/><Relationship Id="rId7" Type="http://schemas.openxmlformats.org/officeDocument/2006/relationships/slideLayout" Target="../slideLayouts/slideLayout688.xml"/><Relationship Id="rId8" Type="http://schemas.openxmlformats.org/officeDocument/2006/relationships/slideLayout" Target="../slideLayouts/slideLayout689.xml"/><Relationship Id="rId9" Type="http://schemas.openxmlformats.org/officeDocument/2006/relationships/slideLayout" Target="../slideLayouts/slideLayout690.xml"/><Relationship Id="rId10" Type="http://schemas.openxmlformats.org/officeDocument/2006/relationships/slideLayout" Target="../slideLayouts/slideLayout691.xml"/><Relationship Id="rId11" Type="http://schemas.openxmlformats.org/officeDocument/2006/relationships/slideLayout" Target="../slideLayouts/slideLayout692.xml"/><Relationship Id="rId12" Type="http://schemas.openxmlformats.org/officeDocument/2006/relationships/slideLayout" Target="../slideLayouts/slideLayout693.xml"/><Relationship Id="rId13" Type="http://schemas.openxmlformats.org/officeDocument/2006/relationships/slideLayout" Target="../slideLayouts/slideLayout694.xml"/><Relationship Id="rId14" Type="http://schemas.openxmlformats.org/officeDocument/2006/relationships/slideLayout" Target="../slideLayouts/slideLayout695.xml"/><Relationship Id="rId15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97.xml"/><Relationship Id="rId5" Type="http://schemas.openxmlformats.org/officeDocument/2006/relationships/slideLayout" Target="../slideLayouts/slideLayout698.xml"/><Relationship Id="rId6" Type="http://schemas.openxmlformats.org/officeDocument/2006/relationships/slideLayout" Target="../slideLayouts/slideLayout699.xml"/><Relationship Id="rId7" Type="http://schemas.openxmlformats.org/officeDocument/2006/relationships/slideLayout" Target="../slideLayouts/slideLayout700.xml"/><Relationship Id="rId8" Type="http://schemas.openxmlformats.org/officeDocument/2006/relationships/slideLayout" Target="../slideLayouts/slideLayout701.xml"/><Relationship Id="rId9" Type="http://schemas.openxmlformats.org/officeDocument/2006/relationships/slideLayout" Target="../slideLayouts/slideLayout702.xml"/><Relationship Id="rId10" Type="http://schemas.openxmlformats.org/officeDocument/2006/relationships/slideLayout" Target="../slideLayouts/slideLayout703.xml"/><Relationship Id="rId11" Type="http://schemas.openxmlformats.org/officeDocument/2006/relationships/slideLayout" Target="../slideLayouts/slideLayout704.xml"/><Relationship Id="rId12" Type="http://schemas.openxmlformats.org/officeDocument/2006/relationships/slideLayout" Target="../slideLayouts/slideLayout705.xml"/><Relationship Id="rId13" Type="http://schemas.openxmlformats.org/officeDocument/2006/relationships/slideLayout" Target="../slideLayouts/slideLayout706.xml"/><Relationship Id="rId14" Type="http://schemas.openxmlformats.org/officeDocument/2006/relationships/slideLayout" Target="../slideLayouts/slideLayout707.xml"/><Relationship Id="rId15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09.xml"/><Relationship Id="rId5" Type="http://schemas.openxmlformats.org/officeDocument/2006/relationships/slideLayout" Target="../slideLayouts/slideLayout710.xml"/><Relationship Id="rId6" Type="http://schemas.openxmlformats.org/officeDocument/2006/relationships/slideLayout" Target="../slideLayouts/slideLayout711.xml"/><Relationship Id="rId7" Type="http://schemas.openxmlformats.org/officeDocument/2006/relationships/slideLayout" Target="../slideLayouts/slideLayout712.xml"/><Relationship Id="rId8" Type="http://schemas.openxmlformats.org/officeDocument/2006/relationships/slideLayout" Target="../slideLayouts/slideLayout713.xml"/><Relationship Id="rId9" Type="http://schemas.openxmlformats.org/officeDocument/2006/relationships/slideLayout" Target="../slideLayouts/slideLayout714.xml"/><Relationship Id="rId10" Type="http://schemas.openxmlformats.org/officeDocument/2006/relationships/slideLayout" Target="../slideLayouts/slideLayout715.xml"/><Relationship Id="rId11" Type="http://schemas.openxmlformats.org/officeDocument/2006/relationships/slideLayout" Target="../slideLayouts/slideLayout716.xml"/><Relationship Id="rId12" Type="http://schemas.openxmlformats.org/officeDocument/2006/relationships/slideLayout" Target="../slideLayouts/slideLayout717.xml"/><Relationship Id="rId13" Type="http://schemas.openxmlformats.org/officeDocument/2006/relationships/slideLayout" Target="../slideLayouts/slideLayout718.xml"/><Relationship Id="rId14" Type="http://schemas.openxmlformats.org/officeDocument/2006/relationships/slideLayout" Target="../slideLayouts/slideLayout719.xml"/><Relationship Id="rId15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21.xml"/><Relationship Id="rId5" Type="http://schemas.openxmlformats.org/officeDocument/2006/relationships/slideLayout" Target="../slideLayouts/slideLayout722.xml"/><Relationship Id="rId6" Type="http://schemas.openxmlformats.org/officeDocument/2006/relationships/slideLayout" Target="../slideLayouts/slideLayout723.xml"/><Relationship Id="rId7" Type="http://schemas.openxmlformats.org/officeDocument/2006/relationships/slideLayout" Target="../slideLayouts/slideLayout724.xml"/><Relationship Id="rId8" Type="http://schemas.openxmlformats.org/officeDocument/2006/relationships/slideLayout" Target="../slideLayouts/slideLayout725.xml"/><Relationship Id="rId9" Type="http://schemas.openxmlformats.org/officeDocument/2006/relationships/slideLayout" Target="../slideLayouts/slideLayout726.xml"/><Relationship Id="rId10" Type="http://schemas.openxmlformats.org/officeDocument/2006/relationships/slideLayout" Target="../slideLayouts/slideLayout727.xml"/><Relationship Id="rId11" Type="http://schemas.openxmlformats.org/officeDocument/2006/relationships/slideLayout" Target="../slideLayouts/slideLayout728.xml"/><Relationship Id="rId12" Type="http://schemas.openxmlformats.org/officeDocument/2006/relationships/slideLayout" Target="../slideLayouts/slideLayout729.xml"/><Relationship Id="rId13" Type="http://schemas.openxmlformats.org/officeDocument/2006/relationships/slideLayout" Target="../slideLayouts/slideLayout730.xml"/><Relationship Id="rId14" Type="http://schemas.openxmlformats.org/officeDocument/2006/relationships/slideLayout" Target="../slideLayouts/slideLayout731.xml"/><Relationship Id="rId15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3.xml"/><Relationship Id="rId5" Type="http://schemas.openxmlformats.org/officeDocument/2006/relationships/slideLayout" Target="../slideLayouts/slideLayout734.xml"/><Relationship Id="rId6" Type="http://schemas.openxmlformats.org/officeDocument/2006/relationships/slideLayout" Target="../slideLayouts/slideLayout735.xml"/><Relationship Id="rId7" Type="http://schemas.openxmlformats.org/officeDocument/2006/relationships/slideLayout" Target="../slideLayouts/slideLayout736.xml"/><Relationship Id="rId8" Type="http://schemas.openxmlformats.org/officeDocument/2006/relationships/slideLayout" Target="../slideLayouts/slideLayout737.xml"/><Relationship Id="rId9" Type="http://schemas.openxmlformats.org/officeDocument/2006/relationships/slideLayout" Target="../slideLayouts/slideLayout738.xml"/><Relationship Id="rId10" Type="http://schemas.openxmlformats.org/officeDocument/2006/relationships/slideLayout" Target="../slideLayouts/slideLayout739.xml"/><Relationship Id="rId11" Type="http://schemas.openxmlformats.org/officeDocument/2006/relationships/slideLayout" Target="../slideLayouts/slideLayout740.xml"/><Relationship Id="rId12" Type="http://schemas.openxmlformats.org/officeDocument/2006/relationships/slideLayout" Target="../slideLayouts/slideLayout741.xml"/><Relationship Id="rId13" Type="http://schemas.openxmlformats.org/officeDocument/2006/relationships/slideLayout" Target="../slideLayouts/slideLayout742.xml"/><Relationship Id="rId14" Type="http://schemas.openxmlformats.org/officeDocument/2006/relationships/slideLayout" Target="../slideLayouts/slideLayout743.xml"/><Relationship Id="rId15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45.xml"/><Relationship Id="rId5" Type="http://schemas.openxmlformats.org/officeDocument/2006/relationships/slideLayout" Target="../slideLayouts/slideLayout746.xml"/><Relationship Id="rId6" Type="http://schemas.openxmlformats.org/officeDocument/2006/relationships/slideLayout" Target="../slideLayouts/slideLayout747.xml"/><Relationship Id="rId7" Type="http://schemas.openxmlformats.org/officeDocument/2006/relationships/slideLayout" Target="../slideLayouts/slideLayout748.xml"/><Relationship Id="rId8" Type="http://schemas.openxmlformats.org/officeDocument/2006/relationships/slideLayout" Target="../slideLayouts/slideLayout749.xml"/><Relationship Id="rId9" Type="http://schemas.openxmlformats.org/officeDocument/2006/relationships/slideLayout" Target="../slideLayouts/slideLayout750.xml"/><Relationship Id="rId10" Type="http://schemas.openxmlformats.org/officeDocument/2006/relationships/slideLayout" Target="../slideLayouts/slideLayout751.xml"/><Relationship Id="rId11" Type="http://schemas.openxmlformats.org/officeDocument/2006/relationships/slideLayout" Target="../slideLayouts/slideLayout752.xml"/><Relationship Id="rId12" Type="http://schemas.openxmlformats.org/officeDocument/2006/relationships/slideLayout" Target="../slideLayouts/slideLayout753.xml"/><Relationship Id="rId13" Type="http://schemas.openxmlformats.org/officeDocument/2006/relationships/slideLayout" Target="../slideLayouts/slideLayout754.xml"/><Relationship Id="rId14" Type="http://schemas.openxmlformats.org/officeDocument/2006/relationships/slideLayout" Target="../slideLayouts/slideLayout755.xml"/><Relationship Id="rId15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57.xml"/><Relationship Id="rId5" Type="http://schemas.openxmlformats.org/officeDocument/2006/relationships/slideLayout" Target="../slideLayouts/slideLayout758.xml"/><Relationship Id="rId6" Type="http://schemas.openxmlformats.org/officeDocument/2006/relationships/slideLayout" Target="../slideLayouts/slideLayout759.xml"/><Relationship Id="rId7" Type="http://schemas.openxmlformats.org/officeDocument/2006/relationships/slideLayout" Target="../slideLayouts/slideLayout760.xml"/><Relationship Id="rId8" Type="http://schemas.openxmlformats.org/officeDocument/2006/relationships/slideLayout" Target="../slideLayouts/slideLayout761.xml"/><Relationship Id="rId9" Type="http://schemas.openxmlformats.org/officeDocument/2006/relationships/slideLayout" Target="../slideLayouts/slideLayout762.xml"/><Relationship Id="rId10" Type="http://schemas.openxmlformats.org/officeDocument/2006/relationships/slideLayout" Target="../slideLayouts/slideLayout763.xml"/><Relationship Id="rId11" Type="http://schemas.openxmlformats.org/officeDocument/2006/relationships/slideLayout" Target="../slideLayouts/slideLayout764.xml"/><Relationship Id="rId12" Type="http://schemas.openxmlformats.org/officeDocument/2006/relationships/slideLayout" Target="../slideLayouts/slideLayout765.xml"/><Relationship Id="rId13" Type="http://schemas.openxmlformats.org/officeDocument/2006/relationships/slideLayout" Target="../slideLayouts/slideLayout766.xml"/><Relationship Id="rId14" Type="http://schemas.openxmlformats.org/officeDocument/2006/relationships/slideLayout" Target="../slideLayouts/slideLayout767.xml"/><Relationship Id="rId15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69.xml"/><Relationship Id="rId5" Type="http://schemas.openxmlformats.org/officeDocument/2006/relationships/slideLayout" Target="../slideLayouts/slideLayout770.xml"/><Relationship Id="rId6" Type="http://schemas.openxmlformats.org/officeDocument/2006/relationships/slideLayout" Target="../slideLayouts/slideLayout771.xml"/><Relationship Id="rId7" Type="http://schemas.openxmlformats.org/officeDocument/2006/relationships/slideLayout" Target="../slideLayouts/slideLayout772.xml"/><Relationship Id="rId8" Type="http://schemas.openxmlformats.org/officeDocument/2006/relationships/slideLayout" Target="../slideLayouts/slideLayout773.xml"/><Relationship Id="rId9" Type="http://schemas.openxmlformats.org/officeDocument/2006/relationships/slideLayout" Target="../slideLayouts/slideLayout774.xml"/><Relationship Id="rId10" Type="http://schemas.openxmlformats.org/officeDocument/2006/relationships/slideLayout" Target="../slideLayouts/slideLayout775.xml"/><Relationship Id="rId11" Type="http://schemas.openxmlformats.org/officeDocument/2006/relationships/slideLayout" Target="../slideLayouts/slideLayout776.xml"/><Relationship Id="rId12" Type="http://schemas.openxmlformats.org/officeDocument/2006/relationships/slideLayout" Target="../slideLayouts/slideLayout777.xml"/><Relationship Id="rId13" Type="http://schemas.openxmlformats.org/officeDocument/2006/relationships/slideLayout" Target="../slideLayouts/slideLayout778.xml"/><Relationship Id="rId14" Type="http://schemas.openxmlformats.org/officeDocument/2006/relationships/slideLayout" Target="../slideLayouts/slideLayout779.xml"/><Relationship Id="rId15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81.xml"/><Relationship Id="rId5" Type="http://schemas.openxmlformats.org/officeDocument/2006/relationships/slideLayout" Target="../slideLayouts/slideLayout782.xml"/><Relationship Id="rId6" Type="http://schemas.openxmlformats.org/officeDocument/2006/relationships/slideLayout" Target="../slideLayouts/slideLayout783.xml"/><Relationship Id="rId7" Type="http://schemas.openxmlformats.org/officeDocument/2006/relationships/slideLayout" Target="../slideLayouts/slideLayout784.xml"/><Relationship Id="rId8" Type="http://schemas.openxmlformats.org/officeDocument/2006/relationships/slideLayout" Target="../slideLayouts/slideLayout785.xml"/><Relationship Id="rId9" Type="http://schemas.openxmlformats.org/officeDocument/2006/relationships/slideLayout" Target="../slideLayouts/slideLayout786.xml"/><Relationship Id="rId10" Type="http://schemas.openxmlformats.org/officeDocument/2006/relationships/slideLayout" Target="../slideLayouts/slideLayout787.xml"/><Relationship Id="rId11" Type="http://schemas.openxmlformats.org/officeDocument/2006/relationships/slideLayout" Target="../slideLayouts/slideLayout788.xml"/><Relationship Id="rId12" Type="http://schemas.openxmlformats.org/officeDocument/2006/relationships/slideLayout" Target="../slideLayouts/slideLayout789.xml"/><Relationship Id="rId13" Type="http://schemas.openxmlformats.org/officeDocument/2006/relationships/slideLayout" Target="../slideLayouts/slideLayout790.xml"/><Relationship Id="rId14" Type="http://schemas.openxmlformats.org/officeDocument/2006/relationships/slideLayout" Target="../slideLayouts/slideLayout791.xml"/><Relationship Id="rId15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93.xml"/><Relationship Id="rId5" Type="http://schemas.openxmlformats.org/officeDocument/2006/relationships/slideLayout" Target="../slideLayouts/slideLayout794.xml"/><Relationship Id="rId6" Type="http://schemas.openxmlformats.org/officeDocument/2006/relationships/slideLayout" Target="../slideLayouts/slideLayout795.xml"/><Relationship Id="rId7" Type="http://schemas.openxmlformats.org/officeDocument/2006/relationships/slideLayout" Target="../slideLayouts/slideLayout796.xml"/><Relationship Id="rId8" Type="http://schemas.openxmlformats.org/officeDocument/2006/relationships/slideLayout" Target="../slideLayouts/slideLayout797.xml"/><Relationship Id="rId9" Type="http://schemas.openxmlformats.org/officeDocument/2006/relationships/slideLayout" Target="../slideLayouts/slideLayout798.xml"/><Relationship Id="rId10" Type="http://schemas.openxmlformats.org/officeDocument/2006/relationships/slideLayout" Target="../slideLayouts/slideLayout799.xml"/><Relationship Id="rId11" Type="http://schemas.openxmlformats.org/officeDocument/2006/relationships/slideLayout" Target="../slideLayouts/slideLayout800.xml"/><Relationship Id="rId12" Type="http://schemas.openxmlformats.org/officeDocument/2006/relationships/slideLayout" Target="../slideLayouts/slideLayout801.xml"/><Relationship Id="rId13" Type="http://schemas.openxmlformats.org/officeDocument/2006/relationships/slideLayout" Target="../slideLayouts/slideLayout802.xml"/><Relationship Id="rId14" Type="http://schemas.openxmlformats.org/officeDocument/2006/relationships/slideLayout" Target="../slideLayouts/slideLayout803.xml"/><Relationship Id="rId15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05.xml"/><Relationship Id="rId5" Type="http://schemas.openxmlformats.org/officeDocument/2006/relationships/slideLayout" Target="../slideLayouts/slideLayout806.xml"/><Relationship Id="rId6" Type="http://schemas.openxmlformats.org/officeDocument/2006/relationships/slideLayout" Target="../slideLayouts/slideLayout807.xml"/><Relationship Id="rId7" Type="http://schemas.openxmlformats.org/officeDocument/2006/relationships/slideLayout" Target="../slideLayouts/slideLayout808.xml"/><Relationship Id="rId8" Type="http://schemas.openxmlformats.org/officeDocument/2006/relationships/slideLayout" Target="../slideLayouts/slideLayout809.xml"/><Relationship Id="rId9" Type="http://schemas.openxmlformats.org/officeDocument/2006/relationships/slideLayout" Target="../slideLayouts/slideLayout810.xml"/><Relationship Id="rId10" Type="http://schemas.openxmlformats.org/officeDocument/2006/relationships/slideLayout" Target="../slideLayouts/slideLayout811.xml"/><Relationship Id="rId11" Type="http://schemas.openxmlformats.org/officeDocument/2006/relationships/slideLayout" Target="../slideLayouts/slideLayout812.xml"/><Relationship Id="rId12" Type="http://schemas.openxmlformats.org/officeDocument/2006/relationships/slideLayout" Target="../slideLayouts/slideLayout813.xml"/><Relationship Id="rId13" Type="http://schemas.openxmlformats.org/officeDocument/2006/relationships/slideLayout" Target="../slideLayouts/slideLayout814.xml"/><Relationship Id="rId14" Type="http://schemas.openxmlformats.org/officeDocument/2006/relationships/slideLayout" Target="../slideLayouts/slideLayout815.xml"/><Relationship Id="rId15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17.xml"/><Relationship Id="rId5" Type="http://schemas.openxmlformats.org/officeDocument/2006/relationships/slideLayout" Target="../slideLayouts/slideLayout818.xml"/><Relationship Id="rId6" Type="http://schemas.openxmlformats.org/officeDocument/2006/relationships/slideLayout" Target="../slideLayouts/slideLayout819.xml"/><Relationship Id="rId7" Type="http://schemas.openxmlformats.org/officeDocument/2006/relationships/slideLayout" Target="../slideLayouts/slideLayout820.xml"/><Relationship Id="rId8" Type="http://schemas.openxmlformats.org/officeDocument/2006/relationships/slideLayout" Target="../slideLayouts/slideLayout821.xml"/><Relationship Id="rId9" Type="http://schemas.openxmlformats.org/officeDocument/2006/relationships/slideLayout" Target="../slideLayouts/slideLayout822.xml"/><Relationship Id="rId10" Type="http://schemas.openxmlformats.org/officeDocument/2006/relationships/slideLayout" Target="../slideLayouts/slideLayout823.xml"/><Relationship Id="rId11" Type="http://schemas.openxmlformats.org/officeDocument/2006/relationships/slideLayout" Target="../slideLayouts/slideLayout824.xml"/><Relationship Id="rId12" Type="http://schemas.openxmlformats.org/officeDocument/2006/relationships/slideLayout" Target="../slideLayouts/slideLayout825.xml"/><Relationship Id="rId13" Type="http://schemas.openxmlformats.org/officeDocument/2006/relationships/slideLayout" Target="../slideLayouts/slideLayout826.xml"/><Relationship Id="rId14" Type="http://schemas.openxmlformats.org/officeDocument/2006/relationships/slideLayout" Target="../slideLayouts/slideLayout827.xml"/><Relationship Id="rId15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29.xml"/><Relationship Id="rId5" Type="http://schemas.openxmlformats.org/officeDocument/2006/relationships/slideLayout" Target="../slideLayouts/slideLayout830.xml"/><Relationship Id="rId6" Type="http://schemas.openxmlformats.org/officeDocument/2006/relationships/slideLayout" Target="../slideLayouts/slideLayout831.xml"/><Relationship Id="rId7" Type="http://schemas.openxmlformats.org/officeDocument/2006/relationships/slideLayout" Target="../slideLayouts/slideLayout832.xml"/><Relationship Id="rId8" Type="http://schemas.openxmlformats.org/officeDocument/2006/relationships/slideLayout" Target="../slideLayouts/slideLayout833.xml"/><Relationship Id="rId9" Type="http://schemas.openxmlformats.org/officeDocument/2006/relationships/slideLayout" Target="../slideLayouts/slideLayout834.xml"/><Relationship Id="rId10" Type="http://schemas.openxmlformats.org/officeDocument/2006/relationships/slideLayout" Target="../slideLayouts/slideLayout835.xml"/><Relationship Id="rId11" Type="http://schemas.openxmlformats.org/officeDocument/2006/relationships/slideLayout" Target="../slideLayouts/slideLayout836.xml"/><Relationship Id="rId12" Type="http://schemas.openxmlformats.org/officeDocument/2006/relationships/slideLayout" Target="../slideLayouts/slideLayout837.xml"/><Relationship Id="rId13" Type="http://schemas.openxmlformats.org/officeDocument/2006/relationships/slideLayout" Target="../slideLayouts/slideLayout838.xml"/><Relationship Id="rId14" Type="http://schemas.openxmlformats.org/officeDocument/2006/relationships/slideLayout" Target="../slideLayouts/slideLayout839.xml"/><Relationship Id="rId15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41.xml"/><Relationship Id="rId5" Type="http://schemas.openxmlformats.org/officeDocument/2006/relationships/slideLayout" Target="../slideLayouts/slideLayout842.xml"/><Relationship Id="rId6" Type="http://schemas.openxmlformats.org/officeDocument/2006/relationships/slideLayout" Target="../slideLayouts/slideLayout843.xml"/><Relationship Id="rId7" Type="http://schemas.openxmlformats.org/officeDocument/2006/relationships/slideLayout" Target="../slideLayouts/slideLayout844.xml"/><Relationship Id="rId8" Type="http://schemas.openxmlformats.org/officeDocument/2006/relationships/slideLayout" Target="../slideLayouts/slideLayout845.xml"/><Relationship Id="rId9" Type="http://schemas.openxmlformats.org/officeDocument/2006/relationships/slideLayout" Target="../slideLayouts/slideLayout846.xml"/><Relationship Id="rId10" Type="http://schemas.openxmlformats.org/officeDocument/2006/relationships/slideLayout" Target="../slideLayouts/slideLayout847.xml"/><Relationship Id="rId11" Type="http://schemas.openxmlformats.org/officeDocument/2006/relationships/slideLayout" Target="../slideLayouts/slideLayout848.xml"/><Relationship Id="rId12" Type="http://schemas.openxmlformats.org/officeDocument/2006/relationships/slideLayout" Target="../slideLayouts/slideLayout849.xml"/><Relationship Id="rId13" Type="http://schemas.openxmlformats.org/officeDocument/2006/relationships/slideLayout" Target="../slideLayouts/slideLayout850.xml"/><Relationship Id="rId14" Type="http://schemas.openxmlformats.org/officeDocument/2006/relationships/slideLayout" Target="../slideLayouts/slideLayout851.xml"/><Relationship Id="rId15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3.xml"/><Relationship Id="rId5" Type="http://schemas.openxmlformats.org/officeDocument/2006/relationships/slideLayout" Target="../slideLayouts/slideLayout854.xml"/><Relationship Id="rId6" Type="http://schemas.openxmlformats.org/officeDocument/2006/relationships/slideLayout" Target="../slideLayouts/slideLayout855.xml"/><Relationship Id="rId7" Type="http://schemas.openxmlformats.org/officeDocument/2006/relationships/slideLayout" Target="../slideLayouts/slideLayout856.xml"/><Relationship Id="rId8" Type="http://schemas.openxmlformats.org/officeDocument/2006/relationships/slideLayout" Target="../slideLayouts/slideLayout857.xml"/><Relationship Id="rId9" Type="http://schemas.openxmlformats.org/officeDocument/2006/relationships/slideLayout" Target="../slideLayouts/slideLayout858.xml"/><Relationship Id="rId10" Type="http://schemas.openxmlformats.org/officeDocument/2006/relationships/slideLayout" Target="../slideLayouts/slideLayout859.xml"/><Relationship Id="rId11" Type="http://schemas.openxmlformats.org/officeDocument/2006/relationships/slideLayout" Target="../slideLayouts/slideLayout860.xml"/><Relationship Id="rId12" Type="http://schemas.openxmlformats.org/officeDocument/2006/relationships/slideLayout" Target="../slideLayouts/slideLayout861.xml"/><Relationship Id="rId13" Type="http://schemas.openxmlformats.org/officeDocument/2006/relationships/slideLayout" Target="../slideLayouts/slideLayout862.xml"/><Relationship Id="rId14" Type="http://schemas.openxmlformats.org/officeDocument/2006/relationships/slideLayout" Target="../slideLayouts/slideLayout863.xml"/><Relationship Id="rId15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65.xml"/><Relationship Id="rId5" Type="http://schemas.openxmlformats.org/officeDocument/2006/relationships/slideLayout" Target="../slideLayouts/slideLayout866.xml"/><Relationship Id="rId6" Type="http://schemas.openxmlformats.org/officeDocument/2006/relationships/slideLayout" Target="../slideLayouts/slideLayout867.xml"/><Relationship Id="rId7" Type="http://schemas.openxmlformats.org/officeDocument/2006/relationships/slideLayout" Target="../slideLayouts/slideLayout868.xml"/><Relationship Id="rId8" Type="http://schemas.openxmlformats.org/officeDocument/2006/relationships/slideLayout" Target="../slideLayouts/slideLayout869.xml"/><Relationship Id="rId9" Type="http://schemas.openxmlformats.org/officeDocument/2006/relationships/slideLayout" Target="../slideLayouts/slideLayout870.xml"/><Relationship Id="rId10" Type="http://schemas.openxmlformats.org/officeDocument/2006/relationships/slideLayout" Target="../slideLayouts/slideLayout871.xml"/><Relationship Id="rId11" Type="http://schemas.openxmlformats.org/officeDocument/2006/relationships/slideLayout" Target="../slideLayouts/slideLayout872.xml"/><Relationship Id="rId12" Type="http://schemas.openxmlformats.org/officeDocument/2006/relationships/slideLayout" Target="../slideLayouts/slideLayout873.xml"/><Relationship Id="rId13" Type="http://schemas.openxmlformats.org/officeDocument/2006/relationships/slideLayout" Target="../slideLayouts/slideLayout874.xml"/><Relationship Id="rId14" Type="http://schemas.openxmlformats.org/officeDocument/2006/relationships/slideLayout" Target="../slideLayouts/slideLayout875.xml"/><Relationship Id="rId15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77.xml"/><Relationship Id="rId5" Type="http://schemas.openxmlformats.org/officeDocument/2006/relationships/slideLayout" Target="../slideLayouts/slideLayout878.xml"/><Relationship Id="rId6" Type="http://schemas.openxmlformats.org/officeDocument/2006/relationships/slideLayout" Target="../slideLayouts/slideLayout879.xml"/><Relationship Id="rId7" Type="http://schemas.openxmlformats.org/officeDocument/2006/relationships/slideLayout" Target="../slideLayouts/slideLayout880.xml"/><Relationship Id="rId8" Type="http://schemas.openxmlformats.org/officeDocument/2006/relationships/slideLayout" Target="../slideLayouts/slideLayout881.xml"/><Relationship Id="rId9" Type="http://schemas.openxmlformats.org/officeDocument/2006/relationships/slideLayout" Target="../slideLayouts/slideLayout882.xml"/><Relationship Id="rId10" Type="http://schemas.openxmlformats.org/officeDocument/2006/relationships/slideLayout" Target="../slideLayouts/slideLayout883.xml"/><Relationship Id="rId11" Type="http://schemas.openxmlformats.org/officeDocument/2006/relationships/slideLayout" Target="../slideLayouts/slideLayout884.xml"/><Relationship Id="rId12" Type="http://schemas.openxmlformats.org/officeDocument/2006/relationships/slideLayout" Target="../slideLayouts/slideLayout885.xml"/><Relationship Id="rId13" Type="http://schemas.openxmlformats.org/officeDocument/2006/relationships/slideLayout" Target="../slideLayouts/slideLayout886.xml"/><Relationship Id="rId14" Type="http://schemas.openxmlformats.org/officeDocument/2006/relationships/slideLayout" Target="../slideLayouts/slideLayout887.xml"/><Relationship Id="rId15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89.xml"/><Relationship Id="rId5" Type="http://schemas.openxmlformats.org/officeDocument/2006/relationships/slideLayout" Target="../slideLayouts/slideLayout890.xml"/><Relationship Id="rId6" Type="http://schemas.openxmlformats.org/officeDocument/2006/relationships/slideLayout" Target="../slideLayouts/slideLayout891.xml"/><Relationship Id="rId7" Type="http://schemas.openxmlformats.org/officeDocument/2006/relationships/slideLayout" Target="../slideLayouts/slideLayout892.xml"/><Relationship Id="rId8" Type="http://schemas.openxmlformats.org/officeDocument/2006/relationships/slideLayout" Target="../slideLayouts/slideLayout893.xml"/><Relationship Id="rId9" Type="http://schemas.openxmlformats.org/officeDocument/2006/relationships/slideLayout" Target="../slideLayouts/slideLayout894.xml"/><Relationship Id="rId10" Type="http://schemas.openxmlformats.org/officeDocument/2006/relationships/slideLayout" Target="../slideLayouts/slideLayout895.xml"/><Relationship Id="rId11" Type="http://schemas.openxmlformats.org/officeDocument/2006/relationships/slideLayout" Target="../slideLayouts/slideLayout896.xml"/><Relationship Id="rId12" Type="http://schemas.openxmlformats.org/officeDocument/2006/relationships/slideLayout" Target="../slideLayouts/slideLayout897.xml"/><Relationship Id="rId13" Type="http://schemas.openxmlformats.org/officeDocument/2006/relationships/slideLayout" Target="../slideLayouts/slideLayout898.xml"/><Relationship Id="rId14" Type="http://schemas.openxmlformats.org/officeDocument/2006/relationships/slideLayout" Target="../slideLayouts/slideLayout899.xml"/><Relationship Id="rId15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01.xml"/><Relationship Id="rId5" Type="http://schemas.openxmlformats.org/officeDocument/2006/relationships/slideLayout" Target="../slideLayouts/slideLayout902.xml"/><Relationship Id="rId6" Type="http://schemas.openxmlformats.org/officeDocument/2006/relationships/slideLayout" Target="../slideLayouts/slideLayout903.xml"/><Relationship Id="rId7" Type="http://schemas.openxmlformats.org/officeDocument/2006/relationships/slideLayout" Target="../slideLayouts/slideLayout904.xml"/><Relationship Id="rId8" Type="http://schemas.openxmlformats.org/officeDocument/2006/relationships/slideLayout" Target="../slideLayouts/slideLayout905.xml"/><Relationship Id="rId9" Type="http://schemas.openxmlformats.org/officeDocument/2006/relationships/slideLayout" Target="../slideLayouts/slideLayout906.xml"/><Relationship Id="rId10" Type="http://schemas.openxmlformats.org/officeDocument/2006/relationships/slideLayout" Target="../slideLayouts/slideLayout907.xml"/><Relationship Id="rId11" Type="http://schemas.openxmlformats.org/officeDocument/2006/relationships/slideLayout" Target="../slideLayouts/slideLayout908.xml"/><Relationship Id="rId12" Type="http://schemas.openxmlformats.org/officeDocument/2006/relationships/slideLayout" Target="../slideLayouts/slideLayout909.xml"/><Relationship Id="rId13" Type="http://schemas.openxmlformats.org/officeDocument/2006/relationships/slideLayout" Target="../slideLayouts/slideLayout910.xml"/><Relationship Id="rId14" Type="http://schemas.openxmlformats.org/officeDocument/2006/relationships/slideLayout" Target="../slideLayouts/slideLayout911.xml"/><Relationship Id="rId15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13.xml"/><Relationship Id="rId5" Type="http://schemas.openxmlformats.org/officeDocument/2006/relationships/slideLayout" Target="../slideLayouts/slideLayout914.xml"/><Relationship Id="rId6" Type="http://schemas.openxmlformats.org/officeDocument/2006/relationships/slideLayout" Target="../slideLayouts/slideLayout915.xml"/><Relationship Id="rId7" Type="http://schemas.openxmlformats.org/officeDocument/2006/relationships/slideLayout" Target="../slideLayouts/slideLayout916.xml"/><Relationship Id="rId8" Type="http://schemas.openxmlformats.org/officeDocument/2006/relationships/slideLayout" Target="../slideLayouts/slideLayout917.xml"/><Relationship Id="rId9" Type="http://schemas.openxmlformats.org/officeDocument/2006/relationships/slideLayout" Target="../slideLayouts/slideLayout918.xml"/><Relationship Id="rId10" Type="http://schemas.openxmlformats.org/officeDocument/2006/relationships/slideLayout" Target="../slideLayouts/slideLayout919.xml"/><Relationship Id="rId11" Type="http://schemas.openxmlformats.org/officeDocument/2006/relationships/slideLayout" Target="../slideLayouts/slideLayout920.xml"/><Relationship Id="rId12" Type="http://schemas.openxmlformats.org/officeDocument/2006/relationships/slideLayout" Target="../slideLayouts/slideLayout921.xml"/><Relationship Id="rId13" Type="http://schemas.openxmlformats.org/officeDocument/2006/relationships/slideLayout" Target="../slideLayouts/slideLayout922.xml"/><Relationship Id="rId14" Type="http://schemas.openxmlformats.org/officeDocument/2006/relationships/slideLayout" Target="../slideLayouts/slideLayout923.xml"/><Relationship Id="rId15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25.xml"/><Relationship Id="rId5" Type="http://schemas.openxmlformats.org/officeDocument/2006/relationships/slideLayout" Target="../slideLayouts/slideLayout926.xml"/><Relationship Id="rId6" Type="http://schemas.openxmlformats.org/officeDocument/2006/relationships/slideLayout" Target="../slideLayouts/slideLayout927.xml"/><Relationship Id="rId7" Type="http://schemas.openxmlformats.org/officeDocument/2006/relationships/slideLayout" Target="../slideLayouts/slideLayout928.xml"/><Relationship Id="rId8" Type="http://schemas.openxmlformats.org/officeDocument/2006/relationships/slideLayout" Target="../slideLayouts/slideLayout929.xml"/><Relationship Id="rId9" Type="http://schemas.openxmlformats.org/officeDocument/2006/relationships/slideLayout" Target="../slideLayouts/slideLayout930.xml"/><Relationship Id="rId10" Type="http://schemas.openxmlformats.org/officeDocument/2006/relationships/slideLayout" Target="../slideLayouts/slideLayout931.xml"/><Relationship Id="rId11" Type="http://schemas.openxmlformats.org/officeDocument/2006/relationships/slideLayout" Target="../slideLayouts/slideLayout932.xml"/><Relationship Id="rId12" Type="http://schemas.openxmlformats.org/officeDocument/2006/relationships/slideLayout" Target="../slideLayouts/slideLayout933.xml"/><Relationship Id="rId13" Type="http://schemas.openxmlformats.org/officeDocument/2006/relationships/slideLayout" Target="../slideLayouts/slideLayout934.xml"/><Relationship Id="rId14" Type="http://schemas.openxmlformats.org/officeDocument/2006/relationships/slideLayout" Target="../slideLayouts/slideLayout935.xml"/><Relationship Id="rId15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37.xml"/><Relationship Id="rId5" Type="http://schemas.openxmlformats.org/officeDocument/2006/relationships/slideLayout" Target="../slideLayouts/slideLayout938.xml"/><Relationship Id="rId6" Type="http://schemas.openxmlformats.org/officeDocument/2006/relationships/slideLayout" Target="../slideLayouts/slideLayout939.xml"/><Relationship Id="rId7" Type="http://schemas.openxmlformats.org/officeDocument/2006/relationships/slideLayout" Target="../slideLayouts/slideLayout940.xml"/><Relationship Id="rId8" Type="http://schemas.openxmlformats.org/officeDocument/2006/relationships/slideLayout" Target="../slideLayouts/slideLayout941.xml"/><Relationship Id="rId9" Type="http://schemas.openxmlformats.org/officeDocument/2006/relationships/slideLayout" Target="../slideLayouts/slideLayout942.xml"/><Relationship Id="rId10" Type="http://schemas.openxmlformats.org/officeDocument/2006/relationships/slideLayout" Target="../slideLayouts/slideLayout943.xml"/><Relationship Id="rId11" Type="http://schemas.openxmlformats.org/officeDocument/2006/relationships/slideLayout" Target="../slideLayouts/slideLayout944.xml"/><Relationship Id="rId12" Type="http://schemas.openxmlformats.org/officeDocument/2006/relationships/slideLayout" Target="../slideLayouts/slideLayout945.xml"/><Relationship Id="rId13" Type="http://schemas.openxmlformats.org/officeDocument/2006/relationships/slideLayout" Target="../slideLayouts/slideLayout946.xml"/><Relationship Id="rId14" Type="http://schemas.openxmlformats.org/officeDocument/2006/relationships/slideLayout" Target="../slideLayouts/slideLayout947.xml"/><Relationship Id="rId15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49.xml"/><Relationship Id="rId5" Type="http://schemas.openxmlformats.org/officeDocument/2006/relationships/slideLayout" Target="../slideLayouts/slideLayout950.xml"/><Relationship Id="rId6" Type="http://schemas.openxmlformats.org/officeDocument/2006/relationships/slideLayout" Target="../slideLayouts/slideLayout951.xml"/><Relationship Id="rId7" Type="http://schemas.openxmlformats.org/officeDocument/2006/relationships/slideLayout" Target="../slideLayouts/slideLayout952.xml"/><Relationship Id="rId8" Type="http://schemas.openxmlformats.org/officeDocument/2006/relationships/slideLayout" Target="../slideLayouts/slideLayout953.xml"/><Relationship Id="rId9" Type="http://schemas.openxmlformats.org/officeDocument/2006/relationships/slideLayout" Target="../slideLayouts/slideLayout954.xml"/><Relationship Id="rId10" Type="http://schemas.openxmlformats.org/officeDocument/2006/relationships/slideLayout" Target="../slideLayouts/slideLayout955.xml"/><Relationship Id="rId11" Type="http://schemas.openxmlformats.org/officeDocument/2006/relationships/slideLayout" Target="../slideLayouts/slideLayout956.xml"/><Relationship Id="rId12" Type="http://schemas.openxmlformats.org/officeDocument/2006/relationships/slideLayout" Target="../slideLayouts/slideLayout957.xml"/><Relationship Id="rId13" Type="http://schemas.openxmlformats.org/officeDocument/2006/relationships/slideLayout" Target="../slideLayouts/slideLayout958.xml"/><Relationship Id="rId14" Type="http://schemas.openxmlformats.org/officeDocument/2006/relationships/slideLayout" Target="../slideLayouts/slideLayout959.xml"/><Relationship Id="rId15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61.xml"/><Relationship Id="rId5" Type="http://schemas.openxmlformats.org/officeDocument/2006/relationships/slideLayout" Target="../slideLayouts/slideLayout962.xml"/><Relationship Id="rId6" Type="http://schemas.openxmlformats.org/officeDocument/2006/relationships/slideLayout" Target="../slideLayouts/slideLayout963.xml"/><Relationship Id="rId7" Type="http://schemas.openxmlformats.org/officeDocument/2006/relationships/slideLayout" Target="../slideLayouts/slideLayout964.xml"/><Relationship Id="rId8" Type="http://schemas.openxmlformats.org/officeDocument/2006/relationships/slideLayout" Target="../slideLayouts/slideLayout965.xml"/><Relationship Id="rId9" Type="http://schemas.openxmlformats.org/officeDocument/2006/relationships/slideLayout" Target="../slideLayouts/slideLayout966.xml"/><Relationship Id="rId10" Type="http://schemas.openxmlformats.org/officeDocument/2006/relationships/slideLayout" Target="../slideLayouts/slideLayout967.xml"/><Relationship Id="rId11" Type="http://schemas.openxmlformats.org/officeDocument/2006/relationships/slideLayout" Target="../slideLayouts/slideLayout968.xml"/><Relationship Id="rId12" Type="http://schemas.openxmlformats.org/officeDocument/2006/relationships/slideLayout" Target="../slideLayouts/slideLayout969.xml"/><Relationship Id="rId13" Type="http://schemas.openxmlformats.org/officeDocument/2006/relationships/slideLayout" Target="../slideLayouts/slideLayout970.xml"/><Relationship Id="rId14" Type="http://schemas.openxmlformats.org/officeDocument/2006/relationships/slideLayout" Target="../slideLayouts/slideLayout971.xml"/><Relationship Id="rId15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3.xml"/><Relationship Id="rId5" Type="http://schemas.openxmlformats.org/officeDocument/2006/relationships/slideLayout" Target="../slideLayouts/slideLayout974.xml"/><Relationship Id="rId6" Type="http://schemas.openxmlformats.org/officeDocument/2006/relationships/slideLayout" Target="../slideLayouts/slideLayout975.xml"/><Relationship Id="rId7" Type="http://schemas.openxmlformats.org/officeDocument/2006/relationships/slideLayout" Target="../slideLayouts/slideLayout976.xml"/><Relationship Id="rId8" Type="http://schemas.openxmlformats.org/officeDocument/2006/relationships/slideLayout" Target="../slideLayouts/slideLayout977.xml"/><Relationship Id="rId9" Type="http://schemas.openxmlformats.org/officeDocument/2006/relationships/slideLayout" Target="../slideLayouts/slideLayout978.xml"/><Relationship Id="rId10" Type="http://schemas.openxmlformats.org/officeDocument/2006/relationships/slideLayout" Target="../slideLayouts/slideLayout979.xml"/><Relationship Id="rId11" Type="http://schemas.openxmlformats.org/officeDocument/2006/relationships/slideLayout" Target="../slideLayouts/slideLayout980.xml"/><Relationship Id="rId12" Type="http://schemas.openxmlformats.org/officeDocument/2006/relationships/slideLayout" Target="../slideLayouts/slideLayout981.xml"/><Relationship Id="rId13" Type="http://schemas.openxmlformats.org/officeDocument/2006/relationships/slideLayout" Target="../slideLayouts/slideLayout982.xml"/><Relationship Id="rId14" Type="http://schemas.openxmlformats.org/officeDocument/2006/relationships/slideLayout" Target="../slideLayouts/slideLayout983.xml"/><Relationship Id="rId15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85.xml"/><Relationship Id="rId5" Type="http://schemas.openxmlformats.org/officeDocument/2006/relationships/slideLayout" Target="../slideLayouts/slideLayout986.xml"/><Relationship Id="rId6" Type="http://schemas.openxmlformats.org/officeDocument/2006/relationships/slideLayout" Target="../slideLayouts/slideLayout987.xml"/><Relationship Id="rId7" Type="http://schemas.openxmlformats.org/officeDocument/2006/relationships/slideLayout" Target="../slideLayouts/slideLayout988.xml"/><Relationship Id="rId8" Type="http://schemas.openxmlformats.org/officeDocument/2006/relationships/slideLayout" Target="../slideLayouts/slideLayout989.xml"/><Relationship Id="rId9" Type="http://schemas.openxmlformats.org/officeDocument/2006/relationships/slideLayout" Target="../slideLayouts/slideLayout990.xml"/><Relationship Id="rId10" Type="http://schemas.openxmlformats.org/officeDocument/2006/relationships/slideLayout" Target="../slideLayouts/slideLayout991.xml"/><Relationship Id="rId11" Type="http://schemas.openxmlformats.org/officeDocument/2006/relationships/slideLayout" Target="../slideLayouts/slideLayout992.xml"/><Relationship Id="rId12" Type="http://schemas.openxmlformats.org/officeDocument/2006/relationships/slideLayout" Target="../slideLayouts/slideLayout993.xml"/><Relationship Id="rId13" Type="http://schemas.openxmlformats.org/officeDocument/2006/relationships/slideLayout" Target="../slideLayouts/slideLayout994.xml"/><Relationship Id="rId14" Type="http://schemas.openxmlformats.org/officeDocument/2006/relationships/slideLayout" Target="../slideLayouts/slideLayout995.xml"/><Relationship Id="rId15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97.xml"/><Relationship Id="rId5" Type="http://schemas.openxmlformats.org/officeDocument/2006/relationships/slideLayout" Target="../slideLayouts/slideLayout998.xml"/><Relationship Id="rId6" Type="http://schemas.openxmlformats.org/officeDocument/2006/relationships/slideLayout" Target="../slideLayouts/slideLayout999.xml"/><Relationship Id="rId7" Type="http://schemas.openxmlformats.org/officeDocument/2006/relationships/slideLayout" Target="../slideLayouts/slideLayout1000.xml"/><Relationship Id="rId8" Type="http://schemas.openxmlformats.org/officeDocument/2006/relationships/slideLayout" Target="../slideLayouts/slideLayout1001.xml"/><Relationship Id="rId9" Type="http://schemas.openxmlformats.org/officeDocument/2006/relationships/slideLayout" Target="../slideLayouts/slideLayout1002.xml"/><Relationship Id="rId10" Type="http://schemas.openxmlformats.org/officeDocument/2006/relationships/slideLayout" Target="../slideLayouts/slideLayout1003.xml"/><Relationship Id="rId11" Type="http://schemas.openxmlformats.org/officeDocument/2006/relationships/slideLayout" Target="../slideLayouts/slideLayout1004.xml"/><Relationship Id="rId12" Type="http://schemas.openxmlformats.org/officeDocument/2006/relationships/slideLayout" Target="../slideLayouts/slideLayout1005.xml"/><Relationship Id="rId13" Type="http://schemas.openxmlformats.org/officeDocument/2006/relationships/slideLayout" Target="../slideLayouts/slideLayout1006.xml"/><Relationship Id="rId14" Type="http://schemas.openxmlformats.org/officeDocument/2006/relationships/slideLayout" Target="../slideLayouts/slideLayout1007.xml"/><Relationship Id="rId15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09.xml"/><Relationship Id="rId5" Type="http://schemas.openxmlformats.org/officeDocument/2006/relationships/slideLayout" Target="../slideLayouts/slideLayout1010.xml"/><Relationship Id="rId6" Type="http://schemas.openxmlformats.org/officeDocument/2006/relationships/slideLayout" Target="../slideLayouts/slideLayout1011.xml"/><Relationship Id="rId7" Type="http://schemas.openxmlformats.org/officeDocument/2006/relationships/slideLayout" Target="../slideLayouts/slideLayout1012.xml"/><Relationship Id="rId8" Type="http://schemas.openxmlformats.org/officeDocument/2006/relationships/slideLayout" Target="../slideLayouts/slideLayout1013.xml"/><Relationship Id="rId9" Type="http://schemas.openxmlformats.org/officeDocument/2006/relationships/slideLayout" Target="../slideLayouts/slideLayout1014.xml"/><Relationship Id="rId10" Type="http://schemas.openxmlformats.org/officeDocument/2006/relationships/slideLayout" Target="../slideLayouts/slideLayout1015.xml"/><Relationship Id="rId11" Type="http://schemas.openxmlformats.org/officeDocument/2006/relationships/slideLayout" Target="../slideLayouts/slideLayout1016.xml"/><Relationship Id="rId12" Type="http://schemas.openxmlformats.org/officeDocument/2006/relationships/slideLayout" Target="../slideLayouts/slideLayout1017.xml"/><Relationship Id="rId13" Type="http://schemas.openxmlformats.org/officeDocument/2006/relationships/slideLayout" Target="../slideLayouts/slideLayout1018.xml"/><Relationship Id="rId14" Type="http://schemas.openxmlformats.org/officeDocument/2006/relationships/slideLayout" Target="../slideLayouts/slideLayout1019.xml"/><Relationship Id="rId15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21.xml"/><Relationship Id="rId5" Type="http://schemas.openxmlformats.org/officeDocument/2006/relationships/slideLayout" Target="../slideLayouts/slideLayout1022.xml"/><Relationship Id="rId6" Type="http://schemas.openxmlformats.org/officeDocument/2006/relationships/slideLayout" Target="../slideLayouts/slideLayout1023.xml"/><Relationship Id="rId7" Type="http://schemas.openxmlformats.org/officeDocument/2006/relationships/slideLayout" Target="../slideLayouts/slideLayout1024.xml"/><Relationship Id="rId8" Type="http://schemas.openxmlformats.org/officeDocument/2006/relationships/slideLayout" Target="../slideLayouts/slideLayout1025.xml"/><Relationship Id="rId9" Type="http://schemas.openxmlformats.org/officeDocument/2006/relationships/slideLayout" Target="../slideLayouts/slideLayout1026.xml"/><Relationship Id="rId10" Type="http://schemas.openxmlformats.org/officeDocument/2006/relationships/slideLayout" Target="../slideLayouts/slideLayout1027.xml"/><Relationship Id="rId11" Type="http://schemas.openxmlformats.org/officeDocument/2006/relationships/slideLayout" Target="../slideLayouts/slideLayout1028.xml"/><Relationship Id="rId12" Type="http://schemas.openxmlformats.org/officeDocument/2006/relationships/slideLayout" Target="../slideLayouts/slideLayout1029.xml"/><Relationship Id="rId13" Type="http://schemas.openxmlformats.org/officeDocument/2006/relationships/slideLayout" Target="../slideLayouts/slideLayout1030.xml"/><Relationship Id="rId14" Type="http://schemas.openxmlformats.org/officeDocument/2006/relationships/slideLayout" Target="../slideLayouts/slideLayout1031.xml"/><Relationship Id="rId15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33.xml"/><Relationship Id="rId5" Type="http://schemas.openxmlformats.org/officeDocument/2006/relationships/slideLayout" Target="../slideLayouts/slideLayout1034.xml"/><Relationship Id="rId6" Type="http://schemas.openxmlformats.org/officeDocument/2006/relationships/slideLayout" Target="../slideLayouts/slideLayout1035.xml"/><Relationship Id="rId7" Type="http://schemas.openxmlformats.org/officeDocument/2006/relationships/slideLayout" Target="../slideLayouts/slideLayout1036.xml"/><Relationship Id="rId8" Type="http://schemas.openxmlformats.org/officeDocument/2006/relationships/slideLayout" Target="../slideLayouts/slideLayout1037.xml"/><Relationship Id="rId9" Type="http://schemas.openxmlformats.org/officeDocument/2006/relationships/slideLayout" Target="../slideLayouts/slideLayout1038.xml"/><Relationship Id="rId10" Type="http://schemas.openxmlformats.org/officeDocument/2006/relationships/slideLayout" Target="../slideLayouts/slideLayout1039.xml"/><Relationship Id="rId11" Type="http://schemas.openxmlformats.org/officeDocument/2006/relationships/slideLayout" Target="../slideLayouts/slideLayout1040.xml"/><Relationship Id="rId12" Type="http://schemas.openxmlformats.org/officeDocument/2006/relationships/slideLayout" Target="../slideLayouts/slideLayout1041.xml"/><Relationship Id="rId13" Type="http://schemas.openxmlformats.org/officeDocument/2006/relationships/slideLayout" Target="../slideLayouts/slideLayout1042.xml"/><Relationship Id="rId14" Type="http://schemas.openxmlformats.org/officeDocument/2006/relationships/slideLayout" Target="../slideLayouts/slideLayout1043.xml"/><Relationship Id="rId15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45.xml"/><Relationship Id="rId5" Type="http://schemas.openxmlformats.org/officeDocument/2006/relationships/slideLayout" Target="../slideLayouts/slideLayout1046.xml"/><Relationship Id="rId6" Type="http://schemas.openxmlformats.org/officeDocument/2006/relationships/slideLayout" Target="../slideLayouts/slideLayout1047.xml"/><Relationship Id="rId7" Type="http://schemas.openxmlformats.org/officeDocument/2006/relationships/slideLayout" Target="../slideLayouts/slideLayout1048.xml"/><Relationship Id="rId8" Type="http://schemas.openxmlformats.org/officeDocument/2006/relationships/slideLayout" Target="../slideLayouts/slideLayout1049.xml"/><Relationship Id="rId9" Type="http://schemas.openxmlformats.org/officeDocument/2006/relationships/slideLayout" Target="../slideLayouts/slideLayout1050.xml"/><Relationship Id="rId10" Type="http://schemas.openxmlformats.org/officeDocument/2006/relationships/slideLayout" Target="../slideLayouts/slideLayout1051.xml"/><Relationship Id="rId11" Type="http://schemas.openxmlformats.org/officeDocument/2006/relationships/slideLayout" Target="../slideLayouts/slideLayout1052.xml"/><Relationship Id="rId12" Type="http://schemas.openxmlformats.org/officeDocument/2006/relationships/slideLayout" Target="../slideLayouts/slideLayout1053.xml"/><Relationship Id="rId13" Type="http://schemas.openxmlformats.org/officeDocument/2006/relationships/slideLayout" Target="../slideLayouts/slideLayout1054.xml"/><Relationship Id="rId14" Type="http://schemas.openxmlformats.org/officeDocument/2006/relationships/slideLayout" Target="../slideLayouts/slideLayout1055.xml"/><Relationship Id="rId15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57.xml"/><Relationship Id="rId5" Type="http://schemas.openxmlformats.org/officeDocument/2006/relationships/slideLayout" Target="../slideLayouts/slideLayout1058.xml"/><Relationship Id="rId6" Type="http://schemas.openxmlformats.org/officeDocument/2006/relationships/slideLayout" Target="../slideLayouts/slideLayout1059.xml"/><Relationship Id="rId7" Type="http://schemas.openxmlformats.org/officeDocument/2006/relationships/slideLayout" Target="../slideLayouts/slideLayout1060.xml"/><Relationship Id="rId8" Type="http://schemas.openxmlformats.org/officeDocument/2006/relationships/slideLayout" Target="../slideLayouts/slideLayout1061.xml"/><Relationship Id="rId9" Type="http://schemas.openxmlformats.org/officeDocument/2006/relationships/slideLayout" Target="../slideLayouts/slideLayout1062.xml"/><Relationship Id="rId10" Type="http://schemas.openxmlformats.org/officeDocument/2006/relationships/slideLayout" Target="../slideLayouts/slideLayout1063.xml"/><Relationship Id="rId11" Type="http://schemas.openxmlformats.org/officeDocument/2006/relationships/slideLayout" Target="../slideLayouts/slideLayout1064.xml"/><Relationship Id="rId12" Type="http://schemas.openxmlformats.org/officeDocument/2006/relationships/slideLayout" Target="../slideLayouts/slideLayout1065.xml"/><Relationship Id="rId13" Type="http://schemas.openxmlformats.org/officeDocument/2006/relationships/slideLayout" Target="../slideLayouts/slideLayout1066.xml"/><Relationship Id="rId14" Type="http://schemas.openxmlformats.org/officeDocument/2006/relationships/slideLayout" Target="../slideLayouts/slideLayout1067.xml"/><Relationship Id="rId15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69.xml"/><Relationship Id="rId5" Type="http://schemas.openxmlformats.org/officeDocument/2006/relationships/slideLayout" Target="../slideLayouts/slideLayout1070.xml"/><Relationship Id="rId6" Type="http://schemas.openxmlformats.org/officeDocument/2006/relationships/slideLayout" Target="../slideLayouts/slideLayout1071.xml"/><Relationship Id="rId7" Type="http://schemas.openxmlformats.org/officeDocument/2006/relationships/slideLayout" Target="../slideLayouts/slideLayout1072.xml"/><Relationship Id="rId8" Type="http://schemas.openxmlformats.org/officeDocument/2006/relationships/slideLayout" Target="../slideLayouts/slideLayout1073.xml"/><Relationship Id="rId9" Type="http://schemas.openxmlformats.org/officeDocument/2006/relationships/slideLayout" Target="../slideLayouts/slideLayout1074.xml"/><Relationship Id="rId10" Type="http://schemas.openxmlformats.org/officeDocument/2006/relationships/slideLayout" Target="../slideLayouts/slideLayout1075.xml"/><Relationship Id="rId11" Type="http://schemas.openxmlformats.org/officeDocument/2006/relationships/slideLayout" Target="../slideLayouts/slideLayout1076.xml"/><Relationship Id="rId12" Type="http://schemas.openxmlformats.org/officeDocument/2006/relationships/slideLayout" Target="../slideLayouts/slideLayout1077.xml"/><Relationship Id="rId13" Type="http://schemas.openxmlformats.org/officeDocument/2006/relationships/slideLayout" Target="../slideLayouts/slideLayout1078.xml"/><Relationship Id="rId14" Type="http://schemas.openxmlformats.org/officeDocument/2006/relationships/slideLayout" Target="../slideLayouts/slideLayout1079.xml"/><Relationship Id="rId15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81.xml"/><Relationship Id="rId5" Type="http://schemas.openxmlformats.org/officeDocument/2006/relationships/slideLayout" Target="../slideLayouts/slideLayout1082.xml"/><Relationship Id="rId6" Type="http://schemas.openxmlformats.org/officeDocument/2006/relationships/slideLayout" Target="../slideLayouts/slideLayout1083.xml"/><Relationship Id="rId7" Type="http://schemas.openxmlformats.org/officeDocument/2006/relationships/slideLayout" Target="../slideLayouts/slideLayout1084.xml"/><Relationship Id="rId8" Type="http://schemas.openxmlformats.org/officeDocument/2006/relationships/slideLayout" Target="../slideLayouts/slideLayout1085.xml"/><Relationship Id="rId9" Type="http://schemas.openxmlformats.org/officeDocument/2006/relationships/slideLayout" Target="../slideLayouts/slideLayout1086.xml"/><Relationship Id="rId10" Type="http://schemas.openxmlformats.org/officeDocument/2006/relationships/slideLayout" Target="../slideLayouts/slideLayout1087.xml"/><Relationship Id="rId11" Type="http://schemas.openxmlformats.org/officeDocument/2006/relationships/slideLayout" Target="../slideLayouts/slideLayout1088.xml"/><Relationship Id="rId12" Type="http://schemas.openxmlformats.org/officeDocument/2006/relationships/slideLayout" Target="../slideLayouts/slideLayout1089.xml"/><Relationship Id="rId13" Type="http://schemas.openxmlformats.org/officeDocument/2006/relationships/slideLayout" Target="../slideLayouts/slideLayout1090.xml"/><Relationship Id="rId14" Type="http://schemas.openxmlformats.org/officeDocument/2006/relationships/slideLayout" Target="../slideLayouts/slideLayout1091.xml"/><Relationship Id="rId15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3.xml"/><Relationship Id="rId5" Type="http://schemas.openxmlformats.org/officeDocument/2006/relationships/slideLayout" Target="../slideLayouts/slideLayout1094.xml"/><Relationship Id="rId6" Type="http://schemas.openxmlformats.org/officeDocument/2006/relationships/slideLayout" Target="../slideLayouts/slideLayout1095.xml"/><Relationship Id="rId7" Type="http://schemas.openxmlformats.org/officeDocument/2006/relationships/slideLayout" Target="../slideLayouts/slideLayout1096.xml"/><Relationship Id="rId8" Type="http://schemas.openxmlformats.org/officeDocument/2006/relationships/slideLayout" Target="../slideLayouts/slideLayout1097.xml"/><Relationship Id="rId9" Type="http://schemas.openxmlformats.org/officeDocument/2006/relationships/slideLayout" Target="../slideLayouts/slideLayout1098.xml"/><Relationship Id="rId10" Type="http://schemas.openxmlformats.org/officeDocument/2006/relationships/slideLayout" Target="../slideLayouts/slideLayout1099.xml"/><Relationship Id="rId11" Type="http://schemas.openxmlformats.org/officeDocument/2006/relationships/slideLayout" Target="../slideLayouts/slideLayout1100.xml"/><Relationship Id="rId12" Type="http://schemas.openxmlformats.org/officeDocument/2006/relationships/slideLayout" Target="../slideLayouts/slideLayout1101.xml"/><Relationship Id="rId13" Type="http://schemas.openxmlformats.org/officeDocument/2006/relationships/slideLayout" Target="../slideLayouts/slideLayout1102.xml"/><Relationship Id="rId14" Type="http://schemas.openxmlformats.org/officeDocument/2006/relationships/slideLayout" Target="../slideLayouts/slideLayout1103.xml"/><Relationship Id="rId15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05.xml"/><Relationship Id="rId5" Type="http://schemas.openxmlformats.org/officeDocument/2006/relationships/slideLayout" Target="../slideLayouts/slideLayout1106.xml"/><Relationship Id="rId6" Type="http://schemas.openxmlformats.org/officeDocument/2006/relationships/slideLayout" Target="../slideLayouts/slideLayout1107.xml"/><Relationship Id="rId7" Type="http://schemas.openxmlformats.org/officeDocument/2006/relationships/slideLayout" Target="../slideLayouts/slideLayout1108.xml"/><Relationship Id="rId8" Type="http://schemas.openxmlformats.org/officeDocument/2006/relationships/slideLayout" Target="../slideLayouts/slideLayout1109.xml"/><Relationship Id="rId9" Type="http://schemas.openxmlformats.org/officeDocument/2006/relationships/slideLayout" Target="../slideLayouts/slideLayout1110.xml"/><Relationship Id="rId10" Type="http://schemas.openxmlformats.org/officeDocument/2006/relationships/slideLayout" Target="../slideLayouts/slideLayout1111.xml"/><Relationship Id="rId11" Type="http://schemas.openxmlformats.org/officeDocument/2006/relationships/slideLayout" Target="../slideLayouts/slideLayout1112.xml"/><Relationship Id="rId12" Type="http://schemas.openxmlformats.org/officeDocument/2006/relationships/slideLayout" Target="../slideLayouts/slideLayout1113.xml"/><Relationship Id="rId13" Type="http://schemas.openxmlformats.org/officeDocument/2006/relationships/slideLayout" Target="../slideLayouts/slideLayout1114.xml"/><Relationship Id="rId14" Type="http://schemas.openxmlformats.org/officeDocument/2006/relationships/slideLayout" Target="../slideLayouts/slideLayout1115.xml"/><Relationship Id="rId15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17.xml"/><Relationship Id="rId5" Type="http://schemas.openxmlformats.org/officeDocument/2006/relationships/slideLayout" Target="../slideLayouts/slideLayout1118.xml"/><Relationship Id="rId6" Type="http://schemas.openxmlformats.org/officeDocument/2006/relationships/slideLayout" Target="../slideLayouts/slideLayout1119.xml"/><Relationship Id="rId7" Type="http://schemas.openxmlformats.org/officeDocument/2006/relationships/slideLayout" Target="../slideLayouts/slideLayout1120.xml"/><Relationship Id="rId8" Type="http://schemas.openxmlformats.org/officeDocument/2006/relationships/slideLayout" Target="../slideLayouts/slideLayout1121.xml"/><Relationship Id="rId9" Type="http://schemas.openxmlformats.org/officeDocument/2006/relationships/slideLayout" Target="../slideLayouts/slideLayout1122.xml"/><Relationship Id="rId10" Type="http://schemas.openxmlformats.org/officeDocument/2006/relationships/slideLayout" Target="../slideLayouts/slideLayout1123.xml"/><Relationship Id="rId11" Type="http://schemas.openxmlformats.org/officeDocument/2006/relationships/slideLayout" Target="../slideLayouts/slideLayout1124.xml"/><Relationship Id="rId12" Type="http://schemas.openxmlformats.org/officeDocument/2006/relationships/slideLayout" Target="../slideLayouts/slideLayout1125.xml"/><Relationship Id="rId13" Type="http://schemas.openxmlformats.org/officeDocument/2006/relationships/slideLayout" Target="../slideLayouts/slideLayout1126.xml"/><Relationship Id="rId14" Type="http://schemas.openxmlformats.org/officeDocument/2006/relationships/slideLayout" Target="../slideLayouts/slideLayout1127.xml"/><Relationship Id="rId15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129.xml"/><Relationship Id="rId5" Type="http://schemas.openxmlformats.org/officeDocument/2006/relationships/slideLayout" Target="../slideLayouts/slideLayout1130.xml"/><Relationship Id="rId6" Type="http://schemas.openxmlformats.org/officeDocument/2006/relationships/slideLayout" Target="../slideLayouts/slideLayout1131.xml"/><Relationship Id="rId7" Type="http://schemas.openxmlformats.org/officeDocument/2006/relationships/slideLayout" Target="../slideLayouts/slideLayout1132.xml"/><Relationship Id="rId8" Type="http://schemas.openxmlformats.org/officeDocument/2006/relationships/slideLayout" Target="../slideLayouts/slideLayout1133.xml"/><Relationship Id="rId9" Type="http://schemas.openxmlformats.org/officeDocument/2006/relationships/slideLayout" Target="../slideLayouts/slideLayout1134.xml"/><Relationship Id="rId10" Type="http://schemas.openxmlformats.org/officeDocument/2006/relationships/slideLayout" Target="../slideLayouts/slideLayout1135.xml"/><Relationship Id="rId11" Type="http://schemas.openxmlformats.org/officeDocument/2006/relationships/slideLayout" Target="../slideLayouts/slideLayout1136.xml"/><Relationship Id="rId12" Type="http://schemas.openxmlformats.org/officeDocument/2006/relationships/slideLayout" Target="../slideLayouts/slideLayout1137.xml"/><Relationship Id="rId13" Type="http://schemas.openxmlformats.org/officeDocument/2006/relationships/slideLayout" Target="../slideLayouts/slideLayout1138.xml"/><Relationship Id="rId14" Type="http://schemas.openxmlformats.org/officeDocument/2006/relationships/slideLayout" Target="../slideLayouts/slideLayout1139.xml"/><Relationship Id="rId15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41.xml"/><Relationship Id="rId5" Type="http://schemas.openxmlformats.org/officeDocument/2006/relationships/slideLayout" Target="../slideLayouts/slideLayout1142.xml"/><Relationship Id="rId6" Type="http://schemas.openxmlformats.org/officeDocument/2006/relationships/slideLayout" Target="../slideLayouts/slideLayout1143.xml"/><Relationship Id="rId7" Type="http://schemas.openxmlformats.org/officeDocument/2006/relationships/slideLayout" Target="../slideLayouts/slideLayout1144.xml"/><Relationship Id="rId8" Type="http://schemas.openxmlformats.org/officeDocument/2006/relationships/slideLayout" Target="../slideLayouts/slideLayout1145.xml"/><Relationship Id="rId9" Type="http://schemas.openxmlformats.org/officeDocument/2006/relationships/slideLayout" Target="../slideLayouts/slideLayout1146.xml"/><Relationship Id="rId10" Type="http://schemas.openxmlformats.org/officeDocument/2006/relationships/slideLayout" Target="../slideLayouts/slideLayout1147.xml"/><Relationship Id="rId11" Type="http://schemas.openxmlformats.org/officeDocument/2006/relationships/slideLayout" Target="../slideLayouts/slideLayout1148.xml"/><Relationship Id="rId12" Type="http://schemas.openxmlformats.org/officeDocument/2006/relationships/slideLayout" Target="../slideLayouts/slideLayout1149.xml"/><Relationship Id="rId13" Type="http://schemas.openxmlformats.org/officeDocument/2006/relationships/slideLayout" Target="../slideLayouts/slideLayout1150.xml"/><Relationship Id="rId14" Type="http://schemas.openxmlformats.org/officeDocument/2006/relationships/slideLayout" Target="../slideLayouts/slideLayout1151.xml"/><Relationship Id="rId15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53.xml"/><Relationship Id="rId5" Type="http://schemas.openxmlformats.org/officeDocument/2006/relationships/slideLayout" Target="../slideLayouts/slideLayout1154.xml"/><Relationship Id="rId6" Type="http://schemas.openxmlformats.org/officeDocument/2006/relationships/slideLayout" Target="../slideLayouts/slideLayout1155.xml"/><Relationship Id="rId7" Type="http://schemas.openxmlformats.org/officeDocument/2006/relationships/slideLayout" Target="../slideLayouts/slideLayout1156.xml"/><Relationship Id="rId8" Type="http://schemas.openxmlformats.org/officeDocument/2006/relationships/slideLayout" Target="../slideLayouts/slideLayout1157.xml"/><Relationship Id="rId9" Type="http://schemas.openxmlformats.org/officeDocument/2006/relationships/slideLayout" Target="../slideLayouts/slideLayout1158.xml"/><Relationship Id="rId10" Type="http://schemas.openxmlformats.org/officeDocument/2006/relationships/slideLayout" Target="../slideLayouts/slideLayout1159.xml"/><Relationship Id="rId11" Type="http://schemas.openxmlformats.org/officeDocument/2006/relationships/slideLayout" Target="../slideLayouts/slideLayout1160.xml"/><Relationship Id="rId12" Type="http://schemas.openxmlformats.org/officeDocument/2006/relationships/slideLayout" Target="../slideLayouts/slideLayout1161.xml"/><Relationship Id="rId13" Type="http://schemas.openxmlformats.org/officeDocument/2006/relationships/slideLayout" Target="../slideLayouts/slideLayout1162.xml"/><Relationship Id="rId14" Type="http://schemas.openxmlformats.org/officeDocument/2006/relationships/slideLayout" Target="../slideLayouts/slideLayout1163.xml"/><Relationship Id="rId15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65.xml"/><Relationship Id="rId5" Type="http://schemas.openxmlformats.org/officeDocument/2006/relationships/slideLayout" Target="../slideLayouts/slideLayout1166.xml"/><Relationship Id="rId6" Type="http://schemas.openxmlformats.org/officeDocument/2006/relationships/slideLayout" Target="../slideLayouts/slideLayout1167.xml"/><Relationship Id="rId7" Type="http://schemas.openxmlformats.org/officeDocument/2006/relationships/slideLayout" Target="../slideLayouts/slideLayout1168.xml"/><Relationship Id="rId8" Type="http://schemas.openxmlformats.org/officeDocument/2006/relationships/slideLayout" Target="../slideLayouts/slideLayout1169.xml"/><Relationship Id="rId9" Type="http://schemas.openxmlformats.org/officeDocument/2006/relationships/slideLayout" Target="../slideLayouts/slideLayout1170.xml"/><Relationship Id="rId10" Type="http://schemas.openxmlformats.org/officeDocument/2006/relationships/slideLayout" Target="../slideLayouts/slideLayout1171.xml"/><Relationship Id="rId11" Type="http://schemas.openxmlformats.org/officeDocument/2006/relationships/slideLayout" Target="../slideLayouts/slideLayout1172.xml"/><Relationship Id="rId12" Type="http://schemas.openxmlformats.org/officeDocument/2006/relationships/slideLayout" Target="../slideLayouts/slideLayout1173.xml"/><Relationship Id="rId13" Type="http://schemas.openxmlformats.org/officeDocument/2006/relationships/slideLayout" Target="../slideLayouts/slideLayout1174.xml"/><Relationship Id="rId14" Type="http://schemas.openxmlformats.org/officeDocument/2006/relationships/slideLayout" Target="../slideLayouts/slideLayout1175.xml"/><Relationship Id="rId15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177.xml"/><Relationship Id="rId5" Type="http://schemas.openxmlformats.org/officeDocument/2006/relationships/slideLayout" Target="../slideLayouts/slideLayout1178.xml"/><Relationship Id="rId6" Type="http://schemas.openxmlformats.org/officeDocument/2006/relationships/slideLayout" Target="../slideLayouts/slideLayout1179.xml"/><Relationship Id="rId7" Type="http://schemas.openxmlformats.org/officeDocument/2006/relationships/slideLayout" Target="../slideLayouts/slideLayout1180.xml"/><Relationship Id="rId8" Type="http://schemas.openxmlformats.org/officeDocument/2006/relationships/slideLayout" Target="../slideLayouts/slideLayout1181.xml"/><Relationship Id="rId9" Type="http://schemas.openxmlformats.org/officeDocument/2006/relationships/slideLayout" Target="../slideLayouts/slideLayout1182.xml"/><Relationship Id="rId10" Type="http://schemas.openxmlformats.org/officeDocument/2006/relationships/slideLayout" Target="../slideLayouts/slideLayout1183.xml"/><Relationship Id="rId11" Type="http://schemas.openxmlformats.org/officeDocument/2006/relationships/slideLayout" Target="../slideLayouts/slideLayout1184.xml"/><Relationship Id="rId12" Type="http://schemas.openxmlformats.org/officeDocument/2006/relationships/slideLayout" Target="../slideLayouts/slideLayout1185.xml"/><Relationship Id="rId13" Type="http://schemas.openxmlformats.org/officeDocument/2006/relationships/slideLayout" Target="../slideLayouts/slideLayout1186.xml"/><Relationship Id="rId14" Type="http://schemas.openxmlformats.org/officeDocument/2006/relationships/slideLayout" Target="../slideLayouts/slideLayout1187.xml"/><Relationship Id="rId15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27D3-2E81-452D-868B-C6A25F1214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1BFA-FDD1-4273-8194-6E04AAE6905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6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5" name="PlaceHolder 3"/>
          <p:cNvSpPr>
            <a:spLocks noGrp="1"/>
          </p:cNvSpPr>
          <p:nvPr>
            <p:ph type="dt" idx="29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6" name="PlaceHolder 4"/>
          <p:cNvSpPr>
            <a:spLocks noGrp="1"/>
          </p:cNvSpPr>
          <p:nvPr>
            <p:ph type="ftr" idx="29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5"/>
          <p:cNvSpPr>
            <a:spLocks noGrp="1"/>
          </p:cNvSpPr>
          <p:nvPr>
            <p:ph type="sldNum" idx="30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3B5C2-512D-4D56-ACAB-597EEB5CD6D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4"/>
    <p:sldLayoutId id="2147484937" r:id="rId5"/>
    <p:sldLayoutId id="2147484938" r:id="rId6"/>
    <p:sldLayoutId id="2147484939" r:id="rId7"/>
    <p:sldLayoutId id="2147484940" r:id="rId8"/>
    <p:sldLayoutId id="2147484941" r:id="rId9"/>
    <p:sldLayoutId id="2147484942" r:id="rId10"/>
    <p:sldLayoutId id="2147484943" r:id="rId11"/>
    <p:sldLayoutId id="2147484944" r:id="rId12"/>
    <p:sldLayoutId id="2147484945" r:id="rId13"/>
    <p:sldLayoutId id="2147484946" r:id="rId14"/>
    <p:sldLayoutId id="2147484947" r:id="rId15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5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 type="dt" idx="30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 type="ftr" idx="30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PlaceHolder 5"/>
          <p:cNvSpPr>
            <a:spLocks noGrp="1"/>
          </p:cNvSpPr>
          <p:nvPr>
            <p:ph type="sldNum" idx="30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EA14-A7C2-445C-997E-3392E1FB9F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4"/>
    <p:sldLayoutId id="2147484950" r:id="rId5"/>
    <p:sldLayoutId id="2147484951" r:id="rId6"/>
    <p:sldLayoutId id="2147484952" r:id="rId7"/>
    <p:sldLayoutId id="2147484953" r:id="rId8"/>
    <p:sldLayoutId id="2147484954" r:id="rId9"/>
    <p:sldLayoutId id="2147484955" r:id="rId10"/>
    <p:sldLayoutId id="2147484956" r:id="rId11"/>
    <p:sldLayoutId id="2147484957" r:id="rId12"/>
    <p:sldLayoutId id="2147484958" r:id="rId13"/>
    <p:sldLayoutId id="2147484959" r:id="rId14"/>
    <p:sldLayoutId id="2147484960" r:id="rId15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48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4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1" name="PlaceHolder 3"/>
          <p:cNvSpPr>
            <a:spLocks noGrp="1"/>
          </p:cNvSpPr>
          <p:nvPr>
            <p:ph type="dt" idx="30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4"/>
          <p:cNvSpPr>
            <a:spLocks noGrp="1"/>
          </p:cNvSpPr>
          <p:nvPr>
            <p:ph type="ftr" idx="30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5"/>
          <p:cNvSpPr>
            <a:spLocks noGrp="1"/>
          </p:cNvSpPr>
          <p:nvPr>
            <p:ph type="sldNum" idx="30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9B5D-E903-403B-9ED5-7C200B0F5C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4"/>
    <p:sldLayoutId id="2147484963" r:id="rId5"/>
    <p:sldLayoutId id="2147484964" r:id="rId6"/>
    <p:sldLayoutId id="2147484965" r:id="rId7"/>
    <p:sldLayoutId id="2147484966" r:id="rId8"/>
    <p:sldLayoutId id="2147484967" r:id="rId9"/>
    <p:sldLayoutId id="2147484968" r:id="rId10"/>
    <p:sldLayoutId id="2147484969" r:id="rId11"/>
    <p:sldLayoutId id="2147484970" r:id="rId12"/>
    <p:sldLayoutId id="2147484971" r:id="rId13"/>
    <p:sldLayoutId id="2147484972" r:id="rId14"/>
    <p:sldLayoutId id="2147484973" r:id="rId15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9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 type="dt" idx="30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 type="ftr" idx="30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PlaceHolder 5"/>
          <p:cNvSpPr>
            <a:spLocks noGrp="1"/>
          </p:cNvSpPr>
          <p:nvPr>
            <p:ph type="sldNum" idx="30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9DE6-B4F3-4506-BE51-11F6DD69DA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4"/>
    <p:sldLayoutId id="2147484976" r:id="rId5"/>
    <p:sldLayoutId id="2147484977" r:id="rId6"/>
    <p:sldLayoutId id="2147484978" r:id="rId7"/>
    <p:sldLayoutId id="2147484979" r:id="rId8"/>
    <p:sldLayoutId id="2147484980" r:id="rId9"/>
    <p:sldLayoutId id="2147484981" r:id="rId10"/>
    <p:sldLayoutId id="2147484982" r:id="rId11"/>
    <p:sldLayoutId id="2147484983" r:id="rId12"/>
    <p:sldLayoutId id="2147484984" r:id="rId13"/>
    <p:sldLayoutId id="2147484985" r:id="rId14"/>
    <p:sldLayoutId id="2147484986" r:id="rId15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34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5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 type="dt" idx="3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PlaceHolder 4"/>
          <p:cNvSpPr>
            <a:spLocks noGrp="1"/>
          </p:cNvSpPr>
          <p:nvPr>
            <p:ph type="ftr" idx="3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5"/>
          <p:cNvSpPr>
            <a:spLocks noGrp="1"/>
          </p:cNvSpPr>
          <p:nvPr>
            <p:ph type="sldNum" idx="3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B25C-A5DD-43DC-8273-F890A0D0393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4"/>
    <p:sldLayoutId id="2147484989" r:id="rId5"/>
    <p:sldLayoutId id="2147484990" r:id="rId6"/>
    <p:sldLayoutId id="2147484991" r:id="rId7"/>
    <p:sldLayoutId id="2147484992" r:id="rId8"/>
    <p:sldLayoutId id="2147484993" r:id="rId9"/>
    <p:sldLayoutId id="2147484994" r:id="rId10"/>
    <p:sldLayoutId id="2147484995" r:id="rId11"/>
    <p:sldLayoutId id="2147484996" r:id="rId12"/>
    <p:sldLayoutId id="2147484997" r:id="rId13"/>
    <p:sldLayoutId id="2147484998" r:id="rId14"/>
    <p:sldLayoutId id="2147484999" r:id="rId15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7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2" name="PlaceHolder 3"/>
          <p:cNvSpPr>
            <a:spLocks noGrp="1"/>
          </p:cNvSpPr>
          <p:nvPr>
            <p:ph type="dt" idx="3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3" name="PlaceHolder 4"/>
          <p:cNvSpPr>
            <a:spLocks noGrp="1"/>
          </p:cNvSpPr>
          <p:nvPr>
            <p:ph type="ftr" idx="3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5"/>
          <p:cNvSpPr>
            <a:spLocks noGrp="1"/>
          </p:cNvSpPr>
          <p:nvPr>
            <p:ph type="sldNum" idx="3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B88C-F0C1-40B3-9A74-3D2A4638C20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4"/>
    <p:sldLayoutId id="2147485002" r:id="rId5"/>
    <p:sldLayoutId id="2147485003" r:id="rId6"/>
    <p:sldLayoutId id="2147485004" r:id="rId7"/>
    <p:sldLayoutId id="2147485005" r:id="rId8"/>
    <p:sldLayoutId id="2147485006" r:id="rId9"/>
    <p:sldLayoutId id="2147485007" r:id="rId10"/>
    <p:sldLayoutId id="2147485008" r:id="rId11"/>
    <p:sldLayoutId id="2147485009" r:id="rId12"/>
    <p:sldLayoutId id="2147485010" r:id="rId13"/>
    <p:sldLayoutId id="2147485011" r:id="rId14"/>
    <p:sldLayoutId id="2147485012" r:id="rId15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22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2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5" name="PlaceHolder 3"/>
          <p:cNvSpPr>
            <a:spLocks noGrp="1"/>
          </p:cNvSpPr>
          <p:nvPr>
            <p:ph type="dt" idx="3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6" name="PlaceHolder 4"/>
          <p:cNvSpPr>
            <a:spLocks noGrp="1"/>
          </p:cNvSpPr>
          <p:nvPr>
            <p:ph type="ftr" idx="3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PlaceHolder 5"/>
          <p:cNvSpPr>
            <a:spLocks noGrp="1"/>
          </p:cNvSpPr>
          <p:nvPr>
            <p:ph type="sldNum" idx="3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A7B4-78B4-4BCB-87FF-ECD8437091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4"/>
    <p:sldLayoutId id="2147485015" r:id="rId5"/>
    <p:sldLayoutId id="2147485016" r:id="rId6"/>
    <p:sldLayoutId id="2147485017" r:id="rId7"/>
    <p:sldLayoutId id="2147485018" r:id="rId8"/>
    <p:sldLayoutId id="2147485019" r:id="rId9"/>
    <p:sldLayoutId id="2147485020" r:id="rId10"/>
    <p:sldLayoutId id="2147485021" r:id="rId11"/>
    <p:sldLayoutId id="2147485022" r:id="rId12"/>
    <p:sldLayoutId id="2147485023" r:id="rId13"/>
    <p:sldLayoutId id="2147485024" r:id="rId14"/>
    <p:sldLayoutId id="2147485025" r:id="rId15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5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8" name="PlaceHolder 3"/>
          <p:cNvSpPr>
            <a:spLocks noGrp="1"/>
          </p:cNvSpPr>
          <p:nvPr>
            <p:ph type="dt" idx="3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9" name="PlaceHolder 4"/>
          <p:cNvSpPr>
            <a:spLocks noGrp="1"/>
          </p:cNvSpPr>
          <p:nvPr>
            <p:ph type="ftr" idx="3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5"/>
          <p:cNvSpPr>
            <a:spLocks noGrp="1"/>
          </p:cNvSpPr>
          <p:nvPr>
            <p:ph type="sldNum" idx="3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413E-199A-43D5-B264-966CC2F0EE9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4"/>
    <p:sldLayoutId id="2147485028" r:id="rId5"/>
    <p:sldLayoutId id="2147485029" r:id="rId6"/>
    <p:sldLayoutId id="2147485030" r:id="rId7"/>
    <p:sldLayoutId id="2147485031" r:id="rId8"/>
    <p:sldLayoutId id="2147485032" r:id="rId9"/>
    <p:sldLayoutId id="2147485033" r:id="rId10"/>
    <p:sldLayoutId id="2147485034" r:id="rId11"/>
    <p:sldLayoutId id="2147485035" r:id="rId12"/>
    <p:sldLayoutId id="2147485036" r:id="rId13"/>
    <p:sldLayoutId id="2147485037" r:id="rId14"/>
    <p:sldLayoutId id="2147485038" r:id="rId15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08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 type="dt" idx="3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 type="ftr" idx="3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5"/>
          <p:cNvSpPr>
            <a:spLocks noGrp="1"/>
          </p:cNvSpPr>
          <p:nvPr>
            <p:ph type="sldNum" idx="3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115F-F0C4-446D-8F51-8407878D87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4"/>
    <p:sldLayoutId id="2147485041" r:id="rId5"/>
    <p:sldLayoutId id="2147485042" r:id="rId6"/>
    <p:sldLayoutId id="2147485043" r:id="rId7"/>
    <p:sldLayoutId id="2147485044" r:id="rId8"/>
    <p:sldLayoutId id="2147485045" r:id="rId9"/>
    <p:sldLayoutId id="2147485046" r:id="rId10"/>
    <p:sldLayoutId id="2147485047" r:id="rId11"/>
    <p:sldLayoutId id="2147485048" r:id="rId12"/>
    <p:sldLayoutId id="2147485049" r:id="rId13"/>
    <p:sldLayoutId id="2147485050" r:id="rId14"/>
    <p:sldLayoutId id="2147485051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93D4-06B6-4318-9D5E-43E626777E8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3D2B-5A2E-4F95-929E-23D0C451B3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3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3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3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FC7A-4685-4385-B648-3128195344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4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4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4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06F7-F213-45D3-A94D-089D82D1FCF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8D3A-05D2-4563-9415-89E1CEB939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4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4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4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E3BC-4DDD-4750-8655-C9BF36AD33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3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5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5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A1D5-A7FC-4509-8855-53B854E96A3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CAD3-ABD8-4160-8F08-49272D112F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5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5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5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5E2-B39C-4BB0-AA15-1C8F59421A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F795-190C-4BBB-8B62-90D7AC5135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A16F-37B6-4E98-919D-6A96631E4D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6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6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6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B3F-A707-49C2-A2FF-CED675B69F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D2D-A5C1-4BE9-83B0-140D91DFA07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7FD8-4B62-4763-8B74-00EA8D2224F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dt" idx="7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 type="ftr" idx="7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 type="sldNum" idx="7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637B-723A-4A8D-9A17-1A2DD0BBC8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C20F-A760-4FE6-8550-EA425F8D56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DF0E-16C3-4543-8C02-047EF63B86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 type="dt" idx="7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 type="ftr" idx="8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 type="sldNum" idx="8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414F-2851-400D-9C22-DBF8B1214E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8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8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8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77E6-1A13-425E-905C-A7A33D0995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 type="dt" idx="8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 type="ftr" idx="8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5"/>
          <p:cNvSpPr>
            <a:spLocks noGrp="1"/>
          </p:cNvSpPr>
          <p:nvPr>
            <p:ph type="sldNum" idx="8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F435-D4C9-4828-AC8B-A088D942E4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9896-6731-48D1-BD51-42D472DF1ED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4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 type="dt" idx="8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 type="ftr" idx="8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 type="sldNum" idx="9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ED71-458E-4F8C-B0A5-B0BFE732BED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 type="dt" idx="9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 type="ftr" idx="9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 type="sldNum" idx="9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C734-DB7E-4F34-A55C-CC5ED9B4F55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0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 type="dt" idx="9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 type="ftr" idx="9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5"/>
          <p:cNvSpPr>
            <a:spLocks noGrp="1"/>
          </p:cNvSpPr>
          <p:nvPr>
            <p:ph type="sldNum" idx="9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0BDD-65D3-4D57-8087-259BDC19BE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9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9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9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14B4-BFF2-40B5-98E3-C90426B140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7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dt" idx="10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ftr" idx="10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sldNum" idx="10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0A25-09B3-4D3C-8C9C-2789462201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 type="dt" idx="10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 type="ftr" idx="10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 type="sldNum" idx="10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EE17-A877-453A-9D94-66F25765C8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 type="dt" idx="10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 type="ftr" idx="10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 type="sldNum" idx="10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BAED-79F1-4DF7-89F0-A9FDF27285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9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1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1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74B-E481-459E-A4B3-665478E834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dt" idx="11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 type="ftr" idx="11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5"/>
          <p:cNvSpPr>
            <a:spLocks noGrp="1"/>
          </p:cNvSpPr>
          <p:nvPr>
            <p:ph type="sldNum" idx="11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096A-8E95-4156-B15D-7A9033C307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 type="dt" idx="11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 type="ftr" idx="11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 type="sldNum" idx="11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03A0-5002-4A28-819B-A5705E1A62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E8F5-1FDA-495D-9C5C-71BC8C6D01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11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11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12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35FD-666E-470F-8049-4DCA46A8291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7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 type="dt" idx="12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 type="ftr" idx="12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 type="sldNum" idx="12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36B-AF11-4DEB-957D-E6DBC16D4F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2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81EB-4258-445A-8FEB-111B10BE35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2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2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2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F772-91F8-4B2E-9C82-4CBFAB1D4E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dt" idx="13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 type="ftr" idx="13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 type="sldNum" idx="13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E038-8601-4490-A02F-7AA29C37D1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B8CB-8861-4625-88DB-3CE62484F3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 type="dt" idx="13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 type="ftr" idx="13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 type="sldNum" idx="13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28E-1D89-49AA-B29A-9B82EA6E45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 type="dt" idx="13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 type="ftr" idx="14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5"/>
          <p:cNvSpPr>
            <a:spLocks noGrp="1"/>
          </p:cNvSpPr>
          <p:nvPr>
            <p:ph type="sldNum" idx="14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1206-C2D1-47A5-ADE6-F9667B961FB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18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9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 type="dt" idx="14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 type="ftr" idx="14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5"/>
          <p:cNvSpPr>
            <a:spLocks noGrp="1"/>
          </p:cNvSpPr>
          <p:nvPr>
            <p:ph type="sldNum" idx="14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549-75EF-4192-A010-BEF230A5C74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6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6" name="PlaceHolder 3"/>
          <p:cNvSpPr>
            <a:spLocks noGrp="1"/>
          </p:cNvSpPr>
          <p:nvPr>
            <p:ph type="dt" idx="14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PlaceHolder 4"/>
          <p:cNvSpPr>
            <a:spLocks noGrp="1"/>
          </p:cNvSpPr>
          <p:nvPr>
            <p:ph type="ftr" idx="14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5"/>
          <p:cNvSpPr>
            <a:spLocks noGrp="1"/>
          </p:cNvSpPr>
          <p:nvPr>
            <p:ph type="sldNum" idx="14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A655-A56B-4184-895D-9345866524D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438C-5679-47F4-A2C3-7935849DDAF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6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 type="dt" idx="14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 type="ftr" idx="14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5"/>
          <p:cNvSpPr>
            <a:spLocks noGrp="1"/>
          </p:cNvSpPr>
          <p:nvPr>
            <p:ph type="sldNum" idx="15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019C-8AB2-4299-A25C-0B56994A4B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 type="dt" idx="15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 type="ftr" idx="15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 type="sldNum" idx="15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54EB-FBB2-4D3D-83CD-04F5C82579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4"/>
    <p:sldLayoutId id="2147484300" r:id="rId5"/>
    <p:sldLayoutId id="2147484301" r:id="rId6"/>
    <p:sldLayoutId id="2147484302" r:id="rId7"/>
    <p:sldLayoutId id="2147484303" r:id="rId8"/>
    <p:sldLayoutId id="2147484304" r:id="rId9"/>
    <p:sldLayoutId id="2147484305" r:id="rId10"/>
    <p:sldLayoutId id="2147484306" r:id="rId11"/>
    <p:sldLayoutId id="2147484307" r:id="rId12"/>
    <p:sldLayoutId id="2147484308" r:id="rId13"/>
    <p:sldLayoutId id="2147484309" r:id="rId14"/>
    <p:sldLayoutId id="2147484310" r:id="rId15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2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 type="dt" idx="15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 type="ftr" idx="15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5"/>
          <p:cNvSpPr>
            <a:spLocks noGrp="1"/>
          </p:cNvSpPr>
          <p:nvPr>
            <p:ph type="sldNum" idx="15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9C2-F732-4AF6-8893-4E4563BF08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4"/>
    <p:sldLayoutId id="2147484313" r:id="rId5"/>
    <p:sldLayoutId id="2147484314" r:id="rId6"/>
    <p:sldLayoutId id="2147484315" r:id="rId7"/>
    <p:sldLayoutId id="2147484316" r:id="rId8"/>
    <p:sldLayoutId id="2147484317" r:id="rId9"/>
    <p:sldLayoutId id="2147484318" r:id="rId10"/>
    <p:sldLayoutId id="2147484319" r:id="rId11"/>
    <p:sldLayoutId id="2147484320" r:id="rId12"/>
    <p:sldLayoutId id="2147484321" r:id="rId13"/>
    <p:sldLayoutId id="2147484322" r:id="rId14"/>
    <p:sldLayoutId id="2147484323" r:id="rId15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5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8" name="PlaceHolder 3"/>
          <p:cNvSpPr>
            <a:spLocks noGrp="1"/>
          </p:cNvSpPr>
          <p:nvPr>
            <p:ph type="dt" idx="15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PlaceHolder 4"/>
          <p:cNvSpPr>
            <a:spLocks noGrp="1"/>
          </p:cNvSpPr>
          <p:nvPr>
            <p:ph type="ftr" idx="15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5"/>
          <p:cNvSpPr>
            <a:spLocks noGrp="1"/>
          </p:cNvSpPr>
          <p:nvPr>
            <p:ph type="sldNum" idx="15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596-EED7-4AEA-8479-24EBEC7FBFD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4"/>
    <p:sldLayoutId id="2147484326" r:id="rId5"/>
    <p:sldLayoutId id="2147484327" r:id="rId6"/>
    <p:sldLayoutId id="2147484328" r:id="rId7"/>
    <p:sldLayoutId id="2147484329" r:id="rId8"/>
    <p:sldLayoutId id="2147484330" r:id="rId9"/>
    <p:sldLayoutId id="2147484331" r:id="rId10"/>
    <p:sldLayoutId id="2147484332" r:id="rId11"/>
    <p:sldLayoutId id="2147484333" r:id="rId12"/>
    <p:sldLayoutId id="2147484334" r:id="rId13"/>
    <p:sldLayoutId id="2147484335" r:id="rId14"/>
    <p:sldLayoutId id="2147484336" r:id="rId15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 type="dt" idx="16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PlaceHolder 4"/>
          <p:cNvSpPr>
            <a:spLocks noGrp="1"/>
          </p:cNvSpPr>
          <p:nvPr>
            <p:ph type="ftr" idx="16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5"/>
          <p:cNvSpPr>
            <a:spLocks noGrp="1"/>
          </p:cNvSpPr>
          <p:nvPr>
            <p:ph type="sldNum" idx="16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5555-6BD6-4BCA-814D-5B16BE77EC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4"/>
    <p:sldLayoutId id="2147484339" r:id="rId5"/>
    <p:sldLayoutId id="2147484340" r:id="rId6"/>
    <p:sldLayoutId id="2147484341" r:id="rId7"/>
    <p:sldLayoutId id="2147484342" r:id="rId8"/>
    <p:sldLayoutId id="2147484343" r:id="rId9"/>
    <p:sldLayoutId id="2147484344" r:id="rId10"/>
    <p:sldLayoutId id="2147484345" r:id="rId11"/>
    <p:sldLayoutId id="2147484346" r:id="rId12"/>
    <p:sldLayoutId id="2147484347" r:id="rId13"/>
    <p:sldLayoutId id="2147484348" r:id="rId14"/>
    <p:sldLayoutId id="2147484349" r:id="rId15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1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 type="dt" idx="16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 type="ftr" idx="16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5"/>
          <p:cNvSpPr>
            <a:spLocks noGrp="1"/>
          </p:cNvSpPr>
          <p:nvPr>
            <p:ph type="sldNum" idx="16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A6CA-FC20-480B-A198-A55802DF5E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4"/>
    <p:sldLayoutId id="2147484352" r:id="rId5"/>
    <p:sldLayoutId id="2147484353" r:id="rId6"/>
    <p:sldLayoutId id="2147484354" r:id="rId7"/>
    <p:sldLayoutId id="2147484355" r:id="rId8"/>
    <p:sldLayoutId id="2147484356" r:id="rId9"/>
    <p:sldLayoutId id="2147484357" r:id="rId10"/>
    <p:sldLayoutId id="2147484358" r:id="rId11"/>
    <p:sldLayoutId id="2147484359" r:id="rId12"/>
    <p:sldLayoutId id="2147484360" r:id="rId13"/>
    <p:sldLayoutId id="2147484361" r:id="rId14"/>
    <p:sldLayoutId id="2147484362" r:id="rId15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64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 type="dt" idx="16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 type="ftr" idx="16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 type="sldNum" idx="16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3CF9-0807-4ADF-A8FF-DD4B7E3CE3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07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 type="dt" idx="16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 type="ftr" idx="17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 type="sldNum" idx="17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AFBE-98D9-4371-8407-566C7B18D7A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 type="dt" idx="17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 type="ftr" idx="17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 type="sldNum" idx="17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036B-E584-4257-A1BC-8440CF90A7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4"/>
    <p:sldLayoutId id="2147484391" r:id="rId5"/>
    <p:sldLayoutId id="2147484392" r:id="rId6"/>
    <p:sldLayoutId id="2147484393" r:id="rId7"/>
    <p:sldLayoutId id="2147484394" r:id="rId8"/>
    <p:sldLayoutId id="2147484395" r:id="rId9"/>
    <p:sldLayoutId id="2147484396" r:id="rId10"/>
    <p:sldLayoutId id="2147484397" r:id="rId11"/>
    <p:sldLayoutId id="2147484398" r:id="rId12"/>
    <p:sldLayoutId id="2147484399" r:id="rId13"/>
    <p:sldLayoutId id="2147484400" r:id="rId14"/>
    <p:sldLayoutId id="2147484401" r:id="rId15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6" name="PlaceHolder 3"/>
          <p:cNvSpPr>
            <a:spLocks noGrp="1"/>
          </p:cNvSpPr>
          <p:nvPr>
            <p:ph type="dt" idx="17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4"/>
          <p:cNvSpPr>
            <a:spLocks noGrp="1"/>
          </p:cNvSpPr>
          <p:nvPr>
            <p:ph type="ftr" idx="17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5"/>
          <p:cNvSpPr>
            <a:spLocks noGrp="1"/>
          </p:cNvSpPr>
          <p:nvPr>
            <p:ph type="sldNum" idx="17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5D8A-42DD-47EB-8FB3-C058272787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4"/>
    <p:sldLayoutId id="2147484404" r:id="rId5"/>
    <p:sldLayoutId id="2147484405" r:id="rId6"/>
    <p:sldLayoutId id="2147484406" r:id="rId7"/>
    <p:sldLayoutId id="2147484407" r:id="rId8"/>
    <p:sldLayoutId id="2147484408" r:id="rId9"/>
    <p:sldLayoutId id="2147484409" r:id="rId10"/>
    <p:sldLayoutId id="2147484410" r:id="rId11"/>
    <p:sldLayoutId id="2147484411" r:id="rId12"/>
    <p:sldLayoutId id="2147484412" r:id="rId13"/>
    <p:sldLayoutId id="2147484413" r:id="rId14"/>
    <p:sldLayoutId id="2147484414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9D5E-07F4-486A-A1E5-8F81486FBB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3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9" name="PlaceHolder 3"/>
          <p:cNvSpPr>
            <a:spLocks noGrp="1"/>
          </p:cNvSpPr>
          <p:nvPr>
            <p:ph type="dt" idx="17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PlaceHolder 4"/>
          <p:cNvSpPr>
            <a:spLocks noGrp="1"/>
          </p:cNvSpPr>
          <p:nvPr>
            <p:ph type="ftr" idx="17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5"/>
          <p:cNvSpPr>
            <a:spLocks noGrp="1"/>
          </p:cNvSpPr>
          <p:nvPr>
            <p:ph type="sldNum" idx="18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5850-956A-401A-8AEB-A362D968FA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4"/>
    <p:sldLayoutId id="2147484417" r:id="rId5"/>
    <p:sldLayoutId id="2147484418" r:id="rId6"/>
    <p:sldLayoutId id="2147484419" r:id="rId7"/>
    <p:sldLayoutId id="2147484420" r:id="rId8"/>
    <p:sldLayoutId id="2147484421" r:id="rId9"/>
    <p:sldLayoutId id="2147484422" r:id="rId10"/>
    <p:sldLayoutId id="2147484423" r:id="rId11"/>
    <p:sldLayoutId id="2147484424" r:id="rId12"/>
    <p:sldLayoutId id="2147484425" r:id="rId13"/>
    <p:sldLayoutId id="2147484426" r:id="rId14"/>
    <p:sldLayoutId id="2147484427" r:id="rId15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9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 type="dt" idx="18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 type="ftr" idx="18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 type="sldNum" idx="18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76EA-E6E9-4092-9054-6EDC41BC0FA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4"/>
    <p:sldLayoutId id="2147484430" r:id="rId5"/>
    <p:sldLayoutId id="2147484431" r:id="rId6"/>
    <p:sldLayoutId id="2147484432" r:id="rId7"/>
    <p:sldLayoutId id="2147484433" r:id="rId8"/>
    <p:sldLayoutId id="2147484434" r:id="rId9"/>
    <p:sldLayoutId id="2147484435" r:id="rId10"/>
    <p:sldLayoutId id="2147484436" r:id="rId11"/>
    <p:sldLayoutId id="2147484437" r:id="rId12"/>
    <p:sldLayoutId id="2147484438" r:id="rId13"/>
    <p:sldLayoutId id="2147484439" r:id="rId14"/>
    <p:sldLayoutId id="2147484440" r:id="rId15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2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3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dt" idx="18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 type="ftr" idx="18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5"/>
          <p:cNvSpPr>
            <a:spLocks noGrp="1"/>
          </p:cNvSpPr>
          <p:nvPr>
            <p:ph type="sldNum" idx="18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AB83-7A9E-4435-AF0A-99AAFC6B5D7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4"/>
    <p:sldLayoutId id="2147484443" r:id="rId5"/>
    <p:sldLayoutId id="2147484444" r:id="rId6"/>
    <p:sldLayoutId id="2147484445" r:id="rId7"/>
    <p:sldLayoutId id="2147484446" r:id="rId8"/>
    <p:sldLayoutId id="2147484447" r:id="rId9"/>
    <p:sldLayoutId id="2147484448" r:id="rId10"/>
    <p:sldLayoutId id="2147484449" r:id="rId11"/>
    <p:sldLayoutId id="2147484450" r:id="rId12"/>
    <p:sldLayoutId id="2147484451" r:id="rId13"/>
    <p:sldLayoutId id="2147484452" r:id="rId14"/>
    <p:sldLayoutId id="2147484453" r:id="rId15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0" name="PlaceHolder 3"/>
          <p:cNvSpPr>
            <a:spLocks noGrp="1"/>
          </p:cNvSpPr>
          <p:nvPr>
            <p:ph type="dt" idx="18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PlaceHolder 4"/>
          <p:cNvSpPr>
            <a:spLocks noGrp="1"/>
          </p:cNvSpPr>
          <p:nvPr>
            <p:ph type="ftr" idx="18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5"/>
          <p:cNvSpPr>
            <a:spLocks noGrp="1"/>
          </p:cNvSpPr>
          <p:nvPr>
            <p:ph type="sldNum" idx="18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2DF9-4CF2-447F-801A-3DF0AB22FD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4"/>
    <p:sldLayoutId id="2147484456" r:id="rId5"/>
    <p:sldLayoutId id="2147484457" r:id="rId6"/>
    <p:sldLayoutId id="2147484458" r:id="rId7"/>
    <p:sldLayoutId id="2147484459" r:id="rId8"/>
    <p:sldLayoutId id="2147484460" r:id="rId9"/>
    <p:sldLayoutId id="2147484461" r:id="rId10"/>
    <p:sldLayoutId id="2147484462" r:id="rId11"/>
    <p:sldLayoutId id="2147484463" r:id="rId12"/>
    <p:sldLayoutId id="2147484464" r:id="rId13"/>
    <p:sldLayoutId id="2147484465" r:id="rId14"/>
    <p:sldLayoutId id="2147484466" r:id="rId15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10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 type="dt" idx="19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 type="ftr" idx="19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5"/>
          <p:cNvSpPr>
            <a:spLocks noGrp="1"/>
          </p:cNvSpPr>
          <p:nvPr>
            <p:ph type="sldNum" idx="19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05F-4AE3-45AF-AB3E-D1DD0F2B13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4"/>
    <p:sldLayoutId id="2147484469" r:id="rId5"/>
    <p:sldLayoutId id="2147484470" r:id="rId6"/>
    <p:sldLayoutId id="2147484471" r:id="rId7"/>
    <p:sldLayoutId id="2147484472" r:id="rId8"/>
    <p:sldLayoutId id="2147484473" r:id="rId9"/>
    <p:sldLayoutId id="2147484474" r:id="rId10"/>
    <p:sldLayoutId id="2147484475" r:id="rId11"/>
    <p:sldLayoutId id="2147484476" r:id="rId12"/>
    <p:sldLayoutId id="2147484477" r:id="rId13"/>
    <p:sldLayoutId id="2147484478" r:id="rId14"/>
    <p:sldLayoutId id="2147484479" r:id="rId15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3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 type="dt" idx="19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4"/>
          <p:cNvSpPr>
            <a:spLocks noGrp="1"/>
          </p:cNvSpPr>
          <p:nvPr>
            <p:ph type="ftr" idx="19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PlaceHolder 5"/>
          <p:cNvSpPr>
            <a:spLocks noGrp="1"/>
          </p:cNvSpPr>
          <p:nvPr>
            <p:ph type="sldNum" idx="19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119E-2EF8-4761-BDAA-C9441D5272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4"/>
    <p:sldLayoutId id="2147484482" r:id="rId5"/>
    <p:sldLayoutId id="2147484483" r:id="rId6"/>
    <p:sldLayoutId id="2147484484" r:id="rId7"/>
    <p:sldLayoutId id="2147484485" r:id="rId8"/>
    <p:sldLayoutId id="2147484486" r:id="rId9"/>
    <p:sldLayoutId id="2147484487" r:id="rId10"/>
    <p:sldLayoutId id="2147484488" r:id="rId11"/>
    <p:sldLayoutId id="2147484489" r:id="rId12"/>
    <p:sldLayoutId id="2147484490" r:id="rId13"/>
    <p:sldLayoutId id="2147484491" r:id="rId14"/>
    <p:sldLayoutId id="2147484492" r:id="rId15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96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9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9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9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C956-56B5-432D-BC87-A087AEA9C9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4"/>
    <p:sldLayoutId id="2147484495" r:id="rId5"/>
    <p:sldLayoutId id="2147484496" r:id="rId6"/>
    <p:sldLayoutId id="2147484497" r:id="rId7"/>
    <p:sldLayoutId id="2147484498" r:id="rId8"/>
    <p:sldLayoutId id="2147484499" r:id="rId9"/>
    <p:sldLayoutId id="2147484500" r:id="rId10"/>
    <p:sldLayoutId id="2147484501" r:id="rId11"/>
    <p:sldLayoutId id="2147484502" r:id="rId12"/>
    <p:sldLayoutId id="2147484503" r:id="rId13"/>
    <p:sldLayoutId id="2147484504" r:id="rId14"/>
    <p:sldLayoutId id="2147484505" r:id="rId15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9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2" name="PlaceHolder 3"/>
          <p:cNvSpPr>
            <a:spLocks noGrp="1"/>
          </p:cNvSpPr>
          <p:nvPr>
            <p:ph type="dt" idx="19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PlaceHolder 4"/>
          <p:cNvSpPr>
            <a:spLocks noGrp="1"/>
          </p:cNvSpPr>
          <p:nvPr>
            <p:ph type="ftr" idx="20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5"/>
          <p:cNvSpPr>
            <a:spLocks noGrp="1"/>
          </p:cNvSpPr>
          <p:nvPr>
            <p:ph type="sldNum" idx="20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CBAA-B8EA-499B-9D58-48C42492582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4"/>
    <p:sldLayoutId id="2147484508" r:id="rId5"/>
    <p:sldLayoutId id="2147484509" r:id="rId6"/>
    <p:sldLayoutId id="2147484510" r:id="rId7"/>
    <p:sldLayoutId id="2147484511" r:id="rId8"/>
    <p:sldLayoutId id="2147484512" r:id="rId9"/>
    <p:sldLayoutId id="2147484513" r:id="rId10"/>
    <p:sldLayoutId id="2147484514" r:id="rId11"/>
    <p:sldLayoutId id="2147484515" r:id="rId12"/>
    <p:sldLayoutId id="2147484516" r:id="rId13"/>
    <p:sldLayoutId id="2147484517" r:id="rId14"/>
    <p:sldLayoutId id="2147484518" r:id="rId15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82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5" name="PlaceHolder 3"/>
          <p:cNvSpPr>
            <a:spLocks noGrp="1"/>
          </p:cNvSpPr>
          <p:nvPr>
            <p:ph type="dt" idx="20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4"/>
          <p:cNvSpPr>
            <a:spLocks noGrp="1"/>
          </p:cNvSpPr>
          <p:nvPr>
            <p:ph type="ftr" idx="20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5"/>
          <p:cNvSpPr>
            <a:spLocks noGrp="1"/>
          </p:cNvSpPr>
          <p:nvPr>
            <p:ph type="sldNum" idx="20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DA31-15B7-48A8-8C49-07D9ADBD5D7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4"/>
    <p:sldLayoutId id="2147484521" r:id="rId5"/>
    <p:sldLayoutId id="2147484522" r:id="rId6"/>
    <p:sldLayoutId id="2147484523" r:id="rId7"/>
    <p:sldLayoutId id="2147484524" r:id="rId8"/>
    <p:sldLayoutId id="2147484525" r:id="rId9"/>
    <p:sldLayoutId id="2147484526" r:id="rId10"/>
    <p:sldLayoutId id="2147484527" r:id="rId11"/>
    <p:sldLayoutId id="2147484528" r:id="rId12"/>
    <p:sldLayoutId id="2147484529" r:id="rId13"/>
    <p:sldLayoutId id="2147484530" r:id="rId14"/>
    <p:sldLayoutId id="2147484531" r:id="rId15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5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 type="dt" idx="20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 type="ftr" idx="20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 type="sldNum" idx="20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EA7D-EF1E-4175-B652-1F3D6EDD52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4"/>
    <p:sldLayoutId id="2147484534" r:id="rId5"/>
    <p:sldLayoutId id="2147484535" r:id="rId6"/>
    <p:sldLayoutId id="2147484536" r:id="rId7"/>
    <p:sldLayoutId id="2147484537" r:id="rId8"/>
    <p:sldLayoutId id="2147484538" r:id="rId9"/>
    <p:sldLayoutId id="2147484539" r:id="rId10"/>
    <p:sldLayoutId id="2147484540" r:id="rId11"/>
    <p:sldLayoutId id="2147484541" r:id="rId12"/>
    <p:sldLayoutId id="2147484542" r:id="rId13"/>
    <p:sldLayoutId id="2147484543" r:id="rId14"/>
    <p:sldLayoutId id="2147484544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090-E3A7-4649-BD61-E258E79B24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8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 type="dt" idx="20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 type="ftr" idx="20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5"/>
          <p:cNvSpPr>
            <a:spLocks noGrp="1"/>
          </p:cNvSpPr>
          <p:nvPr>
            <p:ph type="sldNum" idx="21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40AB-AA29-4153-AA1D-A368979535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4"/>
    <p:sldLayoutId id="2147484547" r:id="rId5"/>
    <p:sldLayoutId id="2147484548" r:id="rId6"/>
    <p:sldLayoutId id="2147484549" r:id="rId7"/>
    <p:sldLayoutId id="2147484550" r:id="rId8"/>
    <p:sldLayoutId id="2147484551" r:id="rId9"/>
    <p:sldLayoutId id="2147484552" r:id="rId10"/>
    <p:sldLayoutId id="2147484553" r:id="rId11"/>
    <p:sldLayoutId id="2147484554" r:id="rId12"/>
    <p:sldLayoutId id="2147484555" r:id="rId13"/>
    <p:sldLayoutId id="2147484556" r:id="rId14"/>
    <p:sldLayoutId id="2147484557" r:id="rId15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1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4" name="PlaceHolder 3"/>
          <p:cNvSpPr>
            <a:spLocks noGrp="1"/>
          </p:cNvSpPr>
          <p:nvPr>
            <p:ph type="dt" idx="21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PlaceHolder 4"/>
          <p:cNvSpPr>
            <a:spLocks noGrp="1"/>
          </p:cNvSpPr>
          <p:nvPr>
            <p:ph type="ftr" idx="21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5"/>
          <p:cNvSpPr>
            <a:spLocks noGrp="1"/>
          </p:cNvSpPr>
          <p:nvPr>
            <p:ph type="sldNum" idx="21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4102-D620-48C3-AC12-251F2BF0F82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4"/>
    <p:sldLayoutId id="2147484560" r:id="rId5"/>
    <p:sldLayoutId id="2147484561" r:id="rId6"/>
    <p:sldLayoutId id="2147484562" r:id="rId7"/>
    <p:sldLayoutId id="2147484563" r:id="rId8"/>
    <p:sldLayoutId id="2147484564" r:id="rId9"/>
    <p:sldLayoutId id="2147484565" r:id="rId10"/>
    <p:sldLayoutId id="2147484566" r:id="rId11"/>
    <p:sldLayoutId id="2147484567" r:id="rId12"/>
    <p:sldLayoutId id="2147484568" r:id="rId13"/>
    <p:sldLayoutId id="2147484569" r:id="rId14"/>
    <p:sldLayoutId id="2147484570" r:id="rId15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5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7" name="PlaceHolder 3"/>
          <p:cNvSpPr>
            <a:spLocks noGrp="1"/>
          </p:cNvSpPr>
          <p:nvPr>
            <p:ph type="dt" idx="21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PlaceHolder 4"/>
          <p:cNvSpPr>
            <a:spLocks noGrp="1"/>
          </p:cNvSpPr>
          <p:nvPr>
            <p:ph type="ftr" idx="21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5"/>
          <p:cNvSpPr>
            <a:spLocks noGrp="1"/>
          </p:cNvSpPr>
          <p:nvPr>
            <p:ph type="sldNum" idx="21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41A9-7452-4D97-B8D2-8C67EFFAF65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4"/>
    <p:sldLayoutId id="2147484573" r:id="rId5"/>
    <p:sldLayoutId id="2147484574" r:id="rId6"/>
    <p:sldLayoutId id="2147484575" r:id="rId7"/>
    <p:sldLayoutId id="2147484576" r:id="rId8"/>
    <p:sldLayoutId id="2147484577" r:id="rId9"/>
    <p:sldLayoutId id="2147484578" r:id="rId10"/>
    <p:sldLayoutId id="2147484579" r:id="rId11"/>
    <p:sldLayoutId id="2147484580" r:id="rId12"/>
    <p:sldLayoutId id="2147484581" r:id="rId13"/>
    <p:sldLayoutId id="2147484582" r:id="rId14"/>
    <p:sldLayoutId id="2147484583" r:id="rId15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 type="dt" idx="21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 type="ftr" idx="21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2" name="PlaceHolder 5"/>
          <p:cNvSpPr>
            <a:spLocks noGrp="1"/>
          </p:cNvSpPr>
          <p:nvPr>
            <p:ph type="sldNum" idx="21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4E859-C852-4A0B-AAD2-30C0CB6FC85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4"/>
    <p:sldLayoutId id="2147484586" r:id="rId5"/>
    <p:sldLayoutId id="2147484587" r:id="rId6"/>
    <p:sldLayoutId id="2147484588" r:id="rId7"/>
    <p:sldLayoutId id="2147484589" r:id="rId8"/>
    <p:sldLayoutId id="2147484590" r:id="rId9"/>
    <p:sldLayoutId id="2147484591" r:id="rId10"/>
    <p:sldLayoutId id="2147484592" r:id="rId11"/>
    <p:sldLayoutId id="2147484593" r:id="rId12"/>
    <p:sldLayoutId id="2147484594" r:id="rId13"/>
    <p:sldLayoutId id="2147484595" r:id="rId14"/>
    <p:sldLayoutId id="2147484596" r:id="rId15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4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3" name="PlaceHolder 3"/>
          <p:cNvSpPr>
            <a:spLocks noGrp="1"/>
          </p:cNvSpPr>
          <p:nvPr>
            <p:ph type="dt" idx="22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PlaceHolder 4"/>
          <p:cNvSpPr>
            <a:spLocks noGrp="1"/>
          </p:cNvSpPr>
          <p:nvPr>
            <p:ph type="ftr" idx="22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5"/>
          <p:cNvSpPr>
            <a:spLocks noGrp="1"/>
          </p:cNvSpPr>
          <p:nvPr>
            <p:ph type="sldNum" idx="22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CFEB-6957-42C1-9833-5631A2E36B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4"/>
    <p:sldLayoutId id="2147484599" r:id="rId5"/>
    <p:sldLayoutId id="2147484600" r:id="rId6"/>
    <p:sldLayoutId id="2147484601" r:id="rId7"/>
    <p:sldLayoutId id="2147484602" r:id="rId8"/>
    <p:sldLayoutId id="2147484603" r:id="rId9"/>
    <p:sldLayoutId id="2147484604" r:id="rId10"/>
    <p:sldLayoutId id="2147484605" r:id="rId11"/>
    <p:sldLayoutId id="2147484606" r:id="rId12"/>
    <p:sldLayoutId id="2147484607" r:id="rId13"/>
    <p:sldLayoutId id="2147484608" r:id="rId14"/>
    <p:sldLayoutId id="2147484609" r:id="rId15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3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 type="dt" idx="22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 type="ftr" idx="22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 type="sldNum" idx="22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5CB2-BE95-4745-B3DA-BCEC5E760C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4"/>
    <p:sldLayoutId id="2147484612" r:id="rId5"/>
    <p:sldLayoutId id="2147484613" r:id="rId6"/>
    <p:sldLayoutId id="2147484614" r:id="rId7"/>
    <p:sldLayoutId id="2147484615" r:id="rId8"/>
    <p:sldLayoutId id="2147484616" r:id="rId9"/>
    <p:sldLayoutId id="2147484617" r:id="rId10"/>
    <p:sldLayoutId id="2147484618" r:id="rId11"/>
    <p:sldLayoutId id="2147484619" r:id="rId12"/>
    <p:sldLayoutId id="2147484620" r:id="rId13"/>
    <p:sldLayoutId id="2147484621" r:id="rId14"/>
    <p:sldLayoutId id="2147484622" r:id="rId15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6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7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1" name="PlaceHolder 3"/>
          <p:cNvSpPr>
            <a:spLocks noGrp="1"/>
          </p:cNvSpPr>
          <p:nvPr>
            <p:ph type="dt" idx="22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PlaceHolder 4"/>
          <p:cNvSpPr>
            <a:spLocks noGrp="1"/>
          </p:cNvSpPr>
          <p:nvPr>
            <p:ph type="ftr" idx="22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5"/>
          <p:cNvSpPr>
            <a:spLocks noGrp="1"/>
          </p:cNvSpPr>
          <p:nvPr>
            <p:ph type="sldNum" idx="22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9481-21A0-4CF3-986B-BE68C6FF9D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4"/>
    <p:sldLayoutId id="2147484625" r:id="rId5"/>
    <p:sldLayoutId id="2147484626" r:id="rId6"/>
    <p:sldLayoutId id="2147484627" r:id="rId7"/>
    <p:sldLayoutId id="2147484628" r:id="rId8"/>
    <p:sldLayoutId id="2147484629" r:id="rId9"/>
    <p:sldLayoutId id="2147484630" r:id="rId10"/>
    <p:sldLayoutId id="2147484631" r:id="rId11"/>
    <p:sldLayoutId id="2147484632" r:id="rId12"/>
    <p:sldLayoutId id="2147484633" r:id="rId13"/>
    <p:sldLayoutId id="2147484634" r:id="rId14"/>
    <p:sldLayoutId id="2147484635" r:id="rId15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7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4" name="PlaceHolder 3"/>
          <p:cNvSpPr>
            <a:spLocks noGrp="1"/>
          </p:cNvSpPr>
          <p:nvPr>
            <p:ph type="dt" idx="22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PlaceHolder 4"/>
          <p:cNvSpPr>
            <a:spLocks noGrp="1"/>
          </p:cNvSpPr>
          <p:nvPr>
            <p:ph type="ftr" idx="23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5"/>
          <p:cNvSpPr>
            <a:spLocks noGrp="1"/>
          </p:cNvSpPr>
          <p:nvPr>
            <p:ph type="sldNum" idx="23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C06B-86F4-4280-A8C3-CD81A91D922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4"/>
    <p:sldLayoutId id="2147484638" r:id="rId5"/>
    <p:sldLayoutId id="2147484639" r:id="rId6"/>
    <p:sldLayoutId id="2147484640" r:id="rId7"/>
    <p:sldLayoutId id="2147484641" r:id="rId8"/>
    <p:sldLayoutId id="2147484642" r:id="rId9"/>
    <p:sldLayoutId id="2147484643" r:id="rId10"/>
    <p:sldLayoutId id="2147484644" r:id="rId11"/>
    <p:sldLayoutId id="2147484645" r:id="rId12"/>
    <p:sldLayoutId id="2147484646" r:id="rId13"/>
    <p:sldLayoutId id="2147484647" r:id="rId14"/>
    <p:sldLayoutId id="2147484648" r:id="rId15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14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7" name="PlaceHolder 3"/>
          <p:cNvSpPr>
            <a:spLocks noGrp="1"/>
          </p:cNvSpPr>
          <p:nvPr>
            <p:ph type="dt" idx="23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PlaceHolder 4"/>
          <p:cNvSpPr>
            <a:spLocks noGrp="1"/>
          </p:cNvSpPr>
          <p:nvPr>
            <p:ph type="ftr" idx="23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5"/>
          <p:cNvSpPr>
            <a:spLocks noGrp="1"/>
          </p:cNvSpPr>
          <p:nvPr>
            <p:ph type="sldNum" idx="23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8DB5-5FC6-44A4-A464-AC08E8BB6C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4"/>
    <p:sldLayoutId id="2147484651" r:id="rId5"/>
    <p:sldLayoutId id="2147484652" r:id="rId6"/>
    <p:sldLayoutId id="2147484653" r:id="rId7"/>
    <p:sldLayoutId id="2147484654" r:id="rId8"/>
    <p:sldLayoutId id="2147484655" r:id="rId9"/>
    <p:sldLayoutId id="2147484656" r:id="rId10"/>
    <p:sldLayoutId id="2147484657" r:id="rId11"/>
    <p:sldLayoutId id="2147484658" r:id="rId12"/>
    <p:sldLayoutId id="2147484659" r:id="rId13"/>
    <p:sldLayoutId id="2147484660" r:id="rId14"/>
    <p:sldLayoutId id="2147484661" r:id="rId15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7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5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0" name="PlaceHolder 3"/>
          <p:cNvSpPr>
            <a:spLocks noGrp="1"/>
          </p:cNvSpPr>
          <p:nvPr>
            <p:ph type="dt" idx="23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PlaceHolder 4"/>
          <p:cNvSpPr>
            <a:spLocks noGrp="1"/>
          </p:cNvSpPr>
          <p:nvPr>
            <p:ph type="ftr" idx="23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5"/>
          <p:cNvSpPr>
            <a:spLocks noGrp="1"/>
          </p:cNvSpPr>
          <p:nvPr>
            <p:ph type="sldNum" idx="23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E24A-235B-45F2-9056-EC39473694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4"/>
    <p:sldLayoutId id="2147484664" r:id="rId5"/>
    <p:sldLayoutId id="2147484665" r:id="rId6"/>
    <p:sldLayoutId id="2147484666" r:id="rId7"/>
    <p:sldLayoutId id="2147484667" r:id="rId8"/>
    <p:sldLayoutId id="2147484668" r:id="rId9"/>
    <p:sldLayoutId id="2147484669" r:id="rId10"/>
    <p:sldLayoutId id="2147484670" r:id="rId11"/>
    <p:sldLayoutId id="2147484671" r:id="rId12"/>
    <p:sldLayoutId id="2147484672" r:id="rId13"/>
    <p:sldLayoutId id="2147484673" r:id="rId14"/>
    <p:sldLayoutId id="2147484674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663C-6B73-41F6-BBD4-C01212949CE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0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dt" idx="23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 type="ftr" idx="23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5"/>
          <p:cNvSpPr>
            <a:spLocks noGrp="1"/>
          </p:cNvSpPr>
          <p:nvPr>
            <p:ph type="sldNum" idx="24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60B8-D332-4E7B-94C1-D442B9FFCB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4"/>
    <p:sldLayoutId id="2147484677" r:id="rId5"/>
    <p:sldLayoutId id="2147484678" r:id="rId6"/>
    <p:sldLayoutId id="2147484679" r:id="rId7"/>
    <p:sldLayoutId id="2147484680" r:id="rId8"/>
    <p:sldLayoutId id="2147484681" r:id="rId9"/>
    <p:sldLayoutId id="2147484682" r:id="rId10"/>
    <p:sldLayoutId id="2147484683" r:id="rId11"/>
    <p:sldLayoutId id="2147484684" r:id="rId12"/>
    <p:sldLayoutId id="2147484685" r:id="rId13"/>
    <p:sldLayoutId id="2147484686" r:id="rId14"/>
    <p:sldLayoutId id="2147484687" r:id="rId15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3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6" name="PlaceHolder 3"/>
          <p:cNvSpPr>
            <a:spLocks noGrp="1"/>
          </p:cNvSpPr>
          <p:nvPr>
            <p:ph type="dt" idx="24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PlaceHolder 4"/>
          <p:cNvSpPr>
            <a:spLocks noGrp="1"/>
          </p:cNvSpPr>
          <p:nvPr>
            <p:ph type="ftr" idx="24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5"/>
          <p:cNvSpPr>
            <a:spLocks noGrp="1"/>
          </p:cNvSpPr>
          <p:nvPr>
            <p:ph type="sldNum" idx="24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5DEC-C9BE-49E2-9D65-9A7FE5E346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4"/>
    <p:sldLayoutId id="2147484690" r:id="rId5"/>
    <p:sldLayoutId id="2147484691" r:id="rId6"/>
    <p:sldLayoutId id="2147484692" r:id="rId7"/>
    <p:sldLayoutId id="2147484693" r:id="rId8"/>
    <p:sldLayoutId id="2147484694" r:id="rId9"/>
    <p:sldLayoutId id="2147484695" r:id="rId10"/>
    <p:sldLayoutId id="2147484696" r:id="rId11"/>
    <p:sldLayoutId id="2147484697" r:id="rId12"/>
    <p:sldLayoutId id="2147484698" r:id="rId13"/>
    <p:sldLayoutId id="2147484699" r:id="rId14"/>
    <p:sldLayoutId id="2147484700" r:id="rId15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6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 type="dt" idx="24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PlaceHolder 4"/>
          <p:cNvSpPr>
            <a:spLocks noGrp="1"/>
          </p:cNvSpPr>
          <p:nvPr>
            <p:ph type="ftr" idx="24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5"/>
          <p:cNvSpPr>
            <a:spLocks noGrp="1"/>
          </p:cNvSpPr>
          <p:nvPr>
            <p:ph type="sldNum" idx="24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DED1-13AD-4CED-8D86-C1B4CCF0163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4"/>
    <p:sldLayoutId id="2147484703" r:id="rId5"/>
    <p:sldLayoutId id="2147484704" r:id="rId6"/>
    <p:sldLayoutId id="2147484705" r:id="rId7"/>
    <p:sldLayoutId id="2147484706" r:id="rId8"/>
    <p:sldLayoutId id="2147484707" r:id="rId9"/>
    <p:sldLayoutId id="2147484708" r:id="rId10"/>
    <p:sldLayoutId id="2147484709" r:id="rId11"/>
    <p:sldLayoutId id="2147484710" r:id="rId12"/>
    <p:sldLayoutId id="2147484711" r:id="rId13"/>
    <p:sldLayoutId id="2147484712" r:id="rId14"/>
    <p:sldLayoutId id="2147484713" r:id="rId15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29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2" name="PlaceHolder 3"/>
          <p:cNvSpPr>
            <a:spLocks noGrp="1"/>
          </p:cNvSpPr>
          <p:nvPr>
            <p:ph type="dt" idx="24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PlaceHolder 4"/>
          <p:cNvSpPr>
            <a:spLocks noGrp="1"/>
          </p:cNvSpPr>
          <p:nvPr>
            <p:ph type="ftr" idx="24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5"/>
          <p:cNvSpPr>
            <a:spLocks noGrp="1"/>
          </p:cNvSpPr>
          <p:nvPr>
            <p:ph type="sldNum" idx="24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0546-3D1E-4136-A1A8-82CE8213B4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4"/>
    <p:sldLayoutId id="2147484716" r:id="rId5"/>
    <p:sldLayoutId id="2147484717" r:id="rId6"/>
    <p:sldLayoutId id="2147484718" r:id="rId7"/>
    <p:sldLayoutId id="2147484719" r:id="rId8"/>
    <p:sldLayoutId id="2147484720" r:id="rId9"/>
    <p:sldLayoutId id="2147484721" r:id="rId10"/>
    <p:sldLayoutId id="2147484722" r:id="rId11"/>
    <p:sldLayoutId id="2147484723" r:id="rId12"/>
    <p:sldLayoutId id="2147484724" r:id="rId13"/>
    <p:sldLayoutId id="2147484725" r:id="rId14"/>
    <p:sldLayoutId id="2147484726" r:id="rId15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72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5" name="PlaceHolder 3"/>
          <p:cNvSpPr>
            <a:spLocks noGrp="1"/>
          </p:cNvSpPr>
          <p:nvPr>
            <p:ph type="dt" idx="25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PlaceHolder 4"/>
          <p:cNvSpPr>
            <a:spLocks noGrp="1"/>
          </p:cNvSpPr>
          <p:nvPr>
            <p:ph type="ftr" idx="25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5"/>
          <p:cNvSpPr>
            <a:spLocks noGrp="1"/>
          </p:cNvSpPr>
          <p:nvPr>
            <p:ph type="sldNum" idx="25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2B55-587B-430C-B9C8-A4CFCA16BD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4"/>
    <p:sldLayoutId id="2147484729" r:id="rId5"/>
    <p:sldLayoutId id="2147484730" r:id="rId6"/>
    <p:sldLayoutId id="2147484731" r:id="rId7"/>
    <p:sldLayoutId id="2147484732" r:id="rId8"/>
    <p:sldLayoutId id="2147484733" r:id="rId9"/>
    <p:sldLayoutId id="2147484734" r:id="rId10"/>
    <p:sldLayoutId id="2147484735" r:id="rId11"/>
    <p:sldLayoutId id="2147484736" r:id="rId12"/>
    <p:sldLayoutId id="2147484737" r:id="rId13"/>
    <p:sldLayoutId id="2147484738" r:id="rId14"/>
    <p:sldLayoutId id="2147484739" r:id="rId15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5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8" name="PlaceHolder 3"/>
          <p:cNvSpPr>
            <a:spLocks noGrp="1"/>
          </p:cNvSpPr>
          <p:nvPr>
            <p:ph type="dt" idx="25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PlaceHolder 4"/>
          <p:cNvSpPr>
            <a:spLocks noGrp="1"/>
          </p:cNvSpPr>
          <p:nvPr>
            <p:ph type="ftr" idx="25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5"/>
          <p:cNvSpPr>
            <a:spLocks noGrp="1"/>
          </p:cNvSpPr>
          <p:nvPr>
            <p:ph type="sldNum" idx="25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269E-23AA-40FF-B1A4-F2AA20BDBB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4"/>
    <p:sldLayoutId id="2147484742" r:id="rId5"/>
    <p:sldLayoutId id="2147484743" r:id="rId6"/>
    <p:sldLayoutId id="2147484744" r:id="rId7"/>
    <p:sldLayoutId id="2147484745" r:id="rId8"/>
    <p:sldLayoutId id="2147484746" r:id="rId9"/>
    <p:sldLayoutId id="2147484747" r:id="rId10"/>
    <p:sldLayoutId id="2147484748" r:id="rId11"/>
    <p:sldLayoutId id="2147484749" r:id="rId12"/>
    <p:sldLayoutId id="2147484750" r:id="rId13"/>
    <p:sldLayoutId id="2147484751" r:id="rId14"/>
    <p:sldLayoutId id="2147484752" r:id="rId15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58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1" name="PlaceHolder 3"/>
          <p:cNvSpPr>
            <a:spLocks noGrp="1"/>
          </p:cNvSpPr>
          <p:nvPr>
            <p:ph type="dt" idx="25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PlaceHolder 4"/>
          <p:cNvSpPr>
            <a:spLocks noGrp="1"/>
          </p:cNvSpPr>
          <p:nvPr>
            <p:ph type="ftr" idx="25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5"/>
          <p:cNvSpPr>
            <a:spLocks noGrp="1"/>
          </p:cNvSpPr>
          <p:nvPr>
            <p:ph type="sldNum" idx="25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A45B-69BC-4ED0-9CB7-37688B0606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4"/>
    <p:sldLayoutId id="2147484755" r:id="rId5"/>
    <p:sldLayoutId id="2147484756" r:id="rId6"/>
    <p:sldLayoutId id="2147484757" r:id="rId7"/>
    <p:sldLayoutId id="2147484758" r:id="rId8"/>
    <p:sldLayoutId id="2147484759" r:id="rId9"/>
    <p:sldLayoutId id="2147484760" r:id="rId10"/>
    <p:sldLayoutId id="2147484761" r:id="rId11"/>
    <p:sldLayoutId id="2147484762" r:id="rId12"/>
    <p:sldLayoutId id="2147484763" r:id="rId13"/>
    <p:sldLayoutId id="2147484764" r:id="rId14"/>
    <p:sldLayoutId id="2147484765" r:id="rId15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1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 type="dt" idx="25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 type="ftr" idx="26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 type="sldNum" idx="26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B8B8-FCE8-483A-89E1-E7968C767B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4"/>
    <p:sldLayoutId id="2147484768" r:id="rId5"/>
    <p:sldLayoutId id="2147484769" r:id="rId6"/>
    <p:sldLayoutId id="2147484770" r:id="rId7"/>
    <p:sldLayoutId id="2147484771" r:id="rId8"/>
    <p:sldLayoutId id="2147484772" r:id="rId9"/>
    <p:sldLayoutId id="2147484773" r:id="rId10"/>
    <p:sldLayoutId id="2147484774" r:id="rId11"/>
    <p:sldLayoutId id="2147484775" r:id="rId12"/>
    <p:sldLayoutId id="2147484776" r:id="rId13"/>
    <p:sldLayoutId id="2147484777" r:id="rId14"/>
    <p:sldLayoutId id="2147484778" r:id="rId15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4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7" name="PlaceHolder 3"/>
          <p:cNvSpPr>
            <a:spLocks noGrp="1"/>
          </p:cNvSpPr>
          <p:nvPr>
            <p:ph type="dt" idx="26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PlaceHolder 4"/>
          <p:cNvSpPr>
            <a:spLocks noGrp="1"/>
          </p:cNvSpPr>
          <p:nvPr>
            <p:ph type="ftr" idx="26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5"/>
          <p:cNvSpPr>
            <a:spLocks noGrp="1"/>
          </p:cNvSpPr>
          <p:nvPr>
            <p:ph type="sldNum" idx="26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874E-46F3-41F3-97AA-4D48359D85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4"/>
    <p:sldLayoutId id="2147484781" r:id="rId5"/>
    <p:sldLayoutId id="2147484782" r:id="rId6"/>
    <p:sldLayoutId id="2147484783" r:id="rId7"/>
    <p:sldLayoutId id="2147484784" r:id="rId8"/>
    <p:sldLayoutId id="2147484785" r:id="rId9"/>
    <p:sldLayoutId id="2147484786" r:id="rId10"/>
    <p:sldLayoutId id="2147484787" r:id="rId11"/>
    <p:sldLayoutId id="2147484788" r:id="rId12"/>
    <p:sldLayoutId id="2147484789" r:id="rId13"/>
    <p:sldLayoutId id="2147484790" r:id="rId14"/>
    <p:sldLayoutId id="2147484791" r:id="rId15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87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 type="dt" idx="26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 type="ftr" idx="26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PlaceHolder 5"/>
          <p:cNvSpPr>
            <a:spLocks noGrp="1"/>
          </p:cNvSpPr>
          <p:nvPr>
            <p:ph type="sldNum" idx="26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05F6-89E3-45AB-80CD-8708A4DADF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4"/>
    <p:sldLayoutId id="2147484794" r:id="rId5"/>
    <p:sldLayoutId id="2147484795" r:id="rId6"/>
    <p:sldLayoutId id="2147484796" r:id="rId7"/>
    <p:sldLayoutId id="2147484797" r:id="rId8"/>
    <p:sldLayoutId id="2147484798" r:id="rId9"/>
    <p:sldLayoutId id="2147484799" r:id="rId10"/>
    <p:sldLayoutId id="2147484800" r:id="rId11"/>
    <p:sldLayoutId id="2147484801" r:id="rId12"/>
    <p:sldLayoutId id="2147484802" r:id="rId13"/>
    <p:sldLayoutId id="2147484803" r:id="rId14"/>
    <p:sldLayoutId id="2147484804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3221-F22F-481C-82F4-0FB3A74243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30" name="Picture 12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1" name="TextBox 8"/>
          <p:cNvSpPr/>
          <p:nvPr/>
        </p:nvSpPr>
        <p:spPr>
          <a:xfrm>
            <a:off x="738360" y="887400"/>
            <a:ext cx="545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TextBox 9"/>
          <p:cNvSpPr/>
          <p:nvPr/>
        </p:nvSpPr>
        <p:spPr>
          <a:xfrm>
            <a:off x="7850160" y="3119400"/>
            <a:ext cx="5540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 type="dt" idx="268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 type="ftr" idx="269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PlaceHolder 5"/>
          <p:cNvSpPr>
            <a:spLocks noGrp="1"/>
          </p:cNvSpPr>
          <p:nvPr>
            <p:ph type="sldNum" idx="270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E1B-FAD5-47D9-9333-5AD621EC14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4"/>
    <p:sldLayoutId id="2147484807" r:id="rId5"/>
    <p:sldLayoutId id="2147484808" r:id="rId6"/>
    <p:sldLayoutId id="2147484809" r:id="rId7"/>
    <p:sldLayoutId id="2147484810" r:id="rId8"/>
    <p:sldLayoutId id="2147484811" r:id="rId9"/>
    <p:sldLayoutId id="2147484812" r:id="rId10"/>
    <p:sldLayoutId id="2147484813" r:id="rId11"/>
    <p:sldLayoutId id="2147484814" r:id="rId12"/>
    <p:sldLayoutId id="2147484815" r:id="rId13"/>
    <p:sldLayoutId id="2147484816" r:id="rId14"/>
    <p:sldLayoutId id="2147484817" r:id="rId15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75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6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7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8" name="PlaceHolder 3"/>
          <p:cNvSpPr>
            <a:spLocks noGrp="1"/>
          </p:cNvSpPr>
          <p:nvPr>
            <p:ph type="dt" idx="27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PlaceHolder 4"/>
          <p:cNvSpPr>
            <a:spLocks noGrp="1"/>
          </p:cNvSpPr>
          <p:nvPr>
            <p:ph type="ftr" idx="27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5"/>
          <p:cNvSpPr>
            <a:spLocks noGrp="1"/>
          </p:cNvSpPr>
          <p:nvPr>
            <p:ph type="sldNum" idx="273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80CB-9EB5-45F2-8B0A-BAACCDFB1B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4"/>
    <p:sldLayoutId id="2147484820" r:id="rId5"/>
    <p:sldLayoutId id="2147484821" r:id="rId6"/>
    <p:sldLayoutId id="2147484822" r:id="rId7"/>
    <p:sldLayoutId id="2147484823" r:id="rId8"/>
    <p:sldLayoutId id="2147484824" r:id="rId9"/>
    <p:sldLayoutId id="2147484825" r:id="rId10"/>
    <p:sldLayoutId id="2147484826" r:id="rId11"/>
    <p:sldLayoutId id="2147484827" r:id="rId12"/>
    <p:sldLayoutId id="2147484828" r:id="rId13"/>
    <p:sldLayoutId id="2147484829" r:id="rId14"/>
    <p:sldLayoutId id="2147484830" r:id="rId15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8" name="Picture 13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1" name="PlaceHolder 3"/>
          <p:cNvSpPr>
            <a:spLocks noGrp="1"/>
          </p:cNvSpPr>
          <p:nvPr>
            <p:ph type="dt" idx="27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PlaceHolder 4"/>
          <p:cNvSpPr>
            <a:spLocks noGrp="1"/>
          </p:cNvSpPr>
          <p:nvPr>
            <p:ph type="ftr" idx="27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5"/>
          <p:cNvSpPr>
            <a:spLocks noGrp="1"/>
          </p:cNvSpPr>
          <p:nvPr>
            <p:ph type="sldNum" idx="276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C5E2-A824-4E26-AF5F-0550D3F839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4"/>
    <p:sldLayoutId id="2147484833" r:id="rId5"/>
    <p:sldLayoutId id="2147484834" r:id="rId6"/>
    <p:sldLayoutId id="2147484835" r:id="rId7"/>
    <p:sldLayoutId id="2147484836" r:id="rId8"/>
    <p:sldLayoutId id="2147484837" r:id="rId9"/>
    <p:sldLayoutId id="2147484838" r:id="rId10"/>
    <p:sldLayoutId id="2147484839" r:id="rId11"/>
    <p:sldLayoutId id="2147484840" r:id="rId12"/>
    <p:sldLayoutId id="2147484841" r:id="rId13"/>
    <p:sldLayoutId id="2147484842" r:id="rId14"/>
    <p:sldLayoutId id="2147484843" r:id="rId15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61" name="Picture 1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4" name="PlaceHolder 3"/>
          <p:cNvSpPr>
            <a:spLocks noGrp="1"/>
          </p:cNvSpPr>
          <p:nvPr>
            <p:ph type="dt" idx="277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PlaceHolder 4"/>
          <p:cNvSpPr>
            <a:spLocks noGrp="1"/>
          </p:cNvSpPr>
          <p:nvPr>
            <p:ph type="ftr" idx="278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5"/>
          <p:cNvSpPr>
            <a:spLocks noGrp="1"/>
          </p:cNvSpPr>
          <p:nvPr>
            <p:ph type="sldNum" idx="279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BA6A-485E-4A8D-BC02-F1C4A6F5C40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4"/>
    <p:sldLayoutId id="2147484846" r:id="rId5"/>
    <p:sldLayoutId id="2147484847" r:id="rId6"/>
    <p:sldLayoutId id="2147484848" r:id="rId7"/>
    <p:sldLayoutId id="2147484849" r:id="rId8"/>
    <p:sldLayoutId id="2147484850" r:id="rId9"/>
    <p:sldLayoutId id="2147484851" r:id="rId10"/>
    <p:sldLayoutId id="2147484852" r:id="rId11"/>
    <p:sldLayoutId id="2147484853" r:id="rId12"/>
    <p:sldLayoutId id="2147484854" r:id="rId13"/>
    <p:sldLayoutId id="2147484855" r:id="rId14"/>
    <p:sldLayoutId id="2147484856" r:id="rId15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04" name="Picture 8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 type="dt" idx="280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PlaceHolder 4"/>
          <p:cNvSpPr>
            <a:spLocks noGrp="1"/>
          </p:cNvSpPr>
          <p:nvPr>
            <p:ph type="ftr" idx="281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5"/>
          <p:cNvSpPr>
            <a:spLocks noGrp="1"/>
          </p:cNvSpPr>
          <p:nvPr>
            <p:ph type="sldNum" idx="282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5271-9648-446F-B52C-9E0003E28F2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4"/>
    <p:sldLayoutId id="2147484859" r:id="rId5"/>
    <p:sldLayoutId id="2147484860" r:id="rId6"/>
    <p:sldLayoutId id="2147484861" r:id="rId7"/>
    <p:sldLayoutId id="2147484862" r:id="rId8"/>
    <p:sldLayoutId id="2147484863" r:id="rId9"/>
    <p:sldLayoutId id="2147484864" r:id="rId10"/>
    <p:sldLayoutId id="2147484865" r:id="rId11"/>
    <p:sldLayoutId id="2147484866" r:id="rId12"/>
    <p:sldLayoutId id="2147484867" r:id="rId13"/>
    <p:sldLayoutId id="2147484868" r:id="rId14"/>
    <p:sldLayoutId id="2147484869" r:id="rId15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47" name="Picture 7" descr="Droplets-SD-Title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8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9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0" name="PlaceHolder 3"/>
          <p:cNvSpPr>
            <a:spLocks noGrp="1"/>
          </p:cNvSpPr>
          <p:nvPr>
            <p:ph type="dt" idx="283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PlaceHolder 4"/>
          <p:cNvSpPr>
            <a:spLocks noGrp="1"/>
          </p:cNvSpPr>
          <p:nvPr>
            <p:ph type="ftr" idx="284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5"/>
          <p:cNvSpPr>
            <a:spLocks noGrp="1"/>
          </p:cNvSpPr>
          <p:nvPr>
            <p:ph type="sldNum" idx="285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D43-251C-4A9B-BB55-66A6287A64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4"/>
    <p:sldLayoutId id="2147484872" r:id="rId5"/>
    <p:sldLayoutId id="2147484873" r:id="rId6"/>
    <p:sldLayoutId id="2147484874" r:id="rId7"/>
    <p:sldLayoutId id="2147484875" r:id="rId8"/>
    <p:sldLayoutId id="2147484876" r:id="rId9"/>
    <p:sldLayoutId id="2147484877" r:id="rId10"/>
    <p:sldLayoutId id="2147484878" r:id="rId11"/>
    <p:sldLayoutId id="2147484879" r:id="rId12"/>
    <p:sldLayoutId id="2147484880" r:id="rId13"/>
    <p:sldLayoutId id="2147484881" r:id="rId14"/>
    <p:sldLayoutId id="2147484882" r:id="rId15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90" name="Picture 7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 type="dt" idx="286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 type="ftr" idx="287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 type="sldNum" idx="288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B65-54B0-4968-A359-C57511AC82B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4"/>
    <p:sldLayoutId id="2147484885" r:id="rId5"/>
    <p:sldLayoutId id="2147484886" r:id="rId6"/>
    <p:sldLayoutId id="2147484887" r:id="rId7"/>
    <p:sldLayoutId id="2147484888" r:id="rId8"/>
    <p:sldLayoutId id="2147484889" r:id="rId9"/>
    <p:sldLayoutId id="2147484890" r:id="rId10"/>
    <p:sldLayoutId id="2147484891" r:id="rId11"/>
    <p:sldLayoutId id="2147484892" r:id="rId12"/>
    <p:sldLayoutId id="2147484893" r:id="rId13"/>
    <p:sldLayoutId id="2147484894" r:id="rId14"/>
    <p:sldLayoutId id="2147484895" r:id="rId15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33" name="Picture 10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4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5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6" name="PlaceHolder 3"/>
          <p:cNvSpPr>
            <a:spLocks noGrp="1"/>
          </p:cNvSpPr>
          <p:nvPr>
            <p:ph type="dt" idx="289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PlaceHolder 4"/>
          <p:cNvSpPr>
            <a:spLocks noGrp="1"/>
          </p:cNvSpPr>
          <p:nvPr>
            <p:ph type="ftr" idx="290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5"/>
          <p:cNvSpPr>
            <a:spLocks noGrp="1"/>
          </p:cNvSpPr>
          <p:nvPr>
            <p:ph type="sldNum" idx="291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CC5C-8832-49D8-BA56-E7B33E84170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4"/>
    <p:sldLayoutId id="2147484898" r:id="rId5"/>
    <p:sldLayoutId id="2147484899" r:id="rId6"/>
    <p:sldLayoutId id="2147484900" r:id="rId7"/>
    <p:sldLayoutId id="2147484901" r:id="rId8"/>
    <p:sldLayoutId id="2147484902" r:id="rId9"/>
    <p:sldLayoutId id="2147484903" r:id="rId10"/>
    <p:sldLayoutId id="2147484904" r:id="rId11"/>
    <p:sldLayoutId id="2147484905" r:id="rId12"/>
    <p:sldLayoutId id="2147484906" r:id="rId13"/>
    <p:sldLayoutId id="2147484907" r:id="rId14"/>
    <p:sldLayoutId id="2147484908" r:id="rId15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76" name="Picture 6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8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9" name="PlaceHolder 3"/>
          <p:cNvSpPr>
            <a:spLocks noGrp="1"/>
          </p:cNvSpPr>
          <p:nvPr>
            <p:ph type="dt" idx="292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0" name="PlaceHolder 4"/>
          <p:cNvSpPr>
            <a:spLocks noGrp="1"/>
          </p:cNvSpPr>
          <p:nvPr>
            <p:ph type="ftr" idx="293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5"/>
          <p:cNvSpPr>
            <a:spLocks noGrp="1"/>
          </p:cNvSpPr>
          <p:nvPr>
            <p:ph type="sldNum" idx="294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F06-9757-4114-A62B-0F17988152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4"/>
    <p:sldLayoutId id="2147484911" r:id="rId5"/>
    <p:sldLayoutId id="2147484912" r:id="rId6"/>
    <p:sldLayoutId id="2147484913" r:id="rId7"/>
    <p:sldLayoutId id="2147484914" r:id="rId8"/>
    <p:sldLayoutId id="2147484915" r:id="rId9"/>
    <p:sldLayoutId id="2147484916" r:id="rId10"/>
    <p:sldLayoutId id="2147484917" r:id="rId11"/>
    <p:sldLayoutId id="2147484918" r:id="rId12"/>
    <p:sldLayoutId id="2147484919" r:id="rId13"/>
    <p:sldLayoutId id="2147484920" r:id="rId14"/>
    <p:sldLayoutId id="2147484921" r:id="rId15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19" name="Picture 5" descr="Droplets-SD-Content-R1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 type="body"/>
          </p:nvPr>
        </p:nvSpPr>
        <p:spPr>
          <a:xfrm>
            <a:off x="685800" y="2367000"/>
            <a:ext cx="77724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 type="dt" idx="295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 type="ftr" idx="296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5"/>
          <p:cNvSpPr>
            <a:spLocks noGrp="1"/>
          </p:cNvSpPr>
          <p:nvPr>
            <p:ph type="sldNum" idx="297"/>
          </p:nvPr>
        </p:nvSpPr>
        <p:spPr>
          <a:xfrm>
            <a:off x="7885080" y="5882760"/>
            <a:ext cx="573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8FB8-8CCD-4C5E-B9A3-C8CAA019D9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4"/>
    <p:sldLayoutId id="2147484924" r:id="rId5"/>
    <p:sldLayoutId id="2147484925" r:id="rId6"/>
    <p:sldLayoutId id="2147484926" r:id="rId7"/>
    <p:sldLayoutId id="2147484927" r:id="rId8"/>
    <p:sldLayoutId id="2147484928" r:id="rId9"/>
    <p:sldLayoutId id="2147484929" r:id="rId10"/>
    <p:sldLayoutId id="2147484930" r:id="rId11"/>
    <p:sldLayoutId id="2147484931" r:id="rId12"/>
    <p:sldLayoutId id="2147484932" r:id="rId13"/>
    <p:sldLayoutId id="2147484933" r:id="rId14"/>
    <p:sldLayoutId id="214748493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0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6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0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177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7" name="Picture 15" descr="http://dostavka-portretov.ru/flagrfgor-rz%20.gif"/>
          <p:cNvPicPr/>
          <p:nvPr/>
        </p:nvPicPr>
        <p:blipFill>
          <a:blip r:embed="rId1"/>
          <a:stretch/>
        </p:blipFill>
        <p:spPr>
          <a:xfrm>
            <a:off x="-108000" y="-316080"/>
            <a:ext cx="9717120" cy="7418520"/>
          </a:xfrm>
          <a:prstGeom prst="rect">
            <a:avLst/>
          </a:prstGeom>
          <a:ln w="0">
            <a:noFill/>
          </a:ln>
        </p:spPr>
      </p:pic>
      <p:sp>
        <p:nvSpPr>
          <p:cNvPr id="4658" name="Text Box 3"/>
          <p:cNvSpPr/>
          <p:nvPr/>
        </p:nvSpPr>
        <p:spPr>
          <a:xfrm>
            <a:off x="755640" y="1671480"/>
            <a:ext cx="804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юджет для граждан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Monotype Corsiva"/>
                <a:ea typeface="Arial"/>
              </a:rPr>
              <a:t>«О бюджете  Уржумского муниципального района Кировской обла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  <a:ea typeface="Arial"/>
              </a:rPr>
              <a:t>на 2023 год и на плановый перио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  <a:ea typeface="Arial"/>
              </a:rPr>
              <a:t>2024 - 2025 год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Прямоугольник 3"/>
          <p:cNvSpPr/>
          <p:nvPr/>
        </p:nvSpPr>
        <p:spPr>
          <a:xfrm>
            <a:off x="755640" y="26352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  <a:ea typeface="Arial"/>
              </a:rPr>
              <a:t>МКУ администрация Уржум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Прямоугольник 4"/>
          <p:cNvSpPr/>
          <p:nvPr/>
        </p:nvSpPr>
        <p:spPr>
          <a:xfrm>
            <a:off x="428760" y="4786200"/>
            <a:ext cx="8001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ывает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главы администрации Уржумского муниципального района по бюджету и финансам- Начальник управления финан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60640" indent="-797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як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1" name="PlaceHolder 1"/>
          <p:cNvSpPr>
            <a:spLocks noGrp="1"/>
          </p:cNvSpPr>
          <p:nvPr>
            <p:ph type="title"/>
          </p:nvPr>
        </p:nvSpPr>
        <p:spPr>
          <a:xfrm>
            <a:off x="609120" y="549000"/>
            <a:ext cx="85345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ОДХОДЫ ПО ФОРМИРОВАНИЮ РАСХОДНОЙ ЧАСТИ БЮДЖЕТА РАЙОНА НА 2023 ГОД И ПЛАНОВЫЙ ПЕРИОД 2024-2025 ГОДОВ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2" name="Прямоугольник с двумя усеченными противолежащими углами 2"/>
          <p:cNvSpPr/>
          <p:nvPr/>
        </p:nvSpPr>
        <p:spPr>
          <a:xfrm>
            <a:off x="900000" y="1268280"/>
            <a:ext cx="8064720" cy="1297080"/>
          </a:xfrm>
          <a:prstGeom prst="pie">
            <a:avLst/>
          </a:prstGeom>
          <a:solidFill>
            <a:srgbClr val="f5e0d6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заработную плату с начислениями работникам учреждений бюджетной сферы и органов местного самоуправления  предусмотрены с учетом индексации заработной платы в 2022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Прямоугольник с двумя усеченными противолежащими углами 5"/>
          <p:cNvSpPr/>
          <p:nvPr/>
        </p:nvSpPr>
        <p:spPr>
          <a:xfrm>
            <a:off x="900000" y="2708280"/>
            <a:ext cx="8066160" cy="1152360"/>
          </a:xfrm>
          <a:prstGeom prst="pie">
            <a:avLst/>
          </a:prstGeom>
          <a:solidFill>
            <a:srgbClr val="f5e0d6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ходы на оплату коммунальных услуг муниципальных учреждений  предусмотрены с учетом роста тарифов на планируемый период по данным региональной службы по тариф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Прямоугольник с двумя усеченными противолежащими углами 7"/>
          <p:cNvSpPr/>
          <p:nvPr/>
        </p:nvSpPr>
        <p:spPr>
          <a:xfrm>
            <a:off x="900000" y="5229360"/>
            <a:ext cx="8064720" cy="1152360"/>
          </a:xfrm>
          <a:prstGeom prst="pie">
            <a:avLst/>
          </a:prstGeom>
          <a:solidFill>
            <a:srgbClr val="f5e0d6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ном объеме обеспечено софинансирование к средствам федерального и областного бюджета в соответствии с условиями предоставления межбюджетных трансфе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Нашивка 8"/>
          <p:cNvSpPr/>
          <p:nvPr/>
        </p:nvSpPr>
        <p:spPr>
          <a:xfrm>
            <a:off x="179280" y="1628640"/>
            <a:ext cx="505080" cy="684360"/>
          </a:xfrm>
          <a:custGeom>
            <a:avLst/>
            <a:gdLst>
              <a:gd name="textAreaLeft" fmla="*/ 0 w 505080"/>
              <a:gd name="textAreaRight" fmla="*/ 505440 w 50508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49939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Нашивка 23"/>
          <p:cNvSpPr/>
          <p:nvPr/>
        </p:nvSpPr>
        <p:spPr>
          <a:xfrm>
            <a:off x="250920" y="5229360"/>
            <a:ext cx="503280" cy="647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49939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Нашивка 22"/>
          <p:cNvSpPr/>
          <p:nvPr/>
        </p:nvSpPr>
        <p:spPr>
          <a:xfrm>
            <a:off x="179280" y="2852640"/>
            <a:ext cx="505080" cy="684360"/>
          </a:xfrm>
          <a:custGeom>
            <a:avLst/>
            <a:gdLst>
              <a:gd name="textAreaLeft" fmla="*/ 0 w 505080"/>
              <a:gd name="textAreaRight" fmla="*/ 505440 w 50508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49939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Прямоугольник с двумя усеченными противолежащими углами 5"/>
          <p:cNvSpPr/>
          <p:nvPr/>
        </p:nvSpPr>
        <p:spPr>
          <a:xfrm>
            <a:off x="900000" y="4003560"/>
            <a:ext cx="8066160" cy="1154160"/>
          </a:xfrm>
          <a:prstGeom prst="pie">
            <a:avLst/>
          </a:prstGeom>
          <a:solidFill>
            <a:srgbClr val="f5e0d6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остальные расходы, связанные в том числе с материальными затратами муниципальных учреждений, предусмотрены на уровне плановых на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Нашивка 8"/>
          <p:cNvSpPr/>
          <p:nvPr/>
        </p:nvSpPr>
        <p:spPr>
          <a:xfrm>
            <a:off x="250920" y="4076640"/>
            <a:ext cx="504720" cy="684360"/>
          </a:xfrm>
          <a:custGeom>
            <a:avLst/>
            <a:gdLst>
              <a:gd name="textAreaLeft" fmla="*/ 0 w 504720"/>
              <a:gd name="textAreaRight" fmla="*/ 505080 w 504720"/>
              <a:gd name="textAreaTop" fmla="*/ 0 h 684360"/>
              <a:gd name="textAreaBottom" fmla="*/ 684720 h 6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649939"/>
          </a:solidFill>
          <a:ln w="15840">
            <a:solidFill>
              <a:srgbClr val="2077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0" name="TextBox 4"/>
          <p:cNvSpPr/>
          <p:nvPr/>
        </p:nvSpPr>
        <p:spPr>
          <a:xfrm>
            <a:off x="395280" y="-243000"/>
            <a:ext cx="8748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643,6 млн.рублей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я финансирования муниципальных целевых программ по направлениям, % и млн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1" name="Диаграмма 5"/>
          <p:cNvGraphicFramePr/>
          <p:nvPr/>
        </p:nvGraphicFramePr>
        <p:xfrm>
          <a:off x="826920" y="1311120"/>
          <a:ext cx="7845480" cy="554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42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11120"/>
                    <a:ext cx="7845480" cy="55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3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МУНИЦИПАЛЬНЫЕ ПРОГРАММЫ СОЦИАЛЬНОЙ НАПРАВЛЕННОСТИ</a:t>
            </a:r>
            <a:br>
              <a:rPr sz="2300"/>
            </a:br>
            <a:r>
              <a:rPr b="0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3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379,8 млн. рублей  или 58,7% от общих расходов бюджета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44" name=""/>
          <p:cNvGraphicFramePr/>
          <p:nvPr/>
        </p:nvGraphicFramePr>
        <p:xfrm>
          <a:off x="287280" y="1989000"/>
          <a:ext cx="8496360" cy="3606840"/>
        </p:xfrm>
        <a:graphic>
          <a:graphicData uri="http://schemas.openxmlformats.org/drawingml/2006/table">
            <a:tbl>
              <a:tblPr/>
              <a:tblGrid>
                <a:gridCol w="6408720"/>
                <a:gridCol w="2087640"/>
              </a:tblGrid>
              <a:tr h="970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умма на 2023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58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8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физической культуры и 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графическое разви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4745" name="Левая круглая скобка 1"/>
          <p:cNvSpPr/>
          <p:nvPr/>
        </p:nvSpPr>
        <p:spPr>
          <a:xfrm>
            <a:off x="-612720" y="5445000"/>
            <a:ext cx="8893080" cy="914400"/>
          </a:xfrm>
          <a:custGeom>
            <a:avLst/>
            <a:gdLst>
              <a:gd name="textAreaLeft" fmla="*/ 2614320 w 8893080"/>
              <a:gd name="textAreaRight" fmla="*/ 8893440 w 8893080"/>
              <a:gd name="textAreaTop" fmla="*/ 37800 h 914400"/>
              <a:gd name="textAreaBottom" fmla="*/ 87660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w Cen MT"/>
              </a:rPr>
              <a:t>2024 год 358 млн.руб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w Cen MT"/>
              </a:rPr>
              <a:t>2025 год 360,3 млн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6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435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empus Sans ITC"/>
              </a:rPr>
              <a:t>МУНИЦИПАЛЬНЫЕ ПРОГРАММЫ, НАПРАВЛЕННЫЕ НА ПОДДЕРЖКУ ОТРАСЛЕЙ ЭКОНОМИКИ</a:t>
            </a:r>
            <a:r>
              <a:rPr b="1" lang="ru-RU" sz="2300" spc="-1" strike="noStrike">
                <a:solidFill>
                  <a:srgbClr val="000000"/>
                </a:solidFill>
                <a:latin typeface="Tw Cen MT"/>
              </a:rPr>
              <a:t>      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w Cen MT"/>
              </a:rPr>
              <a:t>                                                                                                   </a:t>
            </a:r>
            <a:br>
              <a:rPr sz="1400"/>
            </a:b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113,8 млн. рублей или 17,6% от общих расходов бюджет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47" name=""/>
          <p:cNvGraphicFramePr/>
          <p:nvPr/>
        </p:nvGraphicFramePr>
        <p:xfrm>
          <a:off x="255600" y="2060640"/>
          <a:ext cx="8713800" cy="3456000"/>
        </p:xfrm>
        <a:graphic>
          <a:graphicData uri="http://schemas.openxmlformats.org/drawingml/2006/table">
            <a:tbl>
              <a:tblPr/>
              <a:tblGrid>
                <a:gridCol w="7200720"/>
                <a:gridCol w="1513080"/>
              </a:tblGrid>
              <a:tr h="49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Наименование програ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800000"/>
                          </a:solidFill>
                          <a:latin typeface="Times New Roman"/>
                          <a:ea typeface="Arial"/>
                        </a:rPr>
                        <a:t>2023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витие коммунальной и жилищной инфраструк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витие агропромышленного комплек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70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Развитие транспортной систе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Поддержка малого и среднего предприниматель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95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Энергоэффективность и развитие энерге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Строительство и архите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48" name="Rectangle 2"/>
          <p:cNvSpPr/>
          <p:nvPr/>
        </p:nvSpPr>
        <p:spPr>
          <a:xfrm>
            <a:off x="826920" y="5864400"/>
            <a:ext cx="79632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2024 год 57,9  млн.руб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  <a:ea typeface="Arial"/>
              </a:rPr>
              <a:t>2025 год 57,4 млн.рублей</a:t>
            </a:r>
            <a:r>
              <a:rPr b="1" i="1" lang="ru-RU" sz="2800" spc="-1" strike="noStrike">
                <a:solidFill>
                  <a:srgbClr val="660033"/>
                </a:solidFill>
                <a:latin typeface="Calibri"/>
                <a:ea typeface="Arial"/>
              </a:rPr>
              <a:t>       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4362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ЕРОПРИЯТИЯ МУНИЦИПАЛЬНЫХ ПРОГРАММ, НАПРАВЛЕННЫЕ НА ОБЕСПЕЧЕНИЕ БЕЗОПАСНЫХ УСЛОВИЙ ЖИЗНЕДЕЯТЕЛЬНОСТИ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</a:rPr>
              <a:t>15,8 млн. рублей  или 2,4% от общих расходов бюджет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50" name=""/>
          <p:cNvGraphicFramePr/>
          <p:nvPr/>
        </p:nvGraphicFramePr>
        <p:xfrm>
          <a:off x="179280" y="1773360"/>
          <a:ext cx="8677440" cy="4037040"/>
        </p:xfrm>
        <a:graphic>
          <a:graphicData uri="http://schemas.openxmlformats.org/drawingml/2006/table">
            <a:tbl>
              <a:tblPr/>
              <a:tblGrid>
                <a:gridCol w="7272360"/>
                <a:gridCol w="1405080"/>
              </a:tblGrid>
              <a:tr h="749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Наименование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99"/>
                          </a:solidFill>
                          <a:latin typeface="Times New Roman"/>
                          <a:ea typeface="Times New Roman"/>
                        </a:rPr>
                        <a:t>Сумма на 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защиты населения (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й фонд, содержание ЕДДС;МБТ  МПО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0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5e0d6"/>
                    </a:solidFill>
                  </a:tcPr>
                </a:tc>
              </a:tr>
              <a:tr h="241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правонарушений и преступлений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ВН «В полицейской фуражке», материальное стимулирование членов ДНД, профилактика распространения наркомании, антикоррупционного общественного созн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терроризма и экстремизма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оведение культурно-просветительской и агитационной работы, обу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df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dff6"/>
                    </a:solidFill>
                  </a:tcPr>
                </a:tc>
              </a:tr>
            </a:tbl>
          </a:graphicData>
        </a:graphic>
      </p:graphicFrame>
      <p:sp>
        <p:nvSpPr>
          <p:cNvPr id="4751" name="Rectangle 2"/>
          <p:cNvSpPr/>
          <p:nvPr/>
        </p:nvSpPr>
        <p:spPr>
          <a:xfrm>
            <a:off x="539640" y="5632560"/>
            <a:ext cx="8436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Rectangle 50"/>
          <p:cNvSpPr/>
          <p:nvPr/>
        </p:nvSpPr>
        <p:spPr>
          <a:xfrm>
            <a:off x="1016280" y="5837400"/>
            <a:ext cx="66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024 год  15,7 млн.рублей;      2025 год  - 15,7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3" name=""/>
          <p:cNvGraphicFramePr/>
          <p:nvPr/>
        </p:nvGraphicFramePr>
        <p:xfrm>
          <a:off x="611280" y="2205000"/>
          <a:ext cx="8101080" cy="2303640"/>
        </p:xfrm>
        <a:graphic>
          <a:graphicData uri="http://schemas.openxmlformats.org/drawingml/2006/table">
            <a:tbl>
              <a:tblPr/>
              <a:tblGrid>
                <a:gridCol w="6540480"/>
                <a:gridCol w="156060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99"/>
                          </a:solidFill>
                          <a:latin typeface="Times New Roman"/>
                          <a:ea typeface="Arial"/>
                        </a:rPr>
                        <a:t>Наименование програм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99"/>
                          </a:solidFill>
                          <a:latin typeface="Times New Roman"/>
                          <a:ea typeface="Arial"/>
                        </a:rPr>
                        <a:t>2023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равление муниципальными финанс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Функционирование админист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6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Управление муниципальным имуще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Охрана окружающей сре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4" name="Rectangle 2"/>
          <p:cNvSpPr/>
          <p:nvPr/>
        </p:nvSpPr>
        <p:spPr>
          <a:xfrm>
            <a:off x="468360" y="5084640"/>
            <a:ext cx="84358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2024 год  125,6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  <a:ea typeface="Arial"/>
              </a:rPr>
              <a:t>2025 год  132,2 млн.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Rectangle 4"/>
          <p:cNvSpPr/>
          <p:nvPr/>
        </p:nvSpPr>
        <p:spPr>
          <a:xfrm>
            <a:off x="611280" y="836640"/>
            <a:ext cx="8686800" cy="47628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РЕАЛИЗАЦИЯ МУНИЦИПАЛЬНЫХ ПРОГРАММ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  <a:ea typeface="Arial"/>
              </a:rPr>
              <a:t>ОБЩЕГО ХАРАКТЕРА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  <a:ea typeface="Arial"/>
              </a:rPr>
              <a:t>134,2 млн. рублей или 20,7% от общих расходов бюдж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Text Box 9"/>
          <p:cNvSpPr/>
          <p:nvPr/>
        </p:nvSpPr>
        <p:spPr>
          <a:xfrm>
            <a:off x="3132000" y="1628640"/>
            <a:ext cx="554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WordArt 24"/>
          <p:cNvSpPr txBox="1"/>
          <p:nvPr/>
        </p:nvSpPr>
        <p:spPr>
          <a:xfrm>
            <a:off x="468360" y="333360"/>
            <a:ext cx="83930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Межбюджетные трансферты,</a:t>
            </a:r>
            <a:endParaRPr b="1" lang="en-US" sz="2800" spc="1" strike="noStrike">
              <a:ln w="12600">
                <a:solidFill>
                  <a:srgbClr val="008000"/>
                </a:solidFill>
                <a:miter/>
              </a:ln>
              <a:solidFill>
                <a:srgbClr val="66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66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едоставляемые бюджетам поселений в 2023 году</a:t>
            </a:r>
            <a:endParaRPr b="1" lang="en-US" sz="2800" spc="1" strike="noStrike">
              <a:ln w="12600">
                <a:solidFill>
                  <a:srgbClr val="008000"/>
                </a:solidFill>
                <a:miter/>
              </a:ln>
              <a:solidFill>
                <a:srgbClr val="6633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58" name="Rectangle 2"/>
          <p:cNvSpPr/>
          <p:nvPr/>
        </p:nvSpPr>
        <p:spPr>
          <a:xfrm>
            <a:off x="708120" y="5794200"/>
            <a:ext cx="8435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Calibri"/>
                <a:ea typeface="Arial"/>
              </a:rPr>
              <a:t>2024 год 75,4 млн.рублей;  2025 год  75,0 млн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Скругленный прямоугольник 6"/>
          <p:cNvSpPr/>
          <p:nvPr/>
        </p:nvSpPr>
        <p:spPr>
          <a:xfrm>
            <a:off x="324000" y="1197000"/>
            <a:ext cx="8351640" cy="461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w Cen MT"/>
              </a:rPr>
              <a:t>(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75,5 млн.рублей, что выше уточненного плана 2022 года на 13,9</a:t>
            </a:r>
            <a:r>
              <a:rPr b="1" i="1" lang="ru-RU" sz="2000" spc="-1" strike="noStrike">
                <a:solidFill>
                  <a:srgbClr val="003300"/>
                </a:solidFill>
                <a:latin typeface="Tw Cen MT"/>
              </a:rPr>
              <a:t>% или на </a:t>
            </a:r>
            <a:r>
              <a:rPr b="1" i="1" lang="ru-RU" sz="2000" spc="-1" strike="noStrike">
                <a:solidFill>
                  <a:srgbClr val="003300"/>
                </a:solidFill>
                <a:latin typeface="Arial"/>
              </a:rPr>
              <a:t>9,2</a:t>
            </a:r>
            <a:r>
              <a:rPr b="1" i="1" lang="ru-RU" sz="2000" spc="-1" strike="noStrike">
                <a:solidFill>
                  <a:srgbClr val="003300"/>
                </a:solidFill>
                <a:latin typeface="Tw Cen MT"/>
              </a:rPr>
              <a:t> млн.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60" name="Object 8"/>
          <p:cNvGraphicFramePr/>
          <p:nvPr/>
        </p:nvGraphicFramePr>
        <p:xfrm>
          <a:off x="-50760" y="1577880"/>
          <a:ext cx="8442360" cy="480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577880"/>
                    <a:ext cx="8442360" cy="48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Text Box 9"/>
          <p:cNvSpPr/>
          <p:nvPr/>
        </p:nvSpPr>
        <p:spPr>
          <a:xfrm>
            <a:off x="3132000" y="162864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WordArt 24"/>
          <p:cNvSpPr txBox="1"/>
          <p:nvPr/>
        </p:nvSpPr>
        <p:spPr>
          <a:xfrm>
            <a:off x="755640" y="260280"/>
            <a:ext cx="7850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Иные межбюджетные трансферты,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едоставляемые бюджетам поселений в 2023 году</a:t>
            </a:r>
            <a:endParaRPr b="0" lang="en-US" sz="24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64" name="Rectangle 2"/>
          <p:cNvSpPr/>
          <p:nvPr/>
        </p:nvSpPr>
        <p:spPr>
          <a:xfrm>
            <a:off x="471600" y="5740560"/>
            <a:ext cx="8435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Calibri"/>
                <a:ea typeface="Arial"/>
              </a:rPr>
              <a:t>2024 год – 65,9 млн.рублей; 2025 год – 65,6 млн.руб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Скругленный прямоугольник 6"/>
          <p:cNvSpPr/>
          <p:nvPr/>
        </p:nvSpPr>
        <p:spPr>
          <a:xfrm>
            <a:off x="755640" y="932040"/>
            <a:ext cx="8066160" cy="215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6</a:t>
            </a:r>
            <a:r>
              <a:rPr b="1" lang="ru-RU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лн. рублей 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(чт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ше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 уточненного плана 2022 го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19,5%</a:t>
            </a:r>
            <a:r>
              <a:rPr b="1" lang="ru-RU" sz="20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Text Box 9"/>
          <p:cNvSpPr/>
          <p:nvPr/>
        </p:nvSpPr>
        <p:spPr>
          <a:xfrm>
            <a:off x="471600" y="1609560"/>
            <a:ext cx="8281800" cy="4346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Поддержка мер по обеспечению сбалансированности бюджетов 48 млн.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Софинансирование ППМИ 2023 года 0,3 млн.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Обеспечение деятельности МПО 12,9 млн.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Осуществление дорожной деятельности 4 млн. 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Повышение безопасности дорожного движения 0,3 млн.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Переселение 0,15 млн.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Обустройство прилегающей территории ФАП 0,03 млн.рубл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Подготовка сведений о границах населенных пунктов и территориальных зон 0,3 млн.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7" name="WordArt 6"/>
          <p:cNvGrpSpPr/>
          <p:nvPr/>
        </p:nvGrpSpPr>
        <p:grpSpPr>
          <a:xfrm>
            <a:off x="324000" y="695160"/>
            <a:ext cx="8496000" cy="573120"/>
            <a:chOff x="324000" y="695160"/>
            <a:chExt cx="8496000" cy="573120"/>
          </a:xfrm>
        </p:grpSpPr>
        <p:pic>
          <p:nvPicPr>
            <p:cNvPr id="4768" name="WordArt 6" descr=""/>
            <p:cNvPicPr/>
            <p:nvPr/>
          </p:nvPicPr>
          <p:blipFill>
            <a:blip r:embed="rId1"/>
            <a:stretch/>
          </p:blipFill>
          <p:spPr>
            <a:xfrm>
              <a:off x="324000" y="697680"/>
              <a:ext cx="8496000" cy="57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9" name=""/>
            <p:cNvSpPr/>
            <p:nvPr/>
          </p:nvSpPr>
          <p:spPr>
            <a:xfrm>
              <a:off x="324000" y="695160"/>
              <a:ext cx="849600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1b8d3"/>
                  </a:solidFill>
                  <a:latin typeface="Arial"/>
                </a:rPr>
                <a:t>Источники покрытия дефицита бюдж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0" name="Text Box 25"/>
          <p:cNvSpPr/>
          <p:nvPr/>
        </p:nvSpPr>
        <p:spPr>
          <a:xfrm>
            <a:off x="179280" y="26028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  <a:ea typeface="Arial"/>
              </a:rPr>
              <a:t>Дефицит бюджета на 2023 год  8,1 млн. 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1" name="Схема 1" descr=""/>
          <p:cNvPicPr/>
          <p:nvPr/>
        </p:nvPicPr>
        <p:blipFill>
          <a:blip r:embed="rId2"/>
          <a:stretch/>
        </p:blipFill>
        <p:spPr>
          <a:xfrm>
            <a:off x="109440" y="1390680"/>
            <a:ext cx="9034560" cy="4686120"/>
          </a:xfrm>
          <a:prstGeom prst="rect">
            <a:avLst/>
          </a:prstGeom>
          <a:ln w="0">
            <a:noFill/>
          </a:ln>
        </p:spPr>
      </p:pic>
      <p:grpSp>
        <p:nvGrpSpPr>
          <p:cNvPr id="4772" name="Плюс 2"/>
          <p:cNvGrpSpPr/>
          <p:nvPr/>
        </p:nvGrpSpPr>
        <p:grpSpPr>
          <a:xfrm>
            <a:off x="2840040" y="3718080"/>
            <a:ext cx="714240" cy="707760"/>
            <a:chOff x="2840040" y="3718080"/>
            <a:chExt cx="714240" cy="707760"/>
          </a:xfrm>
        </p:grpSpPr>
        <p:pic>
          <p:nvPicPr>
            <p:cNvPr id="4773" name="Плюс 2" descr=""/>
            <p:cNvPicPr/>
            <p:nvPr/>
          </p:nvPicPr>
          <p:blipFill>
            <a:blip r:embed="rId3"/>
            <a:stretch/>
          </p:blipFill>
          <p:spPr>
            <a:xfrm>
              <a:off x="2840040" y="3718080"/>
              <a:ext cx="71424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4" name=""/>
            <p:cNvSpPr/>
            <p:nvPr/>
          </p:nvSpPr>
          <p:spPr>
            <a:xfrm>
              <a:off x="2849400" y="3959280"/>
              <a:ext cx="68760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5" name="Равно 3"/>
          <p:cNvGrpSpPr/>
          <p:nvPr/>
        </p:nvGrpSpPr>
        <p:grpSpPr>
          <a:xfrm>
            <a:off x="6156360" y="3790800"/>
            <a:ext cx="493560" cy="573120"/>
            <a:chOff x="6156360" y="3790800"/>
            <a:chExt cx="493560" cy="573120"/>
          </a:xfrm>
        </p:grpSpPr>
        <p:pic>
          <p:nvPicPr>
            <p:cNvPr id="4776" name="Равно 3" descr=""/>
            <p:cNvPicPr/>
            <p:nvPr/>
          </p:nvPicPr>
          <p:blipFill>
            <a:blip r:embed="rId4"/>
            <a:stretch/>
          </p:blipFill>
          <p:spPr>
            <a:xfrm>
              <a:off x="6156360" y="3790800"/>
              <a:ext cx="49356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7" name=""/>
            <p:cNvSpPr/>
            <p:nvPr/>
          </p:nvSpPr>
          <p:spPr>
            <a:xfrm>
              <a:off x="6164280" y="3800520"/>
              <a:ext cx="476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8" name="Прямоугольник с двумя скругленными противолежащими углами 4"/>
          <p:cNvSpPr/>
          <p:nvPr/>
        </p:nvSpPr>
        <p:spPr>
          <a:xfrm>
            <a:off x="5950080" y="1285920"/>
            <a:ext cx="3384360" cy="43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6b5a"/>
                </a:solidFill>
                <a:latin typeface="Tw Cen MT"/>
              </a:rPr>
              <a:t>тыс.руб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9" name="Прямоугольник с двумя скругленными противолежащими углами 5"/>
          <p:cNvGrpSpPr/>
          <p:nvPr/>
        </p:nvGrpSpPr>
        <p:grpSpPr>
          <a:xfrm>
            <a:off x="189000" y="2273400"/>
            <a:ext cx="2421000" cy="2176200"/>
            <a:chOff x="189000" y="2273400"/>
            <a:chExt cx="2421000" cy="2176200"/>
          </a:xfrm>
        </p:grpSpPr>
        <p:pic>
          <p:nvPicPr>
            <p:cNvPr id="4780" name="Прямоугольник с двумя скругленными противолежащими углами 5" descr=""/>
            <p:cNvPicPr/>
            <p:nvPr/>
          </p:nvPicPr>
          <p:blipFill>
            <a:blip r:embed="rId5"/>
            <a:stretch/>
          </p:blipFill>
          <p:spPr>
            <a:xfrm>
              <a:off x="189000" y="2273400"/>
              <a:ext cx="242100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1" name=""/>
            <p:cNvSpPr/>
            <p:nvPr/>
          </p:nvSpPr>
          <p:spPr>
            <a:xfrm>
              <a:off x="297000" y="2382840"/>
              <a:ext cx="219204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w Cen MT"/>
                </a:rPr>
                <a:t>Кредиты кредитных организаций и бюджетные кредит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2" name="Прямоугольник с двумя скругленными противолежащими углами 17"/>
          <p:cNvGrpSpPr/>
          <p:nvPr/>
        </p:nvGrpSpPr>
        <p:grpSpPr>
          <a:xfrm>
            <a:off x="3780000" y="3786120"/>
            <a:ext cx="2309760" cy="2176560"/>
            <a:chOff x="3780000" y="3786120"/>
            <a:chExt cx="2309760" cy="2176560"/>
          </a:xfrm>
        </p:grpSpPr>
        <p:pic>
          <p:nvPicPr>
            <p:cNvPr id="4783" name="Прямоугольник с двумя скругленными противолежащими углами 17" descr=""/>
            <p:cNvPicPr/>
            <p:nvPr/>
          </p:nvPicPr>
          <p:blipFill>
            <a:blip r:embed="rId6"/>
            <a:stretch/>
          </p:blipFill>
          <p:spPr>
            <a:xfrm>
              <a:off x="3780000" y="3786120"/>
              <a:ext cx="230976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4" name=""/>
            <p:cNvSpPr/>
            <p:nvPr/>
          </p:nvSpPr>
          <p:spPr>
            <a:xfrm>
              <a:off x="3892680" y="3897360"/>
              <a:ext cx="207936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w Cen MT"/>
                </a:rPr>
                <a:t>Изменение остатков средст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Прямоугольник с двумя скругленными противолежащими углами 18"/>
          <p:cNvGrpSpPr/>
          <p:nvPr/>
        </p:nvGrpSpPr>
        <p:grpSpPr>
          <a:xfrm>
            <a:off x="6724800" y="2236680"/>
            <a:ext cx="2303280" cy="2176560"/>
            <a:chOff x="6724800" y="2236680"/>
            <a:chExt cx="2303280" cy="2176560"/>
          </a:xfrm>
        </p:grpSpPr>
        <p:pic>
          <p:nvPicPr>
            <p:cNvPr id="4786" name="Прямоугольник с двумя скругленными противолежащими углами 18" descr=""/>
            <p:cNvPicPr/>
            <p:nvPr/>
          </p:nvPicPr>
          <p:blipFill>
            <a:blip r:embed="rId7"/>
            <a:stretch/>
          </p:blipFill>
          <p:spPr>
            <a:xfrm>
              <a:off x="6724800" y="2236680"/>
              <a:ext cx="2303280" cy="21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7" name=""/>
            <p:cNvSpPr/>
            <p:nvPr/>
          </p:nvSpPr>
          <p:spPr>
            <a:xfrm>
              <a:off x="6832440" y="2347920"/>
              <a:ext cx="2081520" cy="19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w Cen MT"/>
                </a:rPr>
                <a:t>Источники ВСЕГ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8" name="Rectangle 2"/>
          <p:cNvSpPr/>
          <p:nvPr/>
        </p:nvSpPr>
        <p:spPr>
          <a:xfrm>
            <a:off x="324000" y="5975280"/>
            <a:ext cx="87166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800000"/>
                </a:solidFill>
                <a:latin typeface="Calibri"/>
                <a:ea typeface="Arial"/>
              </a:rPr>
              <a:t>2024-2025 годы планируется бездефицитный бюдже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9" name="Picture 6" descr="http://detsad-narish.ru/photo/111333333.jpg"/>
          <p:cNvPicPr/>
          <p:nvPr/>
        </p:nvPicPr>
        <p:blipFill>
          <a:blip r:embed="rId1"/>
          <a:stretch/>
        </p:blipFill>
        <p:spPr>
          <a:xfrm>
            <a:off x="179280" y="189000"/>
            <a:ext cx="896472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1" name="TextBox 2"/>
          <p:cNvGrpSpPr/>
          <p:nvPr/>
        </p:nvGrpSpPr>
        <p:grpSpPr>
          <a:xfrm>
            <a:off x="2451240" y="2919240"/>
            <a:ext cx="2151000" cy="3462480"/>
            <a:chOff x="2451240" y="2919240"/>
            <a:chExt cx="2151000" cy="3462480"/>
          </a:xfrm>
        </p:grpSpPr>
        <p:pic>
          <p:nvPicPr>
            <p:cNvPr id="4662" name="TextBox 2" descr=""/>
            <p:cNvPicPr/>
            <p:nvPr/>
          </p:nvPicPr>
          <p:blipFill>
            <a:blip r:embed="rId1"/>
            <a:stretch/>
          </p:blipFill>
          <p:spPr>
            <a:xfrm>
              <a:off x="2451240" y="2919240"/>
              <a:ext cx="215100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3" name=""/>
            <p:cNvSpPr/>
            <p:nvPr/>
          </p:nvSpPr>
          <p:spPr>
            <a:xfrm>
              <a:off x="2519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TextBox 3"/>
          <p:cNvGrpSpPr/>
          <p:nvPr/>
        </p:nvGrpSpPr>
        <p:grpSpPr>
          <a:xfrm>
            <a:off x="4687920" y="2919240"/>
            <a:ext cx="2146320" cy="3462480"/>
            <a:chOff x="4687920" y="2919240"/>
            <a:chExt cx="2146320" cy="3462480"/>
          </a:xfrm>
        </p:grpSpPr>
        <p:pic>
          <p:nvPicPr>
            <p:cNvPr id="4665" name="TextBox 3" descr=""/>
            <p:cNvPicPr/>
            <p:nvPr/>
          </p:nvPicPr>
          <p:blipFill>
            <a:blip r:embed="rId2"/>
            <a:stretch/>
          </p:blipFill>
          <p:spPr>
            <a:xfrm>
              <a:off x="4687920" y="2919240"/>
              <a:ext cx="214632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6" name=""/>
            <p:cNvSpPr/>
            <p:nvPr/>
          </p:nvSpPr>
          <p:spPr>
            <a:xfrm>
              <a:off x="4751280" y="2960640"/>
              <a:ext cx="201636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7" name="TextBox 4"/>
          <p:cNvGrpSpPr/>
          <p:nvPr/>
        </p:nvGrpSpPr>
        <p:grpSpPr>
          <a:xfrm>
            <a:off x="6918480" y="2919240"/>
            <a:ext cx="2079360" cy="3462480"/>
            <a:chOff x="6918480" y="2919240"/>
            <a:chExt cx="2079360" cy="3462480"/>
          </a:xfrm>
        </p:grpSpPr>
        <p:pic>
          <p:nvPicPr>
            <p:cNvPr id="4668" name="TextBox 4" descr=""/>
            <p:cNvPicPr/>
            <p:nvPr/>
          </p:nvPicPr>
          <p:blipFill>
            <a:blip r:embed="rId3"/>
            <a:stretch/>
          </p:blipFill>
          <p:spPr>
            <a:xfrm>
              <a:off x="6918480" y="2919240"/>
              <a:ext cx="2079360" cy="346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9" name=""/>
            <p:cNvSpPr/>
            <p:nvPr/>
          </p:nvSpPr>
          <p:spPr>
            <a:xfrm>
              <a:off x="6985080" y="2960640"/>
              <a:ext cx="194292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0" name="TextBox 5"/>
          <p:cNvGrpSpPr/>
          <p:nvPr/>
        </p:nvGrpSpPr>
        <p:grpSpPr>
          <a:xfrm>
            <a:off x="407880" y="2981160"/>
            <a:ext cx="1914480" cy="3370320"/>
            <a:chOff x="407880" y="2981160"/>
            <a:chExt cx="1914480" cy="3370320"/>
          </a:xfrm>
        </p:grpSpPr>
        <p:pic>
          <p:nvPicPr>
            <p:cNvPr id="4671" name="TextBox 5" descr=""/>
            <p:cNvPicPr/>
            <p:nvPr/>
          </p:nvPicPr>
          <p:blipFill>
            <a:blip r:embed="rId4"/>
            <a:stretch/>
          </p:blipFill>
          <p:spPr>
            <a:xfrm>
              <a:off x="407880" y="2981160"/>
              <a:ext cx="1914480" cy="33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2" name=""/>
            <p:cNvSpPr/>
            <p:nvPr/>
          </p:nvSpPr>
          <p:spPr>
            <a:xfrm>
              <a:off x="428760" y="3000240"/>
              <a:ext cx="187164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3" name="Скругленный прямоугольник 7"/>
          <p:cNvGrpSpPr/>
          <p:nvPr/>
        </p:nvGrpSpPr>
        <p:grpSpPr>
          <a:xfrm>
            <a:off x="633240" y="993600"/>
            <a:ext cx="7662960" cy="1511640"/>
            <a:chOff x="633240" y="993600"/>
            <a:chExt cx="7662960" cy="1511640"/>
          </a:xfrm>
        </p:grpSpPr>
        <p:pic>
          <p:nvPicPr>
            <p:cNvPr id="4674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633240" y="993600"/>
              <a:ext cx="7662960" cy="15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5" name=""/>
            <p:cNvSpPr/>
            <p:nvPr/>
          </p:nvSpPr>
          <p:spPr>
            <a:xfrm>
              <a:off x="801720" y="1135080"/>
              <a:ext cx="732456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Составление проекта бюджета Уржумского муниципального района основывается н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6" name="TextBox 8"/>
          <p:cNvSpPr/>
          <p:nvPr/>
        </p:nvSpPr>
        <p:spPr>
          <a:xfrm>
            <a:off x="431640" y="4437000"/>
            <a:ext cx="18720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Закона о бюджете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TextBox 9"/>
          <p:cNvSpPr/>
          <p:nvPr/>
        </p:nvSpPr>
        <p:spPr>
          <a:xfrm>
            <a:off x="2519280" y="4437000"/>
            <a:ext cx="201780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о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овой поли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TextBox 10"/>
          <p:cNvSpPr/>
          <p:nvPr/>
        </p:nvSpPr>
        <p:spPr>
          <a:xfrm>
            <a:off x="4786200" y="4286160"/>
            <a:ext cx="19465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социально-экономического развития Уржум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TextBox 11"/>
          <p:cNvSpPr/>
          <p:nvPr/>
        </p:nvSpPr>
        <p:spPr>
          <a:xfrm>
            <a:off x="6912000" y="4437000"/>
            <a:ext cx="205272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ые программы Уржумского муниципальн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0" name="Заголовок 1" descr=""/>
          <p:cNvPicPr/>
          <p:nvPr/>
        </p:nvPicPr>
        <p:blipFill>
          <a:blip r:embed="rId6"/>
          <a:stretch/>
        </p:blipFill>
        <p:spPr>
          <a:xfrm>
            <a:off x="901800" y="-66600"/>
            <a:ext cx="7224480" cy="1011240"/>
          </a:xfrm>
          <a:prstGeom prst="rect">
            <a:avLst/>
          </a:prstGeom>
          <a:ln w="0">
            <a:noFill/>
          </a:ln>
        </p:spPr>
      </p:pic>
      <p:sp>
        <p:nvSpPr>
          <p:cNvPr id="4681" name="Заголовок 1"/>
          <p:cNvSpPr/>
          <p:nvPr/>
        </p:nvSpPr>
        <p:spPr>
          <a:xfrm>
            <a:off x="1079640" y="3105000"/>
            <a:ext cx="747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Заголовок 1"/>
          <p:cNvSpPr/>
          <p:nvPr/>
        </p:nvSpPr>
        <p:spPr>
          <a:xfrm>
            <a:off x="3276720" y="3141720"/>
            <a:ext cx="792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Заголовок 1"/>
          <p:cNvSpPr/>
          <p:nvPr/>
        </p:nvSpPr>
        <p:spPr>
          <a:xfrm>
            <a:off x="5435640" y="3141720"/>
            <a:ext cx="792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Заголовок 1"/>
          <p:cNvSpPr/>
          <p:nvPr/>
        </p:nvSpPr>
        <p:spPr>
          <a:xfrm>
            <a:off x="7524720" y="3141720"/>
            <a:ext cx="792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5" name="Заголовок 1"/>
          <p:cNvSpPr/>
          <p:nvPr/>
        </p:nvSpPr>
        <p:spPr>
          <a:xfrm>
            <a:off x="324000" y="5049720"/>
            <a:ext cx="20872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Заголовок 1"/>
          <p:cNvSpPr/>
          <p:nvPr/>
        </p:nvSpPr>
        <p:spPr>
          <a:xfrm>
            <a:off x="6084720" y="4581360"/>
            <a:ext cx="13986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Заголовок 1"/>
          <p:cNvSpPr/>
          <p:nvPr/>
        </p:nvSpPr>
        <p:spPr>
          <a:xfrm>
            <a:off x="7812000" y="3141720"/>
            <a:ext cx="1332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Заголовок 1"/>
          <p:cNvSpPr/>
          <p:nvPr/>
        </p:nvSpPr>
        <p:spPr>
          <a:xfrm>
            <a:off x="5688000" y="4149720"/>
            <a:ext cx="230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Заголовок 1"/>
          <p:cNvSpPr/>
          <p:nvPr/>
        </p:nvSpPr>
        <p:spPr>
          <a:xfrm>
            <a:off x="7056360" y="3716280"/>
            <a:ext cx="2232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Заголовок 1"/>
          <p:cNvSpPr/>
          <p:nvPr/>
        </p:nvSpPr>
        <p:spPr>
          <a:xfrm>
            <a:off x="6659640" y="5121360"/>
            <a:ext cx="2089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Заголовок 1"/>
          <p:cNvSpPr/>
          <p:nvPr/>
        </p:nvSpPr>
        <p:spPr>
          <a:xfrm>
            <a:off x="647640" y="907920"/>
            <a:ext cx="1548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2" name="Заголовок 4" descr=""/>
          <p:cNvPicPr/>
          <p:nvPr/>
        </p:nvPicPr>
        <p:blipFill>
          <a:blip r:embed="rId1"/>
          <a:stretch/>
        </p:blipFill>
        <p:spPr>
          <a:xfrm>
            <a:off x="0" y="-152280"/>
            <a:ext cx="8931240" cy="1414440"/>
          </a:xfrm>
          <a:prstGeom prst="rect">
            <a:avLst/>
          </a:prstGeom>
          <a:ln w="0">
            <a:noFill/>
          </a:ln>
        </p:spPr>
      </p:pic>
      <p:pic>
        <p:nvPicPr>
          <p:cNvPr id="4693" name="Picture 18" descr="http://gallery.ykt.ru/galleries/consumer/2015/08/21/1886583_0.jpg"/>
          <p:cNvPicPr/>
          <p:nvPr/>
        </p:nvPicPr>
        <p:blipFill>
          <a:blip r:embed="rId2"/>
          <a:stretch/>
        </p:blipFill>
        <p:spPr>
          <a:xfrm>
            <a:off x="171360" y="5041800"/>
            <a:ext cx="8756640" cy="1649520"/>
          </a:xfrm>
          <a:prstGeom prst="rect">
            <a:avLst/>
          </a:prstGeom>
          <a:ln w="0">
            <a:noFill/>
          </a:ln>
        </p:spPr>
      </p:pic>
      <p:pic>
        <p:nvPicPr>
          <p:cNvPr id="4694" name="Picture 20" descr="http://s0.bloknot-volzhsky.ru/thumb/830x0xcut/upload/iblock/889/byudzhet.jpg"/>
          <p:cNvPicPr/>
          <p:nvPr/>
        </p:nvPicPr>
        <p:blipFill>
          <a:blip r:embed="rId3"/>
          <a:stretch/>
        </p:blipFill>
        <p:spPr>
          <a:xfrm>
            <a:off x="108000" y="1052640"/>
            <a:ext cx="8772480" cy="1662120"/>
          </a:xfrm>
          <a:prstGeom prst="rect">
            <a:avLst/>
          </a:prstGeom>
          <a:ln w="0">
            <a:noFill/>
          </a:ln>
        </p:spPr>
      </p:pic>
      <p:pic>
        <p:nvPicPr>
          <p:cNvPr id="4695" name="Схема 18" descr=""/>
          <p:cNvPicPr/>
          <p:nvPr/>
        </p:nvPicPr>
        <p:blipFill>
          <a:blip r:embed="rId4"/>
          <a:stretch/>
        </p:blipFill>
        <p:spPr>
          <a:xfrm>
            <a:off x="0" y="1122480"/>
            <a:ext cx="8961480" cy="55465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60033"/>
                </a:solidFill>
                <a:latin typeface="Arial Black"/>
              </a:rPr>
              <a:t>СТРУКТУРА ДОХОДОВ БЮДЖЕТА УРЖУМСКОГО МУНИЦИПАЛЬНОГО РАЙОНА В 2023-2025</a:t>
            </a:r>
            <a:br>
              <a:rPr sz="2300"/>
            </a:br>
            <a:r>
              <a:rPr b="0" lang="ru-RU" sz="2300" spc="-1" strike="noStrike">
                <a:solidFill>
                  <a:srgbClr val="660033"/>
                </a:solidFill>
                <a:latin typeface="Arial Black"/>
              </a:rPr>
              <a:t> ГОДАХ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7" name="Содержимое 5"/>
          <p:cNvSpPr/>
          <p:nvPr/>
        </p:nvSpPr>
        <p:spPr>
          <a:xfrm>
            <a:off x="7572240" y="1417680"/>
            <a:ext cx="1571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98" name="Содержимое 11"/>
          <p:cNvGraphicFramePr/>
          <p:nvPr/>
        </p:nvGraphicFramePr>
        <p:xfrm>
          <a:off x="96840" y="1700280"/>
          <a:ext cx="2825640" cy="434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99" name="Содержимое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" y="1700280"/>
                    <a:ext cx="2825640" cy="43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0" name="Object 6"/>
          <p:cNvGraphicFramePr/>
          <p:nvPr/>
        </p:nvGraphicFramePr>
        <p:xfrm>
          <a:off x="5651640" y="1125360"/>
          <a:ext cx="3636720" cy="4104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70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125360"/>
                    <a:ext cx="363672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2" name="Object 4"/>
          <p:cNvGraphicFramePr/>
          <p:nvPr/>
        </p:nvGraphicFramePr>
        <p:xfrm>
          <a:off x="2556000" y="1125360"/>
          <a:ext cx="3736800" cy="413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0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1125360"/>
                    <a:ext cx="3736800" cy="41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11120" y="2869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 Black"/>
              </a:rPr>
              <a:t>ПРОГНОЗ НАЛОГОВЫХ ДОХОДОВ БЮДЖЕТА РАЙОНА НА 2023 ГОД, МЛН.РУБЛЕЙ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05" name="Содержимое 3"/>
          <p:cNvGraphicFramePr/>
          <p:nvPr/>
        </p:nvGraphicFramePr>
        <p:xfrm>
          <a:off x="0" y="2428920"/>
          <a:ext cx="9072720" cy="41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06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28920"/>
                    <a:ext cx="907272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07" name="Группа 6" descr=""/>
          <p:cNvPicPr/>
          <p:nvPr/>
        </p:nvPicPr>
        <p:blipFill>
          <a:blip r:embed="rId3"/>
          <a:stretch/>
        </p:blipFill>
        <p:spPr>
          <a:xfrm>
            <a:off x="1249200" y="1596960"/>
            <a:ext cx="421344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83f05"/>
                </a:solidFill>
                <a:latin typeface="Arial Black"/>
              </a:rPr>
              <a:t>ДИНАМИКА ОСНОВНЫХ НАЛОГОВЫХ ДОХОДОВ В 2022-2023 ГОДАХ, МЛН. РУБЛЕЙ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09" name="Объект 6"/>
          <p:cNvGraphicFramePr/>
          <p:nvPr/>
        </p:nvGraphicFramePr>
        <p:xfrm>
          <a:off x="225360" y="1260360"/>
          <a:ext cx="8907480" cy="532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0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1260360"/>
                    <a:ext cx="890748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 Black"/>
              </a:rPr>
              <a:t>ПРОГНОЗ НЕНАЛОГОВЫХ ДОХОДОВ БЮДЖЕТА РАЙОНА НА 2023 ГОД, МЛН.РУБЛЕЙ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12" name="Содержимое 3"/>
          <p:cNvGraphicFramePr/>
          <p:nvPr/>
        </p:nvGraphicFramePr>
        <p:xfrm>
          <a:off x="82440" y="2211480"/>
          <a:ext cx="9167760" cy="43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2211480"/>
                    <a:ext cx="916776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14" name="Группа 6" descr=""/>
          <p:cNvPicPr/>
          <p:nvPr/>
        </p:nvPicPr>
        <p:blipFill>
          <a:blip r:embed="rId3"/>
          <a:stretch/>
        </p:blipFill>
        <p:spPr>
          <a:xfrm>
            <a:off x="749160" y="1663560"/>
            <a:ext cx="4213440" cy="133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800000"/>
                </a:solidFill>
                <a:latin typeface="Arial Black"/>
              </a:rPr>
              <a:t>ПРОГНОЗ СОБСТВЕННЫХ ДОХОДОВ БЮДЖЕТА РАЙОНА НА 2023 ГОД, МЛН.РУБЛЕЙ</a:t>
            </a:r>
            <a:br>
              <a:rPr sz="3200"/>
            </a:b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4716" name="Содержимое 3"/>
          <p:cNvGraphicFramePr/>
          <p:nvPr/>
        </p:nvGraphicFramePr>
        <p:xfrm>
          <a:off x="641520" y="2644920"/>
          <a:ext cx="8359560" cy="375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644920"/>
                    <a:ext cx="835956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18" name="Группа 6"/>
          <p:cNvGrpSpPr/>
          <p:nvPr/>
        </p:nvGrpSpPr>
        <p:grpSpPr>
          <a:xfrm>
            <a:off x="755640" y="1660680"/>
            <a:ext cx="3816360" cy="1214280"/>
            <a:chOff x="755640" y="1660680"/>
            <a:chExt cx="3816360" cy="1214280"/>
          </a:xfrm>
        </p:grpSpPr>
        <p:sp>
          <p:nvSpPr>
            <p:cNvPr id="4719" name="Полилиния 5"/>
            <p:cNvSpPr/>
            <p:nvPr/>
          </p:nvSpPr>
          <p:spPr>
            <a:xfrm>
              <a:off x="1581120" y="1660680"/>
              <a:ext cx="2990880" cy="1214280"/>
            </a:xfrm>
            <a:prstGeom prst="pie">
              <a:avLst/>
            </a:prstGeom>
            <a:gradFill rotWithShape="0">
              <a:gsLst>
                <a:gs pos="0">
                  <a:srgbClr val="76529a"/>
                </a:gs>
                <a:gs pos="100000">
                  <a:srgbClr val="cc91ff"/>
                </a:gs>
              </a:gsLst>
              <a:lin ang="0"/>
            </a:gradFill>
            <a:ln w="9360">
              <a:solidFill>
                <a:srgbClr val="a3b2c6">
                  <a:alpha val="90000"/>
                </a:srgbClr>
              </a:solidFill>
              <a:miter/>
            </a:ln>
            <a:effectLst>
              <a:outerShdw dist="12600" dir="5400000" blurRad="0" rotWithShape="0">
                <a:srgbClr val="000000">
                  <a:alpha val="2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29480" rIns="429840" tIns="214920" bIns="214920" anchor="ctr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Tw Cen MT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300"/>
                </a:spcAft>
                <a:buClr>
                  <a:srgbClr val="ffffff"/>
                </a:buClr>
                <a:buFont typeface="Arial Black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  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+2,1 млн. руб.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0" name="Полилиния 6"/>
            <p:cNvGrpSpPr/>
            <p:nvPr/>
          </p:nvGrpSpPr>
          <p:grpSpPr>
            <a:xfrm>
              <a:off x="755640" y="1798200"/>
              <a:ext cx="1487160" cy="987480"/>
              <a:chOff x="755640" y="1798200"/>
              <a:chExt cx="1487160" cy="987480"/>
            </a:xfrm>
          </p:grpSpPr>
          <p:pic>
            <p:nvPicPr>
              <p:cNvPr id="4721" name="Полилиния 6" descr=""/>
              <p:cNvPicPr/>
              <p:nvPr/>
            </p:nvPicPr>
            <p:blipFill>
              <a:blip r:embed="rId3"/>
              <a:stretch/>
            </p:blipFill>
            <p:spPr>
              <a:xfrm>
                <a:off x="755640" y="1798200"/>
                <a:ext cx="1487160" cy="98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2" name=""/>
              <p:cNvSpPr/>
              <p:nvPr/>
            </p:nvSpPr>
            <p:spPr>
              <a:xfrm>
                <a:off x="833040" y="1854720"/>
                <a:ext cx="1330200" cy="82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200" rIns="124200" tIns="124200" bIns="1242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 Black"/>
                  </a:rPr>
                  <a:t>+1,4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3" name="Заголовок 1" descr=""/>
          <p:cNvPicPr/>
          <p:nvPr/>
        </p:nvPicPr>
        <p:blipFill>
          <a:blip r:embed="rId1"/>
          <a:stretch/>
        </p:blipFill>
        <p:spPr>
          <a:xfrm>
            <a:off x="285840" y="103320"/>
            <a:ext cx="885816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24" name="Содержимое 5"/>
          <p:cNvGraphicFramePr/>
          <p:nvPr/>
        </p:nvGraphicFramePr>
        <p:xfrm>
          <a:off x="703440" y="2421000"/>
          <a:ext cx="7829280" cy="410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725" name="Содержимое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440" y="2421000"/>
                    <a:ext cx="78292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26" name="Группа 6"/>
          <p:cNvGrpSpPr/>
          <p:nvPr/>
        </p:nvGrpSpPr>
        <p:grpSpPr>
          <a:xfrm>
            <a:off x="2484360" y="1341360"/>
            <a:ext cx="4862520" cy="1152720"/>
            <a:chOff x="2484360" y="1341360"/>
            <a:chExt cx="4862520" cy="1152720"/>
          </a:xfrm>
        </p:grpSpPr>
        <p:sp>
          <p:nvSpPr>
            <p:cNvPr id="4727" name="Полилиния 9"/>
            <p:cNvSpPr/>
            <p:nvPr/>
          </p:nvSpPr>
          <p:spPr>
            <a:xfrm>
              <a:off x="3775680" y="1341360"/>
              <a:ext cx="3571200" cy="1152720"/>
            </a:xfrm>
            <a:prstGeom prst="pie">
              <a:avLst/>
            </a:prstGeom>
            <a:gradFill rotWithShape="0">
              <a:gsLst>
                <a:gs pos="0">
                  <a:srgbClr val="76529a"/>
                </a:gs>
                <a:gs pos="100000">
                  <a:srgbClr val="cc91ff"/>
                </a:gs>
              </a:gsLst>
              <a:lin ang="0"/>
            </a:gradFill>
            <a:ln w="9360">
              <a:solidFill>
                <a:srgbClr val="a3b2c6">
                  <a:alpha val="90000"/>
                </a:srgbClr>
              </a:solidFill>
              <a:miter/>
            </a:ln>
            <a:effectLst>
              <a:outerShdw dist="12600" dir="5400000" blurRad="0" rotWithShape="0">
                <a:srgbClr val="000000">
                  <a:alpha val="2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29480" rIns="429840" tIns="214920" bIns="214920" anchor="ctr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buClr>
                  <a:srgbClr val="000000"/>
                </a:buClr>
                <a:buFont typeface="Tw Cen MT"/>
                <a:buChar char="•"/>
                <a:tabLst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75"/>
                </a:spcAft>
                <a:tabLst>
                  <a:tab algn="l" pos="0"/>
                  <a:tab algn="l" pos="666720"/>
                  <a:tab algn="l" pos="1333440"/>
                  <a:tab algn="l" pos="2000160"/>
                  <a:tab algn="l" pos="2666880"/>
                  <a:tab algn="l" pos="3333600"/>
                  <a:tab algn="l" pos="4000680"/>
                  <a:tab algn="l" pos="4667400"/>
                  <a:tab algn="l" pos="5334120"/>
                  <a:tab algn="l" pos="6000840"/>
                  <a:tab algn="l" pos="6667560"/>
                  <a:tab algn="l" pos="7334280"/>
                  <a:tab algn="l" pos="8001000"/>
                  <a:tab algn="l" pos="8667720"/>
                  <a:tab algn="l" pos="9334440"/>
                  <a:tab algn="l" pos="10001160"/>
                  <a:tab algn="l" pos="1066788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-24</a:t>
              </a:r>
              <a:r>
                <a:rPr b="1" lang="en-US" sz="15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8</a:t>
              </a:r>
              <a:r>
                <a:rPr b="0" lang="en-US" sz="15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,4 млн.руб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28" name="Полилиния 10"/>
            <p:cNvGrpSpPr/>
            <p:nvPr/>
          </p:nvGrpSpPr>
          <p:grpSpPr>
            <a:xfrm>
              <a:off x="2484360" y="1517760"/>
              <a:ext cx="1644480" cy="865800"/>
              <a:chOff x="2484360" y="1517760"/>
              <a:chExt cx="1644480" cy="865800"/>
            </a:xfrm>
          </p:grpSpPr>
          <p:pic>
            <p:nvPicPr>
              <p:cNvPr id="4729" name="Полилиния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484360" y="1517760"/>
                <a:ext cx="1644480" cy="86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0" name=""/>
              <p:cNvSpPr/>
              <p:nvPr/>
            </p:nvSpPr>
            <p:spPr>
              <a:xfrm>
                <a:off x="2559600" y="1571400"/>
                <a:ext cx="1491480" cy="70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4200" rIns="124200" tIns="124200" bIns="1242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666720"/>
                    <a:tab algn="l" pos="1333440"/>
                    <a:tab algn="l" pos="2000160"/>
                    <a:tab algn="l" pos="2666880"/>
                    <a:tab algn="l" pos="3333600"/>
                    <a:tab algn="l" pos="4000680"/>
                    <a:tab algn="l" pos="4667400"/>
                    <a:tab algn="l" pos="5334120"/>
                    <a:tab algn="l" pos="6000840"/>
                    <a:tab algn="l" pos="6667560"/>
                    <a:tab algn="l" pos="7334280"/>
                    <a:tab algn="l" pos="8001000"/>
                    <a:tab algn="l" pos="8667720"/>
                    <a:tab algn="l" pos="9334440"/>
                    <a:tab algn="l" pos="10001160"/>
                    <a:tab algn="l" pos="1066788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 Black"/>
                  </a:rPr>
                  <a:t>-34,1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9:52:27Z</dcterms:created>
  <dc:creator>Шишкин Алексей Александрович</dc:creator>
  <dc:description/>
  <dc:language>en-US</dc:language>
  <cp:lastModifiedBy>Budget-11</cp:lastModifiedBy>
  <cp:lastPrinted>2021-12-07T11:38:59Z</cp:lastPrinted>
  <dcterms:modified xsi:type="dcterms:W3CDTF">2022-12-06T13:33:31Z</dcterms:modified>
  <cp:revision>2044</cp:revision>
  <dc:subject/>
  <dc:title>Слайд 1</dc:title>
</cp:coreProperties>
</file>